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9B9-FD2B-4795-BF0F-F8394361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FA3-3228-4C39-96CA-7F078E7C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05D-5183-4DA6-9288-851E23F8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C29-D645-426B-A223-BCD6B119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884-804D-454A-AC3A-108F385B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7C1-C0F4-4759-81D0-A922107E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491-4357-4112-88BD-19C06409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376-62A2-497A-A231-3868D82A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5DD-98EA-4F81-899A-D8036DB6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7C5-97D8-41F8-9D1E-49838561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6C4-EC43-4353-8C23-3D8436D3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118-BE09-476E-8F23-E0BCB9B3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3D42-91B1-48AC-B965-E5162815C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o paruošimas anestezij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žiūr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a – vertinamas kvėpavimo dažnis, krūtinės ląstos deformacijos, emfizema, kvėpavimo raumenų darbas, cianozė veide ir lūpose. Auskultuojant nustatomi kvėpavimo garsai, jų pobūdis ir viet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sistema – vertinamas pulsas, gleivinių spalva, edemos, širdies užesiai, aritmijos, AKS, periferinių venų būklė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– sąmonė, psichoemocinė būklė, centrinės parezės ar paralyžiai, periferinės neuropatijo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tak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ižiojimas – per 3 pirštų plo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tų būklė – paradontozė, protezuoti dantys, plokštelė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andim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žuvio dydis ir paslanku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baciją gali apsunkinti: trumpas storas kaklas, prognatija (mažas apatinis žandikaulis), protruzija (atsikišę ilgi kandžiai), kaklinių stuburo slankstelių nepaslankumas, didelis žandikaulio nepaslankumas, apatinio žandikaulio lūžis, parafaringiniai pulynai, viršutinio žandikaulio lūžiai, didelis liežuvis, didelė strum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bacijos eigą galima prognozuot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lamp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sifikaci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ligonis sodinamas ir paprašomas išsižioti ir kiek gali iškišti liežuvį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tatant smakro – skydinės kremzlės atstumą. Atlošus galvą, matuojamas atstumas nuo apatinio žandikaulio k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vidurinės linijos ir skydinės kremzlės vidurinėje kaklo linijoje. Jei jis mažesnis 7 cm, gali būti sunki intubacij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allampatti klas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ė – matyti žiočių lankai, minkštasis gomurys, liežuvėl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lasė – matyti žiočių lankai ir minkštasis gomurys; liežuvėlį slepia liežuvio šakn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klasė – matyti tik žiočių lankai. Intubacija gali būti sunk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V klasė – viską dengia liežuvio šaknis. Intubacija laringoskopo kontrolėje praktiškai neįmano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78168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niai tyr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škai sveikų žmonių privalomas ikioperacinis ištyr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43000" y="2133720"/>
            <a:ext cx="7391160" cy="4481280"/>
            <a:chOff x="1143000" y="2133720"/>
            <a:chExt cx="7391160" cy="4481280"/>
          </a:xfrm>
        </p:grpSpPr>
        <p:grpSp>
          <p:nvGrpSpPr>
            <p:cNvPr id="70" name=""/>
            <p:cNvGrpSpPr/>
            <p:nvPr/>
          </p:nvGrpSpPr>
          <p:grpSpPr>
            <a:xfrm>
              <a:off x="1148760" y="2138400"/>
              <a:ext cx="7378200" cy="4471920"/>
              <a:chOff x="1148760" y="2138400"/>
              <a:chExt cx="7378200" cy="447192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1148760" y="2138400"/>
                <a:ext cx="2459160" cy="655560"/>
                <a:chOff x="1148760" y="2138400"/>
                <a:chExt cx="2459160" cy="6555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235160" y="2138400"/>
                  <a:ext cx="228564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žiu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148760" y="2138400"/>
                  <a:ext cx="245916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608640" y="2138400"/>
                <a:ext cx="2458800" cy="655560"/>
                <a:chOff x="3608640" y="2138400"/>
                <a:chExt cx="2458800" cy="6555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694680" y="2138400"/>
                  <a:ext cx="22863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yt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08640" y="2138400"/>
                  <a:ext cx="245880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6067800" y="2138400"/>
                <a:ext cx="2459160" cy="655560"/>
                <a:chOff x="6067800" y="2138400"/>
                <a:chExt cx="2459160" cy="6555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154200" y="2138400"/>
                  <a:ext cx="228564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yrim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067800" y="2138400"/>
                  <a:ext cx="245916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148760" y="2793960"/>
                <a:ext cx="2459160" cy="946080"/>
                <a:chOff x="1148760" y="2793960"/>
                <a:chExt cx="2459160" cy="9460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235160" y="2793960"/>
                  <a:ext cx="22856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lt;4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148760" y="2793960"/>
                  <a:ext cx="245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608640" y="2793960"/>
                <a:ext cx="2458800" cy="946080"/>
                <a:chOff x="3608640" y="2793960"/>
                <a:chExt cx="2458800" cy="946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694680" y="2793960"/>
                  <a:ext cx="22863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ra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tery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608640" y="2793960"/>
                  <a:ext cx="24588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6067800" y="2793960"/>
                <a:ext cx="2459160" cy="946080"/>
                <a:chOff x="6067800" y="2793960"/>
                <a:chExt cx="2459160" cy="946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154200" y="2793960"/>
                  <a:ext cx="22856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okių tyrim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067800" y="2793960"/>
                  <a:ext cx="245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148760" y="3740040"/>
                <a:ext cx="2459160" cy="1679760"/>
                <a:chOff x="1148760" y="3740040"/>
                <a:chExt cx="2459160" cy="16797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235160" y="3740040"/>
                  <a:ext cx="228564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-6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148760" y="3740040"/>
                  <a:ext cx="245916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608640" y="3740040"/>
                <a:ext cx="2458800" cy="1679760"/>
                <a:chOff x="3608640" y="3740040"/>
                <a:chExt cx="2458800" cy="16797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694680" y="3740040"/>
                  <a:ext cx="228636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r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tery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608640" y="3740040"/>
                  <a:ext cx="245880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067800" y="3740040"/>
                <a:ext cx="2459160" cy="1679760"/>
                <a:chOff x="6067800" y="3740040"/>
                <a:chExt cx="2459160" cy="1679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154200" y="3740040"/>
                  <a:ext cx="228564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KG, glikemija, kreatininas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, EKG, glikemija, kreatin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067800" y="3740040"/>
                  <a:ext cx="245916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148760" y="5419800"/>
                <a:ext cx="2459160" cy="1190520"/>
                <a:chOff x="1148760" y="5419800"/>
                <a:chExt cx="2459160" cy="11905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235160" y="5419800"/>
                  <a:ext cx="228564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gt;6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148760" y="5419800"/>
                  <a:ext cx="245916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608640" y="5419800"/>
                <a:ext cx="2458800" cy="1190520"/>
                <a:chOff x="3608640" y="5419800"/>
                <a:chExt cx="2458800" cy="1190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694680" y="5419800"/>
                  <a:ext cx="228636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608640" y="5419800"/>
                  <a:ext cx="24588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067800" y="5419800"/>
                <a:ext cx="2459160" cy="1190520"/>
                <a:chOff x="6067800" y="5419800"/>
                <a:chExt cx="2459160" cy="11905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154200" y="5419800"/>
                  <a:ext cx="228564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, EKG, Glikemija, kreatin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067800" y="5419800"/>
                  <a:ext cx="245916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" name=""/>
            <p:cNvSpPr/>
            <p:nvPr/>
          </p:nvSpPr>
          <p:spPr>
            <a:xfrm>
              <a:off x="1143000" y="2133720"/>
              <a:ext cx="7391160" cy="4481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omas ištyrimas, priklausomai nuo kitų veiksni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lapalas ir elektroli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ojantiems digoksiną, diuretikus, steroid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iems diabetu, inkstų ligomis, vemiant, viduriuojan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enų funkcijos tyr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iems kepenų lig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k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astaz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omas ištyrimas, priklausomai nuo kitų veiksni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kemij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tik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oniai, turintys periferinių arterijų nepraeinamumą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ą laiką vartojus steroidus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čius hipertenziją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 širdies ligomi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ūtinės r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entgen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ar kvėpavimo sistemos liga anamnezėje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kologinė lig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š širdies ir plaučių operacij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rgę TB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ometrij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randa dusulys nedidelio fizinio krūvio metu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antiems LOP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ešumo rodikliai (SPA, INR APTT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jant antikoaguliantu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mnezėje yra polinkis kraujuo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ant kepenų ligomis ar esant gelt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A fizinės būklės vert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aktiškai sveiki žmonės. Patologinis procesas, dėl kurio ligonis operuojamas, yra vietinis ir nesukelia sisteminių sutrikimų. Pooperacinis mirtinguma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PM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 serga lengva arba vidutine sistemine liga, kuri nesukelia jokių funkcijos ribojimų, pvz. lėtinis bronchitas, vidutinis nutukimas, vyresnis amžius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 serga sunkia sistemine liga, sukeliančia funkcijos sutrikimų (nekoreguota hipertenzija, cukrinis disbetas su kraujagyslių komplikacijomis, stenokardija, persirgtas MI, LOPL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8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, sergantis sunkia sistemine liga, nuolat keliančia grėsmę gyvybei (širdies nepakankamumas, nestabili krūtinės angina, inkstų ar kepenų funkcijos nepakankamumas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irštantys ligoniai, kurie negali išgyventi 24 val. be operacijos. (plyšusi aortos aneurizma, PATE, sunki galvos trauma)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statyta smegenų mirtis, jų organai bus imami transplantacij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ubios operacijos pažyminos raid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ioperacinis parengim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mnezė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vusios anestezijos, jų eiga, komplikacijos, ponarkozinio periodo ypatumai: pykinimas, vėmimas, sunkus pabudimas, pooperacinė gelta, popunkcinis galvos skausma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amos ir buvusios lig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i operacijos būtina koreguoti šias patologin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kle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ysčių pusiausvyros sutrikimai. Dažnai pasitaiko netekus kraujo ir skysčių dėl nudegimų, vėmimo, viduriavimo, žarnų nepraeinamumo, peritonito, traumos. Požymiai: sausas liežuvis, tachikardija, blogas odos turgoras, oligurija, hipotenzija, mažas CVS. Lab. tyrimuose 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t ir Hb, kuomet yra dehidratacija ir 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ant kraujavimui. Koreguojama infuzoterapija, iki stabilizuojama hemodinamik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litų pusiausvyros sutrikimai. Pavojiga hipokalemija (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3.5mmol/l), nes galimos aritmijos. Korekcija – KCl infuz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ja. Planinė operacija nerekomenduojama, jei Hb&lt;100g/l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ams, persirgusiems MI, yra padidėjusi perioperacinio pakartotinio MI rizik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persirgusiems ligoniams planinę operaciją atlikti galima po 3 mėn (pageidautina – po 6 mėn)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nepakankamumas turi būti koreguotas prieš operacij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mijos, netrikdančios hemodinamikos, nėra kontraindikacija, tačiau jos turi būti koreguojamos, pvz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chiaritminis PV turi būti pervestas į normoaritmin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 turi būti koreguota iki 160-170/95 mmHg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t ūminėms kvėp. sistemos ligoms, bendrinė anestezija kontraindikuotin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PL serggančius ligonius būtin ruošti iki planinės operacijos, naudoja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t-L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metikus, gliukokortikoidus ir k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nė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– glikemiją koreguoti iki normos. Maksimali leidžiama glikemija prieš operaciją – 12 mmol/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ydliaukės ligos – funkcija koreguoja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ki eutireozės, kadangi operacinis stresas gali provokuoti tireotoksinę krizę pooperaciniame laikotarpyje bei aritmijas operacijos metu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enų ligos – persirgus hepatitu, operuoti rekomenduojama po 5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mėn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strinės operacij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nas skrandis – galimas vėmimas, regurgitacija indukcijos, anestezijos metu arba po jos. Prieš operaciją zonduoti skrandį storu zondu pašalinant turinį. Taikyti greitą nuoseklią indukciją, naudoj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ko manevrą. Esant pilnam skrandžiui, saugesnė yra regioninė anestez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volemija – koreguojama adekvačia infuzoterapija. Ruošiantis ekstrinėms operacijoms, būtina užtikrinti gerą veninį priėjimą. Keletas periferinių venų, užkateterizuotų storais intraveniniais kateteriais yra daug geriau už vieną centrinę ven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edikaci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iant operacijos, ligonį apima stresas, pasireiškianti įvairiai: nerimu, nemiga, euforija, apat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ichinis stresas sunkina operacinį stresą, provokuoja somatinius sutrikimus. Todėl keletą dienų iki operacijos būtina pradėti ligonį ruošti. Skiriami analgetikai, anksiolitikai, migdomieji, antihistamininiai preparat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akologinės premedikacijos tiksl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mės ir nerimo 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žniausiai vartojami benzodiazepinai. Suaugusiam 10-20mg diazepamo vakare per os arba 10-20mg i/m 45-9min prieš operaciją. Veikti pradeda po15-30 min išgėrus, po 2 min paskyrus i/v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aminimas (sedacija)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nzodiazepinai, barbitūratai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zija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iatai: morfinas, fentanilas, tramadolis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nezija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dazolamas 0.5mg/kg peroraliai, 3-5 mg i/m, 1-2.5 mg i/v, 0.2-0.3 mg/kg intranazaliai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ilių sekrecijos su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ropinas 0.5-1.0mg i/v ar i/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tacinio atsako 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mpatiniam aktyvumui mažinti - </a:t>
            </a:r>
            <a:r>
              <a:rPr b="0" lang="lt-L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drenoblokatoriai (atenololis, propranololis, metoprololis – peroraliai premedikacijai, esmololis – i/v operacijos metu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kinimo ir vėmimo profilaktik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etoklopramidas 5-20 mg, skiriant per os, i/m, i/v; droperidolis 2.5-7.5 mg i/m ar i/v; ondansetronas (Zofran®) 8-14 mg per os, 4 mg i/v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anžio turinio kiekio sumažinimas ir pH didinim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  Antacida – rekomenduotinas 0.3M Na citratas 30 m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   H</a:t>
            </a:r>
            <a:r>
              <a:rPr b="0" lang="lt-LT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lokatoriai: ranitidinas 50-100 mg per os, i/m, i/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eikio anestetikui sumažinima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lonidinas 5 μg/kg peroraliai sukelia sedaciją, sumažina anestetikų poreikį, sumažina simpatinės nervų sistemos atsaką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ginių reakcijų profilaktika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kardija: ar ji buvo, kas ją skatina, trukmė, priepuolį nutraukiantys vaistai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rgti miokardo infarktai, liekamieji reiškiniai po to. Planines operacija saugiausia atlikti p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jus 6mėn po persirgto 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no krūvio tolerancija. Vertinama pagal NYHA klasifikacij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ydoma arba netinkamai gydoma arterinė hipertenzija (diastolinis AKS nuolat yra &gt;110mmHg) didina anestezijos riziką, nes galimi AKS svyravimai, aritmijos, insultas, miokardo išemija. AKS iki operacijos vaistais būtina sureguliuoti iki 160-170/95mmHg rib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ai, nuolat vartojantys antikoaguliantus. Prieš operacij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go veikimo antikoaguliantai nutraukiami, 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kamas tik heparin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ė – normalus fizinis krūvis nesukelia nuovargio, oro trūkumo ar širdies plakimo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lasė – ramybės metu savijauta gera; tik sunkus fizinis krūvis sukelia nuovargį, oro trūkumą, širdies plakimą ar skausmą krūtin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klasė – vidutinis fizinis krūvis sukelia nuovargį, oro trūkumą, širdies plakimą ar skausmą krūtin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klasė – bet koks fizinis aktyvumas sukelia nemalonų pojūtį krūtinėje; pasireiškia dusuliu, tachikardija, stenokardija; požymiai išlieka ir ramyb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ulys ir skrepliav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sul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minė kvėpavimo takų infekcija (sloga, prikimęs balsas, skausmas gerklėj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ėtinė obstrukcinė plaučių li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cija į fizinį krūvį. Paciento prašoma atsakyti į šiuos klausimu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gali užlipti laiptais nesustodamas ir į kurį aukštą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gali nubėgti 20-30 metrų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mplės išvarža – padidėjęs regurgitacijos ir aspiracijos pavoj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matas – vartoja hormonus, yra anemiški, mažai judrū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betas – padidėjus IŠL rizika, inkstų funkcijos nepakankamumas, pooperacinė infekc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ų ir raumenų ligos – ribotas miorelaksantų naudojim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ėtinis inkstų funkcijos nepakankamumas – būdinga anemija, elektrolitų disbalansas, prailgėjęs vaistų išskyrim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lta – galimi krešumo sutrikimai, prailgėjęs medikamentų išskyrim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lepsija – anestetikai (metoheksitalis, enfluranas) gali skatinti traukuli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imyninė anamne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eldimos ligos (hemofilija, porfirija, miastenija, miotonij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iškios priežasties mirtis operacijos metu (g.b. piktybinė hipertermija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ginė anamne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entą būtina paklausti ar alergines reakcijas sukelia antibiotikai, vietiniai anestetikai, analgetika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iniai veiksni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ūkymas – su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s oksihemoglobino ir padidintas karboksihemoglobino kiekis; galima tachikardija, hipertenzija, miokardo išem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s – kepenų funkcijos sutrikimai, sutrikusi anestetikų tolerancija, delyras pooperaciniame period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ėštumas – pirmais mėnesiais anestezija ir operacija padidina savaiminio aborto riziką. Paskutiniais mėnesiais didesnė regurgitacijos ir aspiracijos rizik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07:19:31Z</dcterms:created>
  <dc:creator>Antanas</dc:creator>
  <dc:description/>
  <dc:language>en-US</dc:language>
  <cp:lastModifiedBy>Antanas</cp:lastModifiedBy>
  <dcterms:modified xsi:type="dcterms:W3CDTF">2004-01-21T07:37:05Z</dcterms:modified>
  <cp:revision>1</cp:revision>
  <dc:subject/>
  <dc:title>Ligonio paruošimas anestezijai</dc:title>
</cp:coreProperties>
</file>