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8.wmf" ContentType="image/x-wmf"/>
  <Override PartName="/ppt/media/image5.jpeg" ContentType="image/jpeg"/>
  <Override PartName="/ppt/media/image3.jpeg" ContentType="image/jpeg"/>
  <Override PartName="/ppt/media/image2.jpeg" ContentType="image/jpeg"/>
  <Override PartName="/ppt/media/image4.wmf" ContentType="image/x-wmf"/>
  <Override PartName="/ppt/media/image27.wmf" ContentType="image/x-wmf"/>
  <Override PartName="/ppt/media/image1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6.png" ContentType="image/png"/>
  <Override PartName="/ppt/media/image23.gif" ContentType="image/gi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CDE9-1C9E-4600-B916-FF3E6301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80E-48EA-43FA-9EB6-18D269F2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F80-7D22-4EB1-9848-241BF9B9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2CE-836E-4EFC-BD47-4B3060DB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5C8-6FA6-4218-AB55-D1213555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75A-F741-4153-8C8A-41AF4600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1C00-0DCE-4B0E-8D0B-BC6A1AAB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0AF-3E11-4FEE-89DC-8942367A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27C-0FC0-45C2-A6EB-55B2591B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9E3-37BC-4D6E-810B-4170ED82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FEC-7AD7-40AE-A321-318FBFF9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D8E4-E005-4AAF-83BC-B00EFE75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A097-A95F-435B-8BDC-3C913C7D9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2285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rengimas kompiuterinėmis technologijomis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Kurso “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Reklamos elektroninė leidyba” dal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Išmokime parodyti save pasauliui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Ranka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15318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m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23520" y="2209680"/>
            <a:ext cx="3048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echninė įr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onitor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rafinė plokšt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kene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iešimo l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Fotoapar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0"/>
            <a:ext cx="6705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lektroninė  </a:t>
            </a:r>
            <a:r>
              <a:rPr b="1" lang="lt-LT" sz="2800" spc="-1" strike="noStrike">
                <a:solidFill>
                  <a:srgbClr val="9933ff"/>
                </a:solidFill>
                <a:latin typeface="Times New Roman"/>
              </a:rPr>
              <a:t>spausdintinė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rekl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AV_61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2209680" cy="1422360"/>
          </a:xfrm>
          <a:prstGeom prst="rect">
            <a:avLst/>
          </a:prstGeom>
          <a:ln w="0">
            <a:noFill/>
          </a:ln>
        </p:spPr>
      </p:pic>
      <p:pic>
        <p:nvPicPr>
          <p:cNvPr id="103" name="PAV_62" descr=""/>
          <p:cNvPicPr/>
          <p:nvPr/>
        </p:nvPicPr>
        <p:blipFill>
          <a:blip r:embed="rId3"/>
          <a:stretch/>
        </p:blipFill>
        <p:spPr>
          <a:xfrm>
            <a:off x="5257800" y="3962520"/>
            <a:ext cx="1765440" cy="1152360"/>
          </a:xfrm>
          <a:prstGeom prst="rect">
            <a:avLst/>
          </a:prstGeom>
          <a:ln w="0">
            <a:noFill/>
          </a:ln>
        </p:spPr>
      </p:pic>
      <p:pic>
        <p:nvPicPr>
          <p:cNvPr id="104" name="PAV_63" descr=""/>
          <p:cNvPicPr/>
          <p:nvPr/>
        </p:nvPicPr>
        <p:blipFill>
          <a:blip r:embed="rId4"/>
          <a:stretch/>
        </p:blipFill>
        <p:spPr>
          <a:xfrm>
            <a:off x="6019920" y="2743200"/>
            <a:ext cx="1828800" cy="148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6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a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Inter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Ranka" descr=""/>
          <p:cNvPicPr/>
          <p:nvPr/>
        </p:nvPicPr>
        <p:blipFill>
          <a:blip r:embed="rId3"/>
          <a:stretch/>
        </p:blipFill>
        <p:spPr>
          <a:xfrm>
            <a:off x="2514600" y="3809880"/>
            <a:ext cx="1305000" cy="1752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95640" y="1752480"/>
            <a:ext cx="278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nterneto funkcij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ndravimo bū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ų saugyk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mercijos ri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0040" y="3048120"/>
            <a:ext cx="3970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valum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irmos įvaiz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ditorijos masišk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mybė pasirinkti auditorij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teraktyvus ryš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fektyvi preky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inamišk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3" name="remosonasd" descr=""/>
            <p:cNvPicPr/>
            <p:nvPr/>
          </p:nvPicPr>
          <p:blipFill>
            <a:blip r:embed="rId1"/>
            <a:stretch/>
          </p:blipFill>
          <p:spPr>
            <a:xfrm>
              <a:off x="8244000" y="0"/>
              <a:ext cx="900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removirsu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24280" y="3047760"/>
            <a:ext cx="3200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inklala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lektroninis skyd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40800" y="22320"/>
            <a:ext cx="5481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a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Inter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AV_92" descr=""/>
          <p:cNvPicPr/>
          <p:nvPr/>
        </p:nvPicPr>
        <p:blipFill>
          <a:blip r:embed="rId3"/>
          <a:stretch/>
        </p:blipFill>
        <p:spPr>
          <a:xfrm>
            <a:off x="304920" y="4343400"/>
            <a:ext cx="4800600" cy="716040"/>
          </a:xfrm>
          <a:prstGeom prst="rect">
            <a:avLst/>
          </a:prstGeom>
          <a:ln w="0">
            <a:noFill/>
          </a:ln>
        </p:spPr>
      </p:pic>
      <p:pic>
        <p:nvPicPr>
          <p:cNvPr id="118" name="PAV_91" descr=""/>
          <p:cNvPicPr/>
          <p:nvPr/>
        </p:nvPicPr>
        <p:blipFill>
          <a:blip r:embed="rId4"/>
          <a:stretch/>
        </p:blipFill>
        <p:spPr>
          <a:xfrm>
            <a:off x="380880" y="3505320"/>
            <a:ext cx="3429000" cy="544320"/>
          </a:xfrm>
          <a:prstGeom prst="rect">
            <a:avLst/>
          </a:prstGeom>
          <a:ln w="0">
            <a:noFill/>
          </a:ln>
        </p:spPr>
      </p:pic>
      <p:pic>
        <p:nvPicPr>
          <p:cNvPr id="119" name="PAV_93" descr=""/>
          <p:cNvPicPr/>
          <p:nvPr/>
        </p:nvPicPr>
        <p:blipFill>
          <a:blip r:embed="rId5"/>
          <a:stretch/>
        </p:blipFill>
        <p:spPr>
          <a:xfrm>
            <a:off x="304920" y="5334120"/>
            <a:ext cx="6705360" cy="825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2133720"/>
            <a:ext cx="2895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iskusijų klub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š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bpzenklas" descr=""/>
          <p:cNvPicPr/>
          <p:nvPr/>
        </p:nvPicPr>
        <p:blipFill>
          <a:blip r:embed="rId6"/>
          <a:stretch/>
        </p:blipFill>
        <p:spPr>
          <a:xfrm>
            <a:off x="6477120" y="1752480"/>
            <a:ext cx="1371600" cy="10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3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a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Inter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4240" y="1371600"/>
            <a:ext cx="38581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WWW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okumentų kūri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eikalavimai (W3-Consort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ršyklė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inklapių kūrimo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įrankia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2362320"/>
            <a:ext cx="6832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Tekstiniai redaktoriai (Windows Notepad, CofeeCup HTML Editor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Vizualiniai redaktoriai ( Microsoft FrontPage, Altaire HomeSi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Macromedia Dreamwea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808080"/>
                </a:solidFill>
                <a:latin typeface="Times New Roman"/>
              </a:rPr>
              <a:t>Tarpiniai (HotMetal Pro 6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onvertuojančios programos (MS Word, Adobe Photoshop 5.5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Grafik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rofesionalios programos (CorelDraw, Adobe Photosh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onvertavimo programos (Windows Paint +Irfan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pecialios programos (DeBabelizer Pro 4.5.1, Flash 4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m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85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Įsimena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perskaity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išgir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pamaty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7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pamaty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r 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r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0"/>
            <a:ext cx="6705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eiklos </a:t>
            </a:r>
            <a:r>
              <a:rPr b="1" lang="lt-LT" sz="2800" spc="-1" strike="noStrike">
                <a:solidFill>
                  <a:srgbClr val="9933ff"/>
                </a:solidFill>
                <a:latin typeface="Times New Roman"/>
              </a:rPr>
              <a:t>pristaty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248520" y="2819520"/>
          <a:ext cx="144756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2819520"/>
                    <a:ext cx="1447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d05515_" descr=""/>
          <p:cNvPicPr/>
          <p:nvPr/>
        </p:nvPicPr>
        <p:blipFill>
          <a:blip r:embed="rId4"/>
          <a:stretch/>
        </p:blipFill>
        <p:spPr>
          <a:xfrm>
            <a:off x="4724280" y="1219320"/>
            <a:ext cx="1560600" cy="1676160"/>
          </a:xfrm>
          <a:prstGeom prst="rect">
            <a:avLst/>
          </a:prstGeom>
          <a:ln w="0">
            <a:noFill/>
          </a:ln>
        </p:spPr>
      </p:pic>
      <p:pic>
        <p:nvPicPr>
          <p:cNvPr id="134" name="pe07677_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371600" y="3733920"/>
            <a:ext cx="3809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Įrankia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S Power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Corel 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Lotus Freelance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Harvard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Išmokime parodyti save pasauliui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Ranka" descr=""/>
          <p:cNvPicPr/>
          <p:nvPr/>
        </p:nvPicPr>
        <p:blipFill>
          <a:blip r:embed="rId1"/>
          <a:stretch/>
        </p:blipFill>
        <p:spPr>
          <a:xfrm>
            <a:off x="4118040" y="2819520"/>
            <a:ext cx="907920" cy="121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1600"/>
            </a:b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Modulio</a:t>
            </a: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 struktū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90840" y="1855800"/>
          <a:ext cx="6265800" cy="33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0840" y="1855800"/>
                    <a:ext cx="62658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502080" y="1103400"/>
            <a:ext cx="16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Times New Roman"/>
              </a:rPr>
              <a:t>Trukmė – 2 valan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2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br>
              <a:rPr sz="2000"/>
            </a:br>
            <a:br>
              <a:rPr sz="2000"/>
            </a:b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samp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V_1" descr=""/>
          <p:cNvPicPr/>
          <p:nvPr/>
        </p:nvPicPr>
        <p:blipFill>
          <a:blip r:embed="rId3"/>
          <a:stretch/>
        </p:blipFill>
        <p:spPr>
          <a:xfrm>
            <a:off x="1523880" y="1752480"/>
            <a:ext cx="3886200" cy="218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47920" y="4114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4d4d4d"/>
                </a:solidFill>
                <a:latin typeface="Times New Roman"/>
              </a:rPr>
              <a:t>Senovinė reklama (1477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1676520"/>
            <a:ext cx="23619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aidmeny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arketing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omunikac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konom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ocial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486400"/>
            <a:ext cx="6934320" cy="703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imes New Roman"/>
              </a:rPr>
              <a:t>REKLAMA, tai sąmoningas, kryptingas ir planingas poveikis  vartotojams, siekiant tam tikrų tiksl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e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2209680"/>
            <a:ext cx="28958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Ginčytini klausima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Išpūsta” rekla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konis reklam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Reklamos estetik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Flirto motyvas reklam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nka" descr=""/>
          <p:cNvPicPr/>
          <p:nvPr/>
        </p:nvPicPr>
        <p:blipFill>
          <a:blip r:embed="rId3"/>
          <a:stretch/>
        </p:blipFill>
        <p:spPr>
          <a:xfrm>
            <a:off x="3962520" y="3581280"/>
            <a:ext cx="1304640" cy="17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257800" y="2514600"/>
            <a:ext cx="33526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tereotipai reklam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Reklama vaika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Ginčytinų prekių rekla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Reklama, veikianti į pasąmon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7" name="remosonasd" descr=""/>
            <p:cNvPicPr/>
            <p:nvPr/>
          </p:nvPicPr>
          <p:blipFill>
            <a:blip r:embed="rId1"/>
            <a:stretch/>
          </p:blipFill>
          <p:spPr>
            <a:xfrm>
              <a:off x="8244000" y="0"/>
              <a:ext cx="900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removirsu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190760" y="2057400"/>
            <a:ext cx="3352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alyvi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ykdytoj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eklamos priemonė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Firmos įvaiz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eklamavimo būd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eklaminis praneš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liustr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Antrašt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Tek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Šūk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kūr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80880" y="1828800"/>
            <a:ext cx="3181320" cy="4008240"/>
            <a:chOff x="380880" y="1828800"/>
            <a:chExt cx="3181320" cy="4008240"/>
          </a:xfrm>
        </p:grpSpPr>
        <p:pic>
          <p:nvPicPr>
            <p:cNvPr id="72" name="PAV21" descr=""/>
            <p:cNvPicPr/>
            <p:nvPr/>
          </p:nvPicPr>
          <p:blipFill>
            <a:blip r:embed="rId3"/>
            <a:stretch/>
          </p:blipFill>
          <p:spPr>
            <a:xfrm>
              <a:off x="2057040" y="2637000"/>
              <a:ext cx="1219320" cy="8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AV22" descr=""/>
            <p:cNvPicPr/>
            <p:nvPr/>
          </p:nvPicPr>
          <p:blipFill>
            <a:blip r:embed="rId4"/>
            <a:stretch/>
          </p:blipFill>
          <p:spPr>
            <a:xfrm>
              <a:off x="1904760" y="1828800"/>
              <a:ext cx="1417680" cy="48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MP_LOGO" descr=""/>
            <p:cNvPicPr/>
            <p:nvPr/>
          </p:nvPicPr>
          <p:blipFill>
            <a:blip r:embed="rId5"/>
            <a:stretch/>
          </p:blipFill>
          <p:spPr>
            <a:xfrm>
              <a:off x="380880" y="1990080"/>
              <a:ext cx="1388880" cy="17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VIZIT4" descr=""/>
            <p:cNvPicPr/>
            <p:nvPr/>
          </p:nvPicPr>
          <p:blipFill>
            <a:blip r:embed="rId6"/>
            <a:stretch/>
          </p:blipFill>
          <p:spPr>
            <a:xfrm>
              <a:off x="380880" y="3929400"/>
              <a:ext cx="3181320" cy="19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movirsu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inis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skelb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emosonasd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AV_2" descr=""/>
          <p:cNvPicPr/>
          <p:nvPr/>
        </p:nvPicPr>
        <p:blipFill>
          <a:blip r:embed="rId3"/>
          <a:stretch/>
        </p:blipFill>
        <p:spPr>
          <a:xfrm>
            <a:off x="914400" y="1295280"/>
            <a:ext cx="1720800" cy="4876920"/>
          </a:xfrm>
          <a:prstGeom prst="rect">
            <a:avLst/>
          </a:prstGeom>
          <a:ln w="0">
            <a:noFill/>
          </a:ln>
        </p:spPr>
      </p:pic>
      <p:pic>
        <p:nvPicPr>
          <p:cNvPr id="80" name="REK4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3492360" cy="47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movirsu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inis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skelb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AV_3" descr=""/>
          <p:cNvPicPr/>
          <p:nvPr/>
        </p:nvPicPr>
        <p:blipFill>
          <a:blip r:embed="rId2"/>
          <a:stretch/>
        </p:blipFill>
        <p:spPr>
          <a:xfrm>
            <a:off x="5715000" y="1523880"/>
            <a:ext cx="2792520" cy="4191120"/>
          </a:xfrm>
          <a:prstGeom prst="rect">
            <a:avLst/>
          </a:prstGeom>
          <a:ln w="0">
            <a:noFill/>
          </a:ln>
        </p:spPr>
      </p:pic>
      <p:pic>
        <p:nvPicPr>
          <p:cNvPr id="84" name="PAV_4" descr=""/>
          <p:cNvPicPr/>
          <p:nvPr/>
        </p:nvPicPr>
        <p:blipFill>
          <a:blip r:embed="rId3"/>
          <a:stretch/>
        </p:blipFill>
        <p:spPr>
          <a:xfrm>
            <a:off x="0" y="609480"/>
            <a:ext cx="2297160" cy="6248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95480" y="3505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lyginkim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remosonasd" descr=""/>
          <p:cNvPicPr/>
          <p:nvPr/>
        </p:nvPicPr>
        <p:blipFill>
          <a:blip r:embed="rId4"/>
          <a:stretch/>
        </p:blipFill>
        <p:spPr>
          <a:xfrm>
            <a:off x="8505720" y="0"/>
            <a:ext cx="6382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m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Elektroninė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rek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kompas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2133360" cy="1854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62160" y="342864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pausdintin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eiklos pristaty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klama Intern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2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Elektroninė  </a:t>
            </a: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spausdintinė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rek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638680" y="1828800"/>
            <a:ext cx="2210040" cy="3657600"/>
            <a:chOff x="5638680" y="1828800"/>
            <a:chExt cx="2210040" cy="365760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5848920" y="1828800"/>
              <a:ext cx="1387800" cy="28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638680" y="4833360"/>
              <a:ext cx="2210040" cy="65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800" spc="-1" strike="noStrike">
                  <a:solidFill>
                    <a:srgbClr val="000000"/>
                  </a:solidFill>
                  <a:latin typeface="Times New Roman"/>
                </a:rPr>
                <a:t>Spalvų sistemos 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lt-LT" sz="1800" spc="-1" strike="noStrike">
                  <a:solidFill>
                    <a:srgbClr val="000000"/>
                  </a:solidFill>
                  <a:latin typeface="Times New Roman"/>
                </a:rPr>
                <a:t>B ir CMY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676520" y="2133720"/>
            <a:ext cx="34290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rafikos Progra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Corel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dobe Photos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icrosoft PhotoDraw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Grafx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4T21:32:43Z</dcterms:created>
  <dc:creator>mes</dc:creator>
  <dc:description/>
  <dc:language>en-US</dc:language>
  <cp:lastModifiedBy>mes</cp:lastModifiedBy>
  <cp:lastPrinted>2000-05-15T04:45:18Z</cp:lastPrinted>
  <dcterms:modified xsi:type="dcterms:W3CDTF">2000-05-25T23:25:48Z</dcterms:modified>
  <cp:revision>63</cp:revision>
  <dc:subject/>
  <dc:title>Reklamos rengimas kompiuterinėmis technologijomis</dc:title>
</cp:coreProperties>
</file>