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2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C074-2219-4DF8-9A9A-3561035AF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6EEC-B487-4551-9C28-84F2551F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DE96-AC44-4552-94DB-8F580E804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79A7-791D-4E36-87F4-A4B910DDA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506F-FC8C-4C8E-9831-0EDD5B5C2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55D4-6665-4F8B-AD71-5C96EFDC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E3DB-AD56-4880-975F-90A84884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58B4-9817-419F-BF34-0B6486EE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F1E0-9177-4E65-8B39-C86AC317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81DE-704F-4779-BBEF-2F019856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A784-6D34-4FCD-895B-7E8CE83F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AD5C-F91B-4F03-8FF0-C31B26EA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3E8A-55E2-4955-83D1-A1215FD3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519EF-2E84-4BFD-A298-8EB02634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0E3A-C276-45E5-AC55-504C57A5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0FE2-6199-4FA6-AE3F-237BC5CC6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362E9-516E-414B-A36F-A9996AE4E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D6B6-8877-4837-8FF3-92D9F284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DEB2-6D8F-4A28-8F0A-EC578B5D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1A76-E663-4D0C-A1D7-F3CDCE79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76DA-0EB6-4137-85E6-9B6C0FB8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3554-E595-4D13-B214-3C5DFC2F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3783-BCF1-44B8-9BD3-CCF0F0BB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A195-05E2-4B48-9AF2-43121BEA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reivi</a:t>
            </a:r>
            <a:r>
              <a:rPr b="0" lang="lt-LT" sz="4400" spc="-1" strike="noStrike">
                <a:solidFill>
                  <a:srgbClr val="cbcbcb"/>
                </a:solidFill>
                <a:latin typeface="Times New Roman"/>
              </a:rPr>
              <a:t>ų konstravimo metodai ir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 programinė įrang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440"/>
            <a:ext cx="4952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vydas Rancov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akalauro darb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5715000"/>
            <a:ext cx="5181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adovas: prof. V. Pluk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artotojo s</a:t>
            </a:r>
            <a:r>
              <a:rPr b="0" lang="lt-LT" sz="4400" spc="-1" strike="noStrike">
                <a:solidFill>
                  <a:srgbClr val="cbcbcb"/>
                </a:solidFill>
                <a:latin typeface="Times New Roman"/>
              </a:rPr>
              <a:t>ąsaj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52720" y="2057040"/>
            <a:ext cx="25909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niu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nktai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il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daguot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dyt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ezj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-splaina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galb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2-141" descr=""/>
          <p:cNvPicPr/>
          <p:nvPr/>
        </p:nvPicPr>
        <p:blipFill>
          <a:blip r:embed="rId1"/>
          <a:stretch/>
        </p:blipFill>
        <p:spPr>
          <a:xfrm>
            <a:off x="646200" y="2149560"/>
            <a:ext cx="56782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ogramos galimybės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ffff"/>
                </a:solidFill>
                <a:latin typeface="Arial"/>
              </a:rPr>
              <a:t>Leidžia konstruoti 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ffff"/>
                </a:solidFill>
                <a:latin typeface="Arial"/>
              </a:rPr>
              <a:t>Bezje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 –os eilės, racionaliąsias,  papildytas, apskritimus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ipses 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udojant 3-os eilės Bezje kreiv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rodant Sąsają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tarp 3-iosios eilės Bezje ir B-splainų kreivių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-splainų kreives.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ffff"/>
                </a:solidFill>
                <a:latin typeface="Arial"/>
              </a:rPr>
              <a:t>Patogi pagalbos sistem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cbcbcb"/>
                </a:solidFill>
                <a:latin typeface="Times New Roman"/>
              </a:rPr>
              <a:t>Tetavima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7432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B-splainų kreivių ir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os eilės Bezje kreivių konstravimo teisingumo testavim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Ta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55627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Bezje kreivių kūrimo pavyzdžiai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19920" y="1904760"/>
            <a:ext cx="27432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os,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os, 4 –os,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os eilės Bezje kreivių konstravima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alimybė atvaizduoti Krieves, Liestines, Taškus, Indeksus bei svoriu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la" descr=""/>
          <p:cNvPicPr/>
          <p:nvPr/>
        </p:nvPicPr>
        <p:blipFill>
          <a:blip r:embed="rId1"/>
          <a:stretch/>
        </p:blipFill>
        <p:spPr>
          <a:xfrm>
            <a:off x="533520" y="2084400"/>
            <a:ext cx="556236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Racionaliųjų Bezje kreivių kūrimo pavyzdžiai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19920" y="1904760"/>
            <a:ext cx="27432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cionalioji 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os         eilės Bezje kreivė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alimybė kiekvienam kontroliniui taškui nustatyti atitinkamą svorį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240600" y="130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tete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563904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B-splainų  kreivių kūrimo pavyzdžiai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477120" y="3200400"/>
            <a:ext cx="26668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 - iosios eilės         B-splainų kreivė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mama" descr=""/>
          <p:cNvPicPr/>
          <p:nvPr/>
        </p:nvPicPr>
        <p:blipFill>
          <a:blip r:embed="rId1"/>
          <a:stretch/>
        </p:blipFill>
        <p:spPr>
          <a:xfrm>
            <a:off x="304920" y="1940040"/>
            <a:ext cx="5843520" cy="46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cbcbcb"/>
                </a:solidFill>
                <a:latin typeface="Times New Roman"/>
              </a:rPr>
              <a:t>Aparatūriniai ir sisteminiai resursai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IBM PC, Intel 166 MHz;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Arial"/>
              </a:rPr>
              <a:t>OS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  Windows95, Windows95, Windows 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Naudota programin</a:t>
            </a:r>
            <a:r>
              <a:rPr b="0" lang="lt-LT" sz="4400" spc="-1" strike="noStrike">
                <a:solidFill>
                  <a:srgbClr val="cbcbcb"/>
                </a:solidFill>
                <a:latin typeface="Times New Roman"/>
              </a:rPr>
              <a:t>ė įrang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2590560"/>
            <a:ext cx="792468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sual C++ 5.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ML Help Workshop 1.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S Word97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švado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Darbe išnagrinėti tolydžiųjų kreivių konstravimo metodai, naudojant n-tos eilės (n&lt;34) Bezje polinomus, 3 –iosios eilės racionaliąsias Bezje kreives bei B-splainu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Išnagrinėti metodai bei sukurta programinė įranga bus naudojama dėstant “Skaičiavimo metodai 2” kursą ir padės studentams geriau įsisavinti bei įsivaizduoti kreivių konstravimą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bcbcb"/>
                </a:solidFill>
                <a:latin typeface="Times New Roman"/>
              </a:rPr>
              <a:t>Darbo tikslas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Išnagrinėti norimos formos tolydžiųjų kreivių konstravimo metodus, naudojant Bezje polinomus, 3–ios eilės racionaliąsias Bezje kreives bei B-splainu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Sukurti patogią programinę įrangą skirtą tokių kreivių konstravimui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Produktas bus naudojamas dėstant “Skaičiavimo metodai 2” kursą ir padės studentams geriau įsisavinti bei įsivaizduoti kreivių konstravimą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cbcbcb"/>
                </a:solidFill>
                <a:latin typeface="Times New Roman"/>
              </a:rPr>
              <a:t>Bezje polinomų kreivė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219320" y="4724280"/>
                <a:ext cx="312408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p>
                        </m:sSup>
                      </m:e>
                    </m:nary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685800" y="19810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Turime aibę taškų :                                                      Šie taškai, dar vadinami Bezjė tašk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31240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1000"/>
          </a:bodyPr>
          <a:p>
            <a:pPr marL="174960" indent="-17496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Tada n – tosios eilės Bezjė polinomas, kurį nusako taškai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           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,  parametrine forma apibrėžiamas taip:                                                       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     , kur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572000" y="2057400"/>
                <a:ext cx="29718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581280" y="3581280"/>
                <a:ext cx="19177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638680" y="5006880"/>
                <a:ext cx="31244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u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cbcbcb"/>
                </a:solidFill>
                <a:latin typeface="Times New Roman"/>
              </a:rPr>
              <a:t>Bezje 3-iosios eilės polinomų kreivė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752480" y="2209680"/>
            <a:ext cx="6477120" cy="4114800"/>
            <a:chOff x="1752480" y="2209680"/>
            <a:chExt cx="6477120" cy="4114800"/>
          </a:xfrm>
        </p:grpSpPr>
        <p:graphicFrame>
          <p:nvGraphicFramePr>
            <p:cNvPr id="103" name=""/>
            <p:cNvGraphicFramePr/>
            <p:nvPr/>
          </p:nvGraphicFramePr>
          <p:xfrm>
            <a:off x="1752480" y="2209680"/>
            <a:ext cx="2819520" cy="1752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480" y="2209680"/>
                      <a:ext cx="2819520" cy="175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4572000" y="2209680"/>
            <a:ext cx="3657600" cy="175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2209680"/>
                      <a:ext cx="3657600" cy="175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07" name=""/>
            <p:cNvGrpSpPr/>
            <p:nvPr/>
          </p:nvGrpSpPr>
          <p:grpSpPr>
            <a:xfrm>
              <a:off x="1752480" y="3962520"/>
              <a:ext cx="6477120" cy="2361960"/>
              <a:chOff x="1752480" y="3962520"/>
              <a:chExt cx="6477120" cy="2361960"/>
            </a:xfrm>
          </p:grpSpPr>
          <p:graphicFrame>
            <p:nvGraphicFramePr>
              <p:cNvPr id="108" name=""/>
              <p:cNvGraphicFramePr/>
              <p:nvPr/>
            </p:nvGraphicFramePr>
            <p:xfrm>
              <a:off x="4495680" y="3962520"/>
              <a:ext cx="3733920" cy="23619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09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495680" y="3962520"/>
                        <a:ext cx="3733920" cy="236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10" name=""/>
              <p:cNvGraphicFramePr/>
              <p:nvPr/>
            </p:nvGraphicFramePr>
            <p:xfrm>
              <a:off x="1752480" y="3962520"/>
              <a:ext cx="2743200" cy="23619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11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752480" y="3962520"/>
                        <a:ext cx="2743200" cy="236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Times New Roman"/>
              </a:rPr>
              <a:t>Racionaliosios Bezje kreivės</a:t>
            </a:r>
            <a:r>
              <a:rPr b="0" lang="lt-LT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Times New Roman"/>
              </a:rPr>
              <a:t>Racionalio</a:t>
            </a:r>
            <a:r>
              <a:rPr b="1" lang="lt-LT" sz="2800" spc="-1" strike="noStrike">
                <a:solidFill>
                  <a:srgbClr val="ffffff"/>
                </a:solidFill>
                <a:latin typeface="Times New Roman"/>
              </a:rPr>
              <a:t>ji</a:t>
            </a:r>
            <a:r>
              <a:rPr b="1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ffffff"/>
                </a:solidFill>
                <a:latin typeface="Times New Roman"/>
              </a:rPr>
              <a:t>n-ojo laipsnio Bezje kreivė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užrašoma taip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648320" y="1752480"/>
                <a:ext cx="380988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nary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533520" y="3581280"/>
            <a:ext cx="76960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Taškai       vadinam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troliniais taškais, o skaičiai     - atitinkamų kontrolinių taškų svoria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133720" y="3581280"/>
                <a:ext cx="4460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209680" y="4038480"/>
                <a:ext cx="519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Times New Roman"/>
              </a:rPr>
              <a:t>Racionaliosios Bezje kreivė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2590920"/>
          <a:ext cx="7772400" cy="27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777240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-splain</a:t>
            </a:r>
            <a:r>
              <a:rPr b="0" lang="lt-LT" sz="4400" spc="-1" strike="noStrike">
                <a:solidFill>
                  <a:srgbClr val="ffffff"/>
                </a:solidFill>
                <a:latin typeface="Times New Roman"/>
              </a:rPr>
              <a:t>ų kreivė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Splainas –tai tolydžioji iki p-osios eilės išvestinės imtinai funkcija, sudaryta iš kokios nors funkcijos dalių. Istoriškai splainai buvo pradėti konstruoti iš n-tiosios eilės polinomo dalių. Todėl čia splainai, suvokiami kaip funkcijos, sudarytos iš polinomo dalių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Paprasčiausias ir seniausiai naudojamas splaino pavyzdys yra laužtė. Tai pirmosios eilės splainas, kuriam 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lt-LT" sz="2400" spc="-1" strike="noStrike">
                <a:solidFill>
                  <a:srgbClr val="ffffff"/>
                </a:solidFill>
                <a:latin typeface="Arial"/>
              </a:rPr>
              <a:t>0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Jei splainas sudarytas, pavyzdžiui, iš kubinio polinomo dalių, tai jis vadinamas kubiniu splainu ir  jam             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391520" y="5105520"/>
                <a:ext cx="14475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-splain</a:t>
            </a:r>
            <a:r>
              <a:rPr b="0" lang="lt-LT" sz="4400" spc="-1" strike="noStrike">
                <a:solidFill>
                  <a:srgbClr val="ffffff"/>
                </a:solidFill>
                <a:latin typeface="Times New Roman"/>
              </a:rPr>
              <a:t>ų kreivė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5" name="1.26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3505320" cy="2260800"/>
          </a:xfrm>
          <a:prstGeom prst="rect">
            <a:avLst/>
          </a:prstGeom>
          <a:ln w="0">
            <a:noFill/>
          </a:ln>
        </p:spPr>
      </p:pic>
      <p:pic>
        <p:nvPicPr>
          <p:cNvPr id="126" name="2.26" descr=""/>
          <p:cNvPicPr/>
          <p:nvPr/>
        </p:nvPicPr>
        <p:blipFill>
          <a:blip r:embed="rId2"/>
          <a:stretch/>
        </p:blipFill>
        <p:spPr>
          <a:xfrm>
            <a:off x="1143000" y="4191120"/>
            <a:ext cx="3657600" cy="190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4572000" y="1981080"/>
          <a:ext cx="3429000" cy="236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981080"/>
                    <a:ext cx="34290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9" name="4.26" descr=""/>
          <p:cNvPicPr/>
          <p:nvPr/>
        </p:nvPicPr>
        <p:blipFill>
          <a:blip r:embed="rId5"/>
          <a:stretch/>
        </p:blipFill>
        <p:spPr>
          <a:xfrm>
            <a:off x="4724280" y="4267080"/>
            <a:ext cx="3262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plaino užrašymo formo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ra keturios splainų užrašymo formos, iš kurių tik dvi naudojamos praktiniuose skaičiavimuose, tai 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ekviename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nurodoma polinomo išraiška, t.y. dalimis polinominė forma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splainas užrašomas tiesine B-splainų kombinacija.</a:t>
            </a:r>
            <a:r>
              <a:rPr b="0" lang="lt-LT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657600" y="3276720"/>
                <a:ext cx="12952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3T12:29:34Z</dcterms:created>
  <dc:creator>Sigitas Drąsutis</dc:creator>
  <dc:description/>
  <dc:language>en-US</dc:language>
  <cp:lastModifiedBy>alvydas</cp:lastModifiedBy>
  <dcterms:modified xsi:type="dcterms:W3CDTF">1999-06-16T08:26:29Z</dcterms:modified>
  <cp:revision>11</cp:revision>
  <dc:subject/>
  <dc:title>Medžiaga ActiveX laboratorinių darbų pravedimui</dc:title>
</cp:coreProperties>
</file>