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CB2-1B4F-4285-A971-02021229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44F-ADB3-443A-A100-D64CD3F7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630-1DF9-4CEE-A9AF-53777BF1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A7A-E08C-4207-B590-9D529403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124-362E-442A-9701-BB2BEFE0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93F-09BE-4676-A299-B0932720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630-D53F-4048-B30F-36E5674C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598-8226-4D9B-94DC-D7017BB5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77F-20A2-40DF-98DF-005835AC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F16-5857-48EA-86C3-8282A7D2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D1D-9728-428B-9931-A8892D9B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CD7-E6A5-49DA-A96B-0A325477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E511-21FA-4F2C-B2B3-886E13CD35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tp://ftp.isi.edu/in-notes/rfc2616.txt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ANSMISSION CONTROL PROTOCO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( RFC 79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faqs.org/rfcs/rfc793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ile174298_left_right1" descr="Left-right"/>
          <p:cNvPicPr/>
          <p:nvPr/>
        </p:nvPicPr>
        <p:blipFill>
          <a:blip r:embed="rId1"/>
          <a:stretch/>
        </p:blipFill>
        <p:spPr>
          <a:xfrm>
            <a:off x="6553080" y="304920"/>
            <a:ext cx="259092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C0D-247A-4F2E-9B0E-C96EBA83C1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tank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nt leisti daugeliui procesų viename hoste naudotis TCP komunikacijos įrankiais vienu metu,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ibę porto adre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iekviename ho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or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, sujungtas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ho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dresu (iš internetinio komunikacijų lygmens) sudar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areikšmiškai apibrėžia kiekvieną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ketas vienu metu gali būti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AC8-7B2E-4675-9A31-929320F093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inicializuoja ir palaiko kiekvienam duomenų srautui tam tikr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ūvio inform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k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ų dydž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š pradedant procesams komunikuoti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kur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ą (inicializacija būvio kiekvienoje pusė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ms baigus komunikacijas, susijungimas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aro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resursai atlaisvinami kit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dangi susijungimai sudaro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ikimo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erpėj, susijungimai pradedami rankų paspaudimu, naudojant eilės numerius – siekiama išvengti klaidingų inicializ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B85-95E7-4D17-B1CE-81A81D2731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vartotojai opcijomis gali nurodyti saugą ir pirmumą susijusį su komunikac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šios reikšmės nenurodomos, naudojamos reikšmės pagal nutylėj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AC3-039C-41FC-9FBE-5BF1C672BC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ų mode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oces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erduoda duomen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viesd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CP ir perduodam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duomenų buf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argum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pakuoja duomenis iš šių buferių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ir kvie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terne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į perdavimui kiekvieno segmento gavėjo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lpina duomenis iš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uferį ir informuoja vartoto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segmentus įtrau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ntro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, kur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am, eilišk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persiuntimui už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 užtikrin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ąsają su lokaliu tink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C59-1BC4-45E2-8499-A32A0DFAEA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ai ho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perac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stemos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reipiasi į jį kaip į failų sist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kvies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i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peracinės sistemos funkcijas, pavyzdžiui kurios valdo duomenų struktū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aktiškai sąsają su tinklu kontroli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renginio drai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siogiai nesikreipia į įrenginio draiverį, jis kviečia interne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otokolą, kuris kviečia įrenginio draiv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4E6-4E43-4948-8E28-C8BBD48DE0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Patikima komun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davimai tampa patikimais naudojant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septualiai kiekvienas baitas turi savo eilės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ojo baito segmente eilės numeris yra perduodamas kartu su segmentu ir yra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 turi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 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e rodo eilės numerį sekančio laukiamo duomenų baito atbulinėje perdavimo krypt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B4F-981E-4A18-8320-CE6FDA4435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kartotinas persiunt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1" i="1" lang="lt-LT" sz="2800" spc="-1" strike="noStrike">
                <a:solidFill>
                  <a:srgbClr val="000000"/>
                </a:solidFill>
                <a:latin typeface="Arial Unicode MS"/>
              </a:rPr>
              <a:t>perduoda segmentą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, kartu jo kopija įrašoma į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pakartotino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perdavimo eilę ir startuojamas laikrod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Gavus šio persiuntimo patvirtinimą, segmentas yra išmet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Jei patvirtinimas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negaunamas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ir praeina užduotas laiko intervalas, segmento siuntimas pakart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E04-62F8-4F62-ADD0-94EE089973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ienareikšmiškai apibūdina susijungimą tarp dviejų galinių taš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ok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as gali dalyvau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ų su skirtingais išoriniais soket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as gali būti naudojamas duomenų perdavimu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biem krypt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CP gali surišti procesą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t kuri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u. Tačiau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rai-žino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oketus TCP susieja tik su atitinkamais procesais(šie “valdo” tam tikrus portu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erai-žinomi soketai yra įprastas mechanizmas išankstiniam susiejimui soketo adreso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andartin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i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CFA-83C9-41C8-9590-C154823AB7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var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kreipini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argument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kalus portas, išorinis soke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grąž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ump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lokalų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d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vartotojas gali naudotis sekančiuose veiksm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a apie susijungimą(tam tikra duomenų struktūra) laiko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blok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Control Block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okaliu susijungimo vardu gali būt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orod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šiuo susijungi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661-17F2-4305-A5E8-22A3F5A985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yvus O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OPEN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kreipinys apsprendžia ar susijungimas bu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ktyvus ar pasyv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asyvi OPEN užklausa – procesas nor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riim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ateinančias susijungimo užklausas, 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 inicijuo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susijungimą (žada teikti servis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cesas, prašantis pasyvaus OPEN priims susijungimo užklausas iš kito h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Šiuo atveju išorin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oket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nurodomas visa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uli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kas rodo nenusakytą soke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nusaky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išoriniai soketai yra leidžiami tik pasyviems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8FC-441B-4672-99C3-4D2EDD957A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s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tokolas skiriamas užtikrint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tikim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ndravimą tarp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ų komunikaciniuose tinklu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yra į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usijungim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orientuotas protokolas, suprojektuotas taikymu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sluoksninėje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rotokolų hierarchijoje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tarptinklini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laiky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užtikrina tarp-procesinį bendravimą tarp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poros proces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besisukančių tam tikruose hostuose, kurie yra skirtingi, bet komunikaciniais tinklais surišti komp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3F2-DB12-40C6-86F9-42DA3705B5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gali išduoti pasyvų OPEN ir laukti atitinkam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ų OPEN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einančių iš kitų procesų, jiems atsiradus TCP informuoja juos apie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sidary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 procesai, kurie išdav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us OPE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s kitam tuo pačiu metu, bus teisingai sujung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u atveju susijungimas galimas su bet kuriuo išoriniu soketu, kuris yra nurodęs šį lokalų soketą, antru atveju susijungimas gal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k su tam tikru sok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BDC-8A82-4D6A-B045-88B31B11AE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procedū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o procedūroje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 vėliavėl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r jos metu vyksta apsikeitimas trimis pranešim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ijų pus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nkų paspaudimo proced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einan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gmento su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ėliavėle su laukianči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įėj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einančio segmen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as sutampa su laukia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sakytas tiksliai arba bet koks), susijung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icijuoja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sukuriamas po to 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 numeriai yra susinchronizuojami abiem kryp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284-E1DC-4C7D-B245-6885D3BEEA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Duomenys perduodami susijungimu –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baitų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ka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Jei siunčiamus duomenis reika tuoj pat perduoti gavėjui,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ND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f-joje naudojama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ė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Siunčiantis TCP gal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rinkti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iš vartotojo ateinančius duomenis,(iš buferio, esančio vartotojo/TCP sąsajoj),  dalinti juos segmentais ir siųsti juos savo nuožiūra, arba atėjus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ei. Push nesiriša si segmento riba, push tik skelbia , kad reikia išsiųsti visus neišsiųstus duomen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AE5-F91C-4D9F-9C50-463D3D9757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naudoja interneto protokolo serviso tipas lauką bei saugos opcijas nusakydamas pirmenybę bei saugą atžvilgiu susijung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e visi TCP moduliai funkcionuoja saugioje daugelio lygių aplinkoje (galimas ir vienas saugos lygi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moduliai, kurie operuoja daugelio lygių saugos aplinkoje, turi tiksliai atžymėti išeinančius segmentus pirmumo, saugos indikato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okie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CP modul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ai turi teikti aukštesnio lygio protokolams nusakyti norimą saugos lygį, pirmumo lygį susijungimo atžvilg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BD5-E33A-40DC-AED4-72D292FD26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galvu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s lauk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mma38" descr="Artwork for comma38"/>
          <p:cNvPicPr/>
          <p:nvPr/>
        </p:nvPicPr>
        <p:blipFill>
          <a:blip r:embed="rId1"/>
          <a:stretch/>
        </p:blipFill>
        <p:spPr>
          <a:xfrm>
            <a:off x="838080" y="1670040"/>
            <a:ext cx="723924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722-CF30-4A45-BB0E-1535B551E3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pirmo duomenų baito šiame segmente  numer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įjungt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ėliavėlė, tai eilės numeris rodo pradinę eilės numerio reikšmę.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itial sequence numb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irmas duomenų baitas turės eilės N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virtinimo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įjungt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trolės bitai šis laukas rodo, koks laukiamas sekantis eilės NR iš siuntėjo pus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susijungimas sudarytas, jis visad yra siunči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poslink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 žodžių sudar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vutę. Rodo duomenų pradži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zervuo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Rezervuota vėlesnėm reikmėm. Turi būti nul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0C8-FBFB-4AB7-B6D6-721A4AF421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olės bitai (6 bita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URG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ACK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atvirtinimo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PSH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ush f-jos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RST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erkrauti(reset) jungtį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SY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inchronizuoti eilės numerius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FI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ebėra duomenų iš siuntė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5B0-3047-4832-8733-C87BA55F2B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ngas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į baitų kiekį pradedant nuo rodomu patvirtinimo eilės Nr šio segmento siuntėjas nusiteikęs priim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 su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galvutės bei duomenų kontrolinė su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gaunasi nelyginis baitų kiekis , jis papildomas nuliais iki lyginio kiekio kontrolinės sumos skaičiavimui, šis papildinys nėra perduodamas, o kontrolinės sumos laukas skaičiuojant yra keičiamas nuli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Tai poslinkio reikšmė, atskaitant nuo segmento eilės NR, rodanti į svarbius duomenis. Būtina URG vėliavėl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p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 užimti erdvę TCP galvutės gale. Visos opcijos įtraukiamos į kontrolinę sumą. Jos užima keletą baitų, baigiasi  nulių lauku – “header padd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A97-23D8-45B9-AF81-227B0E7721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TCP persiunčiamas baitas turi eilės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baitas turi būti patvirti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 baito patvirtinimas žymi, kad yra patvirtintas visų baitų įskaitant ir X gav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ukas skirtas eilės numeriams yra baigtinis.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 - 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 Visa aritmetika susijusi su eilės numeriais vykdom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DAF-F72D-43EB-8A3D-227363DFE2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ikrinimai, susiję su eilės numeria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 yra surištas su išsiųstų bet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virti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itų eilės num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jau patvirt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sų segmento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eilės numeriai – segmentas šalinamas iš pakartotino perdavimo ei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įeinantis segmentas turi eilės numerius, kur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ukt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 ar segmentas tilps į priėmimo lang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priėmimo langas lygus 0, gali priimti tik ACK segmentus ir siųsti duomenis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ors ir 0 langas, tačiau turi apdoroti ateinan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RS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gmen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A9C-8B04-43AD-98C7-B983BCF00A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gz-darbas-protokolai_html_m7dde9bf8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52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60199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/OSI modelis ir TCP/IP protokolų pake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E5F-8C16-43CC-94C7-B36CB90468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pa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nt naują susijungimą yra panaudojamas ISN generatorius, kuris generuoja naują ISN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eneratorius yra surištas s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 b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laikrodžiu, kurio reikšmė kinta k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n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klas kartojasi k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55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Max segmento gyvavimo laikas paprastai būna &lt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5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Skaitoma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N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nikalū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susijungimas turi siuntimo eilės NR ir priėmimo eilės NR. Siunt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 yra parenkamas, o priėmimo pradinis eilės Nr sužinomas užmezgant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EE0-927D-4837-AE4B-F8C01CF9DA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ijungimo sukūrimui ir jo inicializacijai du TCP turi susinchronizuoti savus IS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atliekama pasikeičiant susijungimo įkūrim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e perduodami su sinchronizacijos bitu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itinkamai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gi reikalingas mechanizmas ISN parinkimui bei ISN reikšmių apsikeitimui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AA5-15F5-4A06-A5E8-FFC02DA098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nchronizacijo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nchronizacija reikalauja, kad kiekviena pus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siųs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avo ISN  ir gautų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š kitos pusės.  Kiekviena pusė privalo gauti kitos pusės ISN ir patvirtinti jo g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 --&gt;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 &lt;--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 &lt;--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 --&gt;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jų pusių rankų paspaudimas yra būtinas, kadangi ISN nėra surišti su globaliniu laikrodžiu ir kiekvienas TCP gali rinkt ISN pagal savo sch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5DB-253C-48CE-A4F0-CF42EB4161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ylaus(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) laiko koncep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ai, kurie nusimuša ir nelieka informacijos apie paskutinius perduotus eilės numerius kiekviena aktyvia jungtimi, turi palaukti tam tikrą laiko intervalą neišduodami jokių TCP segmentų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Segment Lifetime (M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pie2 mi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uri užtikrinti tai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kurs segmento su tokiu eilės numeriu kaip ir esančio tink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 time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 tai, kad kažkurie seni duomenys nebūtų priimami kaip nauji ir nauji nebūtų priimami kaip senų dublika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F8C-8697-4A7D-8361-22F1168A73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 pusių rankų paspaudimo procedūra yra naudojama sujungimo sudary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iai ją inicijuoja vienas TCP ir atsako kitas TC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ocedūra taip pat veikia ir jei du TCP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vienu me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nicijuoja šią procedūr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 gauna SYN be ACK (jis praneštų apie SYN gavim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67E-E45E-498B-94B3-774ACD07A7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azinė susijungimo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--&gt; SYN-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&lt;--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=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&lt;-- SYN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&gt;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5E9-79A5-4191-B3A5-63A8EA65BA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 --&gt; &lt;SEQ=100&gt;&lt;CTL=SYN&gt;             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&lt;-- &lt;SEQ=300&gt;&lt;CTL=SYN&gt;              &lt;-- SYN-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CTL=SYN&gt;              --&gt; SYN-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--&gt; &lt;SEQ=100&gt;&lt;ACK=301&gt;&lt;CTL=SYN,ACK&gt;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 &lt;-- &lt;SEQ=300&gt;&lt;ACK=101&gt;&lt;CTL=SYN,ACK&gt; &lt;--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           ... &lt;SEQ=101&gt;&lt;ACK=301&gt;&lt;CTL=ACK&gt;     --&gt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47A-4E0A-4207-B594-1D345995CE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statymas po dubliuojančio SY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CLOSED                                    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100&gt;&lt;CTL=SYN&gt;      ..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plicate) ... &lt;SEQ=90&gt;&lt;CTL=SYN&gt;         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&lt;-- &lt;SEQ=300&gt;&lt;ACK=91&gt;&lt;CTL=SYN,ACK&gt;  &lt;--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91&gt;&lt;CTL=RST&gt;               -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BC5-3727-44CD-A39C-608A5775EE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 ... &lt;SEQ=100&gt;&lt;CTL=SYN&gt;               --&gt;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   &lt;-- &lt;SEQ=400&gt;&lt;ACK=101&gt;&lt;CTL=SYN,ACK&gt;  &lt;-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ESTABLISHED --&gt;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Q=101&gt;&lt;ACK=401&gt;&lt;CTL=ACK&gt;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085-7D5F-4E48-9395-B6959561D1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siau atviri 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iau atvir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jei vienas iš TCP uždarė ar nutraukė susijungimą savam gale be pranešimo kitam TCP arba jei abu tampa desinchronizuoti dėl atminties problem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e susijungimai yra priverčiami restartuoti jei tik bandoma persiųsti duomenis kažkuria kryptim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usiau atviri susijungimai skaitomi retais ir atstatymo procedura yra lengvai įtrauki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90C-1AD6-4282-914F-68BA5D5B95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protokolas informaciją siunčia bei priima įvairaus dydži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protokolas TCP protokolui užtikrina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būd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išsiunt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gav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virš TCP galvutės įdėdamas IP datagramos galvut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galvutėje nurodomas šaltinio bei paskirties punkt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IP adres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 IP rūpinasi paketų fragmentacija, jų perdavimu komunikaciniais tinkl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57B-9E90-4580-A5E6-58011D858A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300,receive 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CLOSED     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?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(!!)     &lt;--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&lt;--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bort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SYN-SENT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usiau atviras susijung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8BE-7D5A-4166-BEEF-75D705F7AD6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nd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receiv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??)    &lt;--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=10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&lt;-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   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    --&gt; (ABORT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ktyvi pusė iššaukia pusiau atviro susijungimo nutrauk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1F3-0742-4B39-9C38-5E5ED7BE77A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už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i trys atve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icijuoja susijungimo nutraukimą perdu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struk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icij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tol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ųs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trolės signa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artotojai vienu metu vykd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487-1205-4735-980E-83A83FFAA05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vartotojas inicijuoja uždar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tvej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konstruojamas ir įdedamas į išeinančių segmentų eil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vartotojo nebepriimamos funk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uris įeina 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ėmimai yra leidžiami šiame būvyje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si prieš tai einantys segmentai ir segmentas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išsiųsti pakol bus sulauktas patvirti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imą(FIN-WAIT-2) ir at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ės patvirtint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š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ę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jo gavimą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ne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ol jo vartotojas irgi neuždarys  susijungimo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6AA-53F9-497A-A330-2D3D9622C53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:  TCP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gauna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 tink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eina iš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į gavę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tvirtinti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jį ir pranešti vartotojui, kad susijungimas yra uždar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s turi atsaky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kuri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likusių duomenų persiunt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aukia sav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virtinimo ir naikina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laukiama, tai po laiko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ou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sijungimas nutraukiamas ir informuojamas vartoto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D7C-F916-4592-AB6C-380EAA4E4D4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: 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bu vartotojai vienu metu uždaro jungtį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alaik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 abiejuose susijungimo galuose iššaukia pasikeit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visi segmentai (susikaupę prieš FIN) yra išsiunčiami ir patvirtinami, kiekvien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atvirtinti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susijungimo nutraukimą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kurį jis yra gav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, gavę patvirtinančiu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K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traukia susijungim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972-C219-4938-84A3-29B19B31221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--&gt;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FIN-WAIT-2  &lt;-- &lt;SEQ=300&gt;&lt;ACK=101&gt;&lt;CTL=ACK&gt;      &lt;--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WAIT   &lt;-- &lt;SEQ=300&gt;&lt;ACK=101&gt;&lt;CTL=FIN,ACK&gt;  &lt;-- LAST-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TIME-WAIT   --&gt; &lt;SEQ=101&gt;&lt;ACK=301&gt;&lt;CTL=ACK&gt;      --&gt;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9E8-D1BD-4D88-94B5-C14D6261269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... FIN-WA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0&gt;&lt;ACK=100&gt;&lt;CTL=FIN,ACK&gt;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ACK=300&gt;&lt;CTL=FIN,ACK&gt;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CLOSING     --&gt; &lt;SEQ=101&gt;&lt;ACK=301&gt;&lt;CTL=ACK&gt;      ... CLO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1&gt;&lt;ACK=101&gt;&lt;CTL=ACK&gt;    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1&gt;&lt;ACK=301&gt;&lt;CTL=ACK&gt;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TIME-WAIT                                            TIM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MSL)                                            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325-1672-4F25-BECC-FD3AF98A6EC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ango vald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surišta su tuo momentu laisva buferio sritimi naudojama šiam susijung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gaunama daugiau duomenų nei gali būti priimta, duomenys naikin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reikalingi pakartotini persiuntimai, apkraunamas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ant per mažus lango dydžius gaunamas per ilgas duomenų persiunti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C29-90E9-4299-A73E-FD154E5BDE7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aus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/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ftp://ftp.isi.edu/in-notes/rfc2616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skirtis, naudojama terminolog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unikacija (klientas, proxy, gateway, tunnel origin), pagrindinės taisyk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rametrai: versija, resursų identifikatorius, datos, laiko formatai, simbolių rinkinys, turinio kodavimas, persiuntimo kodavimas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tokolo parametrai:(Media Types,Product Tokens, Quality Values, Language Tags,    Entity Tags, Range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C8B-D15D-403F-9FBD-D4BB765C093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ąsa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vienos pusė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ąsają su vartoto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 aplikaciniu procesu, iš kitos pusės su žemesnio lygio protokolu – IP protokol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aplikacijų ir TCP užtikrin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eip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panašiais į tuos , kuriuos operacinė sistema teikia aplikaciniams procesams manipuliavimu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u fail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Jungties atidarymas, uždarymas, duomenų siuntimas, priėmim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TCP ir žemesnio sluoksnio: skaitoma, kad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echaniz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remdamiesi šie du sluoksniai gal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perd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 viens kit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C49-53BB-4E23-9E8D-11643C04E7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 pranešimas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ssage Types, Message Headers, Message Body, Message Length, General Header Field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a ir atsaky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quest, Request-Line, Method, Request-URI, The Resource Identified by a Request,Request Header Fields, Response, Status-Line, Status Code and Reason Phrase, Response Header Fie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thod Definitions, OPTIONS, GET, HEAD, POST, PUT, DELETE TRACE, CONN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ūvio kod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 Status Code Definitions, Informational 1xx, Successful 2xx Redirection 3xx), Server Error 5x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TTP cach’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Caching in HTT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9B9-BFB4-46B3-977E-4907966E529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kslas yra užtikr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g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rand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p poros komunikuojančių proces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serviso palaikymo užtikrinimui mažiau patikimoje Interneto komunikacijų terpėj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alingi šie mechaniz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perd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o kontrol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tankinimo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mumo ir saug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82E-ACE9-43D3-B844-5690E68BC3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erd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rau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oktetų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i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ryptim, suskirstydamas srau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artais nori būti tikri,  kad visi TCP perduoti duomenys buvo perduoti. Tam naudojam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f-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sitikinimui, kad duomenys, kurie yra perduoti TCP iš tikrųjų yra perduoti gavėjui, vartotojas nurodo veiksmą “push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376-BF58-49AC-BED7-D657093A04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tikimu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y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gad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arasti, dubliuoti ar nusiųsti ne ta tvar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m persiunčiam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ait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teik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me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iš gavėjo reikalaujamas patvirtinimas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ACK nėra gaunamas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laiko intervale, duomenų persiunti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kartoj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imas dar negarantuoja kad duomenys pristatyti galiniam vartotojui, o tik tai, kad priimantis TCP apsiima šią atsakomyb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o taške eilės numeriai naudojami priėm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išku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laikyti, nes duomenys gali būti gaunami ne ta tvarka, be to gali atsiras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blika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ugadinimui išvengti naudojam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s tikrinamos priėmus segmentą ir sugadinti segmentai yra naikinam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6D8-2250-4B24-9EA0-98FFEB20EB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kontrol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riemonę kuri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vald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siųstą informacijos kiek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ACK yra grąžinamas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dydis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"window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indikuoja tą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eilės numerių interva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s gali būti priimtas po paskutinio priėm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ro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iek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os siuntėjas gali pasiųsti prieš gaudamas sekantį lei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896-0B3E-4FB4-A5C3-47B61383EE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0:10:04Z</dcterms:created>
  <dc:creator>Kristina</dc:creator>
  <dc:description/>
  <dc:language>en-US</dc:language>
  <cp:lastModifiedBy>Kristina</cp:lastModifiedBy>
  <dcterms:modified xsi:type="dcterms:W3CDTF">2004-10-06T08:15:24Z</dcterms:modified>
  <cp:revision>58</cp:revision>
  <dc:subject/>
  <dc:title>TCP</dc:title>
</cp:coreProperties>
</file>