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254-41F8-4919-B634-B1E61652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1C7-17C7-459E-A4EC-949C4F40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BBD-BD83-469F-BC07-B361DFCD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DD5-FD22-4F6C-9CCA-25AA6F98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47E-50F1-4C70-9E9F-48D560E0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93A1-B068-4D4F-AD83-C1D5CFCE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717-BA82-43D3-B5DE-6E3F6BB6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E7C-4058-4CF2-AFFC-3C7A506A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2BB-90B4-45D3-89BC-698493B5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7AD-9EAB-4BA1-B272-43395654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A04-B373-47DD-9546-A5BFDF21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8B0-18C4-428F-837F-4CFA9E35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03EA-8166-45CA-9D44-9160E5BFF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arby.daemonnews.org/episode.php3" TargetMode="External"/><Relationship Id="rId2" Type="http://schemas.openxmlformats.org/officeDocument/2006/relationships/hyperlink" Target="http://darby.daemonnews.org/episode.ph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4097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3760" y="502884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2 skyr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762120"/>
            <a:ext cx="4875840" cy="1904400"/>
            <a:chOff x="990720" y="762120"/>
            <a:chExt cx="4875840" cy="1904400"/>
          </a:xfrm>
        </p:grpSpPr>
        <p:sp>
          <p:nvSpPr>
            <p:cNvPr id="44" name=""/>
            <p:cNvSpPr/>
            <p:nvPr/>
          </p:nvSpPr>
          <p:spPr>
            <a:xfrm>
              <a:off x="990720" y="762120"/>
              <a:ext cx="4875840" cy="190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90720" y="762120"/>
              <a:ext cx="4875120" cy="1904040"/>
              <a:chOff x="990720" y="762120"/>
              <a:chExt cx="4875120" cy="190404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990720" y="762120"/>
                <a:ext cx="4874400" cy="1903680"/>
                <a:chOff x="990720" y="762120"/>
                <a:chExt cx="4874400" cy="190368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990720" y="762120"/>
                  <a:ext cx="4874400" cy="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990720" y="762120"/>
                  <a:ext cx="4874400" cy="1903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u="sng">
                      <a:solidFill>
                        <a:srgbClr val="ccccff"/>
                      </a:solidFill>
                      <a:uFillTx/>
                      <a:latin typeface="Verdana"/>
                      <a:hlinkClick r:id="rId1"/>
                    </a:rPr>
                    <a:t>  </a:t>
                  </a:r>
                  <a:r>
                    <a:rPr b="1" lang="en-US" sz="7300" spc="-1" strike="noStrike">
                      <a:solidFill>
                        <a:srgbClr val="ffffff"/>
                      </a:solidFill>
                      <a:latin typeface="Verdana"/>
                    </a:rPr>
                    <a:t> 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Verdana"/>
                    </a:rPr>
                    <a:t>                                       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990720" y="762120"/>
                <a:ext cx="4875120" cy="190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" name="sourcewars" descr="Go to this week's installmen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887400"/>
            <a:ext cx="4952880" cy="40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6F9-F05A-4554-9B09-D198F5D039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rute-force lo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miamasi tais pačiais metodais kaip ir atspėjant slaptažodžius tik dirbama greičiau. Tikslas – greit rasti veikiantį prisijungimo vardą – slaptažodį kol ataka neužfiksu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aip priešpriešą šioms atakoms galima naudoti prisijungimo užrakinimą(po kelių nesėkmingų prisijungimo bandymų) – galima sulaukti DoS tipo atak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9B29-9C5C-447E-B1E2-901E31561F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k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eš slaptažodž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negali atspė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ug informacijos apie jus turintis žmogus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sudaryti apie pusę milijono spėjinių per sekund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kos naudojant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odyn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i kitus triukus, kuriuos mums atrodo kad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k m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ame sugalvoj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vyzdžiui: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 daugelį filtrų, taiko perstatymus mėgindama atspėti slaptažodį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AB8-D4B1-4F6C-A8C3-9514D57128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Slaptažodžio nulaužimas (crac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efektyvesnė priemonė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statant slaptažodžius, nepadeda logino užrakinimas, nes vykdoma off-line principu. Programos dirba su tam tikrais dump failais, kurių išgavimas iš sistemos vykdomas naudojant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uferi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erpildym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takas prieš sisteminio lygio serverio proce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to tipo ataka reikalauja, kad atakuotojas turėtų tam tikras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iėjim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eises sistemoje – tai gynyba ir susiveda į privilegijų bei teisių, kurias turi vartotojai valdy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čiau tokie įrankiai, kai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Lp0phtcrack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LC3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Joh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The Ripp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darė slaptažodžių nulaužimo procesą labai trivialiu, todėl vartotojai turėtų naudoti tokius sunkiai nulaužiamus slaptažodžius, kuriuose būtų simbolia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"@&amp;#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377-CF30-4E5F-87A8-AE3050D5F4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  <a:ea typeface="Arial"/>
              </a:rPr>
              <a:t>password sniffin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laptažodžių gaudytojas gali gaudyti slaptažodžius iš tink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 daroma su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ndows password hashe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lnet ses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HTT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formacija – kai ji keliauja nešifru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TP, e-mail PO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MAP prot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i taip pat nėra apsaugoti nuo šio tipo atak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saugai siūloma naudoti SSH vietoj Telnet, saugų FTP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O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laptažodžių gaudymas nereikalauja aukštų privileginių teisių, normalus lokalaus administratoriaus loginas laptope gali būt pakank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7DD-2F7F-4C6A-85CE-354EC023FE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niff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eidži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žin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mbinacijas ir kitus duomenis iš daugelio(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text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atviro kodo protokolų, tokių kaip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TP, Telnet, SMTP, HTTP, POP, poppass, NNTP, IMAP, SNMP, LDAP, Rlogin, RIP, OSPF, PPTP MS-CHAP, NFS, YP/NIS, SOCKS, X11, CVS, IRC, AIM, ICQ, Napster, PostgreSQL, Meeting Maker, Citrix ICA, Symantec pcAnywhere, NAI Sniffer, Microsoft SMB, Oracle SQL*Net, Sybase, and Microsoft SQ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A373-AF03-4AB1-8DA7-1590249DC7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apsisaugoti nuo tokio tipo atakų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nif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alauja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inė sąsa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btų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iscuo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modoj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keriui reikaling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’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isės slaptažodžių gaudym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isaugant reikės taip apsaugoti sistemą, kad hake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ė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imti root’o teisi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šrutizator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e sumažina riziką, kadangi hakeris galės vogti –sniffinti tik vieną hostą iš kiekvieno sukompromituoto hosto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119-A932-4B62-95BB-18861C294E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laugi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 įrang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ui siūl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mi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 slaptažodį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e gali būti pavogiami iš sistemo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zik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ui yra tokio laipsnio, kokio laipsnio prieinamumu ta sistema pasižym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ugoti slaptažodžia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bū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odomi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viru tekst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nt specialius šiam tikslui skirtus įrankius ( jų paskirtis gali būti -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ė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ui, ku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e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siminti slaptažodžio po to kai nebenaudojo jo kelis mėnesiu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1E1-5843-4D07-A7DB-7B80CAF6DA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ų įsim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Jei juos užsirašote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 ir ka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os užsirašo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siraš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t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 patį slaptažodį, o tik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zę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 padeda atsiminti slaptažodį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f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i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vo schemą slaptažodžiams įsimint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DF9-CFFD-4A29-AB14-883821093D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trpriemon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je reikia sukurti priimtiną slaptažodž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ką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test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 su slaptažodžių nulaužimo 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kia įdiegti įrankius, kurie tikrina slaptažodžius, kai jie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i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– Npassw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er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s kažk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 keisti slaptažod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 kaupti sen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380-0AF8-4971-BEB8-A0EBDC53A4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sistemų naudoja </a:t>
            </a: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hadow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, tai hakeriams teikia šiokių tokių sunkumų prieinant prie jų, nes slaptažodžiai yra šifruoti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ma NIS+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čiau jei 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a nesaugi 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gai sukonfigūruota NIS+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, tai pažeidžiamumas išlie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C8F-43CD-4FA7-BCD6-542D744D0C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 ir id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etodai, kurie leidžia įsitikinti, kad vartotojas iš tikrųjų yra tuo, kuo prisistato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v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sutapatinimas, tapatybės nustaty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p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virtint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tikrinimu pagrįsta identifik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, kad vartotojas galėtų pasiekti resursą, turi būti nustatyta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tai tikrai tas individ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 jis prisistato, ar jis turi reikiamas liudijimus, ar jam bu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teiktos būtinos teisės/privileg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i tuos veiksmus, kurių jis užsipraš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6B7-243E-401B-B44D-CAC9C5B990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M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1995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Pluggable Authentication Modules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autentifikacinis  metodas, kuris duoda administratoriui galimybę valdyti vartotojų prisijungimus ir tai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p jie save autentifikuo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stemos administratorius gali įjungti naujus autentifikavimo metodus instaliuodamas naujus PAM modulius ir keisti autentifikavimo politikas redaguodamas konfiguracinius fai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m sistema vartotoj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ų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entifikavimui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 leidžia naudoti 7 skirtingus būdu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/key, OPIE, opie_access, a cleartext password, Kerberos IV, Kerberos 5, and the traditional Unix password authentication system.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freebsd.org/doc/en_US.ISO8859-1/articles/pam/index.htm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onlamp.com/pub/a/bsd/2003/02/20/FreeBSD_Basic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AD8-0272-40CD-8257-A816D26A5C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-faktorė autentifik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6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e sistemose naudojama kelių autentifikavimo priemonių kombinacij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ninė bankininkystė bei 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sl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 ar smart kortelė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-1864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šk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do savo token/smart kortel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-1864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jis vienas žino savo kortelė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uoj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em metod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o ką jūs turite ir tuo ką jūs žino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0C2-9C16-4184-B7F9-601E85DE43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entrinis serveris autentifikuoja vartotoją 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serveris bei “smart” kortelė–žino slaptą raktą, serveris gener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sitikti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kaičių, jį šifruoja slapto rakto pagalba, “smart” kortelė žinodama slaptą raktą dešifruoja šį skaičių ir siunč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g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sitiktinį skaičių, jei jis sutampa su sugeneruotu – vartotojas autentifik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tais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entifikacija, kai iš vartotojo pusės taip pat generuojamas atsitiktinis skaičius, jis koduojamas ir siunčiamas serveriui kartu su dešifruotu skaičiumi, o serveris irgi turi gražinti dešifruotą skaičių – </a:t>
            </a: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aip autentifikuojamas server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A3A-4285-4BB1-8DB3-CDD4A94477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 generuojam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tel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os, arba vartotojui pateiki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ąraš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kartinių slaptažodžių, kuriuos jis turi iš eilės naud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strategija naudoti slaptažodį tik vieną kartą, tai jei jį sužinos, j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oks slaptažodžių panaudojimas yra tikslingas Interneto konteks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235-E54B-40B4-BFBA-733D661719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c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aro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kartinia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 slaptažodį įjungiama užšifruota laiko žymė (encrypted timestamp) – taip elgiamasi KERBEROS metode. Kadangi negalima pakeisti laiko žymės nežinant slaptažodžio, sunku juo pasinaudoti.  Šiam metodui deja reikalingi du dalyk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eciali klientinė programa, sugebanti į slaptažodį įjungta laiko žy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alinga gera sinchronizacija tarp kliento ir serverio, priešingu atveju ateinantis slaptažodis bus arba jau negalimas arba dar negali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472-18A6-4C39-BF31-C9E8EA64F6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s būdas padaryt tradicinius slaptažodžius vienkartiniais naudojant sistemą klausimas-atsakymas(challenge-response system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ai autentifikuotam vartotojui būna iš anksto žinom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ai iš anksto duoda slaptažodžių sarašą, o jūs po prisijungimo paprašo įvesti n-tąjį skaiči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C16-6D5C-46F7-BE3D-890A50A750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acij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 dažn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atsitiktin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ų seka, jie dažnai yra įdiegia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ė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oje. Naudojant vienkartinius slaptažodžius, kuriuos pateikia techninė įranga, gali kilti problemų s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uotos laik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telės generuoja naują slaptažodį kiekvienu specifiniu laiko momentu, tą patį daro ir serveris. Reikalinga gera sinchronizacija su serverio laik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997-D7CC-4931-BEDF-E889977768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metriniai įrankiai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s turi būti identifikuojamas ne pagal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ką jis/ji žino”, bet pagal tai “ kas būdinga jam/j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ą įgalina padaryti biometrinė (biometric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ybė automatiškai atpažinti asmenį naudojant pirštų antspaudus, pagal veidą, akis, balsą, rankos geometriją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inį parašą ar spausdinimo manierą.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365-D96E-46FD-9B26-1D6E6ECE5B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la, bet biometrinės sistemos vis dar netinka panaudojimui Interne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 daugiau šansų teikia technologija, pagrįsta “balso antspaudu” – kompiuteriai turi mikrofon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ai tarp klavišų paspaudimų gerai charakterizuoja individualią spausdinimo manier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E44-D7F8-47D0-A1C7-F239F62CEF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 slaptažodžiai turi būti naudojami kiekvienam organizacijos kompiuteriui tikslu apsaugoti priėjimą prie BIOS konfigūracinių utilitų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tin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 slaptažodž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iekvienam kompiuteriu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uliariai juos kei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iuterių BIOS slaptažodžius reikia laikyti saugiame saraš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ems kompiuteriams turi būti nustatyta, kad jie pasikrautų tik iš kieto disk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ia patikrinti ar kartais negalima įeiti su backdoor slaptažodž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iuterinės dėžes reikia užrakinti, užrakinti kambarius, kai nieko nėr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33C-A624-4133-AD8D-31EB57D068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vimas remi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as būdinga individu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ą individas žino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ą individas tur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6A8-574E-4A8A-B2A9-5CF5A85B73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prendžia kokius koki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rs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ributus gali naudoti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os esyb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avyzdžiui vartotojai, aplikacijos, sistemos) kurios prieina prie informacijos šaltinio turi turėti atitinkam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s į šį resurs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reiškia leidim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CFB-F5A1-44AC-95D2-0CAB3F3A38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suteikia galimybę kontroliuoti vartotojų veiksm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turi būti paremta mažiausių privilegijų princip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igų atskyrim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ks žmogus negali atlikti vienas viso proces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idėję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kaitomum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ministratoriaus log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1F5-C79B-490C-B82D-A3C7A50115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inam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galimybė matyti resursą ir rinkti informaciją iš / apie šį resurs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yra galimybė naudoti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kaci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keisti tą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ūr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kurti naują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met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išmesti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y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pakeisti resurso autorizaci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11F-8F20-4D63-AFD3-A21D665A29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kompiuterinių sistemų yra sukonfigūruotos taip, kad jos naud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us kaip pir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intelę gynyb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psaugos lin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otojo autentifikacijos( procesas individo identiškumui patikrinti) schemoje yra naudojami vien ti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o prisijungimo vardas ir slaptažodi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oma prielaida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itinkamas vartotojas žino slaptažodį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, paremta </a:t>
            </a: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o, ką jūs žinot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140-E2AC-4A75-8100-1C155C4FFF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 problem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laptažodž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buv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leidžia laisvai prieiti prie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onfidencial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duomen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dažnai pasiren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engv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simenamą slaptažodį, - vardą, gim metus Gaila, tačiau tokie slaptažodžiai labai papras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lauži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atspėjami) panaudojant specialias progr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vartotojas pasiren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dėtin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laptažodį, jis dažnai j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siraš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rba sukuria komandinį failą, kad nereikėtų jo įvedinė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liekami sistem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dieg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etu naudoti arba demonstracinėms versijoms taikytini slaptažodž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D10-A7D3-4434-802D-72FB699F8D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ai  yra pažeidžiam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jie dažnai yra perduodami tinklu </a:t>
            </a: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tvir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kst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(TELNET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esant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nkama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rsų kiekiui (žinių, įrankių, kompiuterinių pajėgumų) jie gali būti atspėti ir nulauž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grobti slaptažodžius keliaujančius tinklu pasinaud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a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A62-5C12-4BF5-A9D9-78A407F73E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ažniausiai sutinkamos atakos, nukreiptos prieš slaptažodžius, t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laptažodžio atspėjim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ute for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niff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CF1-4377-4DCE-A2C0-947CBEE4E2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kompromit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laptažodžiai vienas iš dažnai pasitaikančių sistemos pažeidžiamum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yra nerūpestingi su savo PIN, slaptažodžių politika yra sunkiai įdiegiama, atakuotojai turi daugybę įrankių, leidžiančių pažeisti slaptažodž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akuotojas, įgavęs slaptažodį įgyja ir vartotojo te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rganizacija turi šviesti, mokyti savo darbuotojus laikytis saugos politikos, o taip pat imtis tam tikrų priemonių apsisaugant prieš slaptažodių ata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9C3-A3F5-4616-913E-85E5175C28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Slaptažodž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laptažodžiai įvedami ranka arba naudojant programines priemones. Yra daug tokių programų, kurios yra įvairaus sudėtingumo, bandomi įvairūs variantai, remiamasi žodyn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gali būti atliekama prisijungus – on-line režime  arba dirbama su turimais duomenimis off-line – neprisijungus prie sist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EAD-4D18-4480-87EA-FCDC9D255A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8:06:56Z</dcterms:created>
  <dc:creator>Kristina</dc:creator>
  <dc:description/>
  <dc:language>en-US</dc:language>
  <cp:lastModifiedBy>Kristina</cp:lastModifiedBy>
  <dcterms:modified xsi:type="dcterms:W3CDTF">2004-09-15T08:15:08Z</dcterms:modified>
  <cp:revision>7</cp:revision>
  <dc:subject/>
  <dc:title>Slaptažodžiai</dc:title>
</cp:coreProperties>
</file>