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1868-2A09-4C53-A4B8-CFBE674AB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8835-7D8E-4749-A796-7D394A27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04C3-6E64-4312-881E-564AD319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EEA5-36AE-4C50-9424-64B1FA57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BB4E-A934-4F93-9869-F5DE70A3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BC58-4936-4FAC-B17E-494F55E8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B801-B187-4A80-B5F9-E38BBB3E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60A4-EF52-48E4-B558-9569E285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9B26-BBAD-4BEC-A6EA-871BE92C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25A8-C999-4181-AC91-88A462F5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F0CE-B9AC-4BAD-82A1-A0FA5753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0E09-8766-4B9A-9932-02FCCA2E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E06C-BA25-4AA9-8C09-5E89CE893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81480" y="487656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13 paska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file2546657_datori2" descr=""/>
          <p:cNvPicPr/>
          <p:nvPr/>
        </p:nvPicPr>
        <p:blipFill>
          <a:blip r:embed="rId1"/>
          <a:stretch/>
        </p:blipFill>
        <p:spPr>
          <a:xfrm>
            <a:off x="457200" y="0"/>
            <a:ext cx="594360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CA4C-93C9-460B-8C5C-2C8F12460D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ita dokument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/software inventor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zac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inkl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polog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sakingi asmeny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el Nr nenumatytiems atveja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n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D363-938A-4231-B169-A33B1B9F0B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odėl reikalingas saugos audit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cija yra gal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o tikėtis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uoj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ikos suderinamumą su realyb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kų rizik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amp; 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go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g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akų įnešamą sugriovimų laipsn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daro tinkamus atsak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į saugo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n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DFD9-3175-452A-A1C8-7FBCC29988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dėl reikia atlikti tinklo auditą?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os saugumo auditas – tai rim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daug žinių reikalaujantis proce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as dažnai nepraneša 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rų žin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us panaikina jūsų iliuzijas apie jūsų tinklo saug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a yra sunkus darbas jį vykdant ir sunkus procesas išaiškinant pašaliečiams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</a:rPr>
              <a:t> A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ditas </a:t>
            </a:r>
            <a:r>
              <a:rPr b="1" i="1" lang="lt-LT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šališkai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įvertina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jūsų 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ižiūrimo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tinklo saugą </a:t>
            </a:r>
            <a:r>
              <a:rPr b="1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adovybės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aky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itas kuris pasako jums tik tai, ką jūs jau ir taip žinote nėra daug ver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8C84-43C4-4875-94F0-3A38C8734A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as dažnai yra reikšmingas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, n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ų pir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is duod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šališk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žiūrį į jūsų tinklą, kurio neįtakoja nei vidinė politika, nei tvarkaraščio ribojimai, resursų limitai ar jūsų organizacijos žinių lygi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r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uditorius t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lią metodologij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rinėjimų atlikimu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čia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ditorius turi 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kirtingą perspektyv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Geras auditorius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ūna išanalizavę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šimt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 šimtus tinklų , yra matęs problemas ir sprendimus, apie kuriuos jūs gal nežino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2E42-C226-47DC-8866-A6985FD3CB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dito aspektai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09680" y="1523880"/>
            <a:ext cx="6096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nklo diza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nklo įdieg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Hostų sistemų architektū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Hostų sa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izinė sa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tatymas po nelaimė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cesai ir procedū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akymo laikai sprendžiant problem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agavimas į kritines situaci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Elgsena nedarbo valan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BA13-9A90-47C2-B8E9-DD9FA659CE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Metod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liekant auditą kertinis akmuo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osofin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žiūri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, kuri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ikomas matuojant tinklo saugumą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oli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igūracijo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izė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A8E4-0925-4469-B4C3-143A6AD30A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uol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itorius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ai atakuoja tinklą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į testuoda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olamoji 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tika 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aidimas tipo “užgrobti vėliavą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i auditorius sugeba užgrobti vėliavą – tai yra puolamas tinklas yra pakankamai sukompromituojamas nors jūs bandėte tam užkirsti kelią – taigi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las neatlaiko test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F86C-8DB1-41F3-8A8C-8E104D21CF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 tipai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Zero-Knowledg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uolimas ( puolimas nuo nulio). Auditorius žino tik taikinį. Visa kita informacija kuri bus panaudojama puolime yra auditoriaus surenkama. Tai modeliuoja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ataką visiško prašalieči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iš išorės). Šis audito tipas užima daug laiko ir brangiai kainuo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rtial-Knowledge puol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puolimas su dalinėm žiniom). Auditorius nemažai žino apie taikinį: DNS IP numerius, telefonų numerius serverių, palaikančių “dialin”, e-mail, proxy-serverius ir t.t. šis audito tipas yra tikriausiai pats bendriausias ti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F834-52AF-47F7-969D-FBFD5CA840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Full-Knoledg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uolimas. Tai atakuotojas su pilnu tiklo žemėlapiu, administratoriaus slaptažodžiais ir visa kita ką jūs galite jam pasiūlyti. Šis auditas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modeliuoja ataką iš vidaus, žinančio žmoga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Jei jūsų tinklas gali išlikti po tokios rūšies audito, jis turi įspūdingą saugumą. Tai gali reti tinklai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Zero-Effect puol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nulinio efekto). Uždedami suvaržymai auditoriui, apribojančiam jį nuo naudojimo atakų, kurios galėtų modifikuoti puolamą sistemą arba sužemintų puolamos sistemos serviso lygį. Tai panašu į auditą produkciją gaminančios sistemos, kai jūs norite pratestuoti, tačiau nenorite trukdyti produkcijos gamyb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D20B-E41B-4706-AB02-0134F9B4A7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dito tip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Full Penetratio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Auditoriui leidžiama modifikuoti sistemą, jei tuo galima įrodyti kad puolimas galimas, nesvarbu kaip tai atsilieps puolamai sistem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o-Holds-Barred Penetratio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Bet kokia technika kuri gali būti panautota yra leistina atakuotojui. Gali būti naudojami kyšiai, socialinė inžinierija, dokumentų vagystė, popieriaus skiaučių tyrinėjimas ir ki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ED8B-6C8E-4CB1-ACFA-ECC31E354D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ėra garantijos, kad tiriamas tinklas bus saugesnis nei netiriamas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dėl reikalingas tinklo audi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 tip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s turi būti matuojama audito me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s turi atlikti audit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kiami rezultat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D62B-9845-493D-8FDE-A7C7C6129B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Teigiamos pusė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ėkmingas puol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grafišk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tvaizduoja tinklo proble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tuo padidind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finansavimo šansus papildomam tinklo saugum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Ribotas puol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 nustatytais tikslais ir ribotom atakos priemonėm yra priimtinai nebrang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-holds-barred puol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artimai panašus į tą būdą kuriuo atakos yra daromos reali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86E4-2E13-435D-B021-327CC57068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Trūku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uol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daugiau matuoj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uditoria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antrybę b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manu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ei matuoja gynėjo kruopštu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uo kruopštesnis yra audito tipas tu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nkiau yra jį suplan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Puolimas reikalauja, kad silpnos vietos būtų nustatytos ir ištirtos, ir reikės keletos tokių ciklų tam kad būtų pasiektas puolimo tikslas. Iš anksto sunku pasakyti kiek laiko tai uži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pribojimai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uriuos jū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uždedate auditoriu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šio tipo audite gali būti būtinais jūsų tinklo apsaugai, bet jie gali duoti nukrypimą nuo realaus atakuotojo pasiekiamų rezultatų ( kuris veiks be apribojimų). Tai gali sukelti iliuziją, kad jūsų tinklas yra saugesnis nei iš tikrųjų y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E56B-B512-40A7-8E77-B358A5B596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rūku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odugnus puolimas reikalauja kad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uditorius modifikuotų tinkl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 backdoors( kaip realus atakuotojas). Tai pakeičia sąlygas ir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mažin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jūsų tinklo saugumą. Kadangi audito tikslas yra padaryti tinklą saugesniu, jūs turite susitaikyti su saugumo susilpninimo idėja kaip dalimi proceso pagerinančio jūsų tinklo saugu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s audito tipas reikalauja kad jū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priai pasitikėtumėte auditoriu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udito gale auditorius turės daug jautrios informacijos apie įėjimą į jūsų tinklą. Jūs turite pasirinkti tokį auditorių kuriam galite patikėti tokią informaciją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9F1D-FA04-431E-94A3-09EA08349B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 išvad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i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aportas apie sėkmę ar nesėkm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etalus aprašymas kokio tipo atakos pasisek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ali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etalus aprašymas išmėgintų atakų tip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etalus aprašymas atakų, kurios nebuvo išmėgintos dėl uždėtų auditui apribojim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prašymas saugos spragų, kuriuos pastebėjo auditori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simali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ūlomi konfigūraciniai pataisymai arba programinės įrangos atnaujinimai, kurie eliminuotų arba minimizuotų problemas pastebėtas audito metu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A1E7-5F7E-4144-BB67-3238973A09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igūracinė analizė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uditas yra </a:t>
            </a:r>
            <a:r>
              <a:rPr b="0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džiai detalizuotas revizijos sąraš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ekvienas saugumo aspektas yra egzaminu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mas pagal tikrinimo sąrašą ir blogas stovis yra fiksuoj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ei rastas problemų skaičius ir jų aštrumas yra pakankamai žemas, tinklas auditą praein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i yra perdaug problemų, tinklas fiksuojamas kaip nesaug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9C2A-E2D6-4CEE-81AE-D34BA44B3C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onfigūracinė analiz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udito tipas reikalauj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ilno priėjimo prie tinklo galimyb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ilno tinklo žinojimo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Knoledg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aip kad puolamojo audito atvej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dangi tai nėra puolimo tipo auditas, iš auditoriaus nereikalaujama pralaužti tinkl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a gera šio priėjimo pus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ta, kad matavimai gali būti atlikti pilnoje jūsų priežiūroje.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a gera pus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ta kad matavimus yra lengviau suplanuoti nei puolimo eig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1A09-FFE3-4C7E-9BF8-37CD023368D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dito etap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us turi perprasti tinklo dizainą ir konfigūraciją taip pat gerai kaip ir sistemos tiksl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i būti sudaromas audito tvarkarašt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avimai ir duomenų surink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ik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rinkti pakankamai informacijos iš kiekvien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nklo komp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nt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istų atlikti saugumo analiz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i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Yra apklausiami žmonės atsakingi už įvairias operacijas ir tinklo saugą taip pat kaip ir tinklo vartotoja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omen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iz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Surinkti matavimų bei interviu metu duomenys yra analizuojami ir sudaromas tinklo saugumo vaiz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4C4D-D9BC-4FC4-86B4-806A8F2D065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di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uomenų rink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okalbiai su žmonėmis-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terv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ent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cijos apžvalg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Log įrašų tyrim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is tyrimas, matavim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D03E-567F-44FF-8BDC-C929F5B0B20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okalbia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nku nusakyti, lengva padaryt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žnai ignoruojam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ai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a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ysadm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dybininka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r žino – matė saugos politik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 jiems galima/ kas ne jų žodži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r jiems prieinamos root teisė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m naudojama sistema, kokie kritiniai sistemos tašk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1FB7-A3CD-4D5E-AFB9-F6DC6C066FA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menta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 apžvalg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/software inventor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zac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inklo topolog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 tinklo sandara, maršrutizatoriai, ugniasienės, serveria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Maršrutizatorių / ugniasienių taisyklė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Log įrašai, jų rinkimo taisyklė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n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E436-239F-47C5-863C-C12D79E09A5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oceso ei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likite tinklo </a:t>
            </a:r>
            <a:r>
              <a:rPr b="0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uditą </a:t>
            </a:r>
            <a:r>
              <a:rPr b="1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ty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atestuodami viską kas jums atrodo reikalin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utvarkykit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rastas probl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kvieskite </a:t>
            </a:r>
            <a:r>
              <a:rPr b="0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uditorių iš išorė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leiskite jam atlikti testavim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utvarkykit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rastas probl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ą šį procesą užbaigus turėsite </a:t>
            </a:r>
            <a:r>
              <a:rPr b="1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erai apsaugotą tinklą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FC8C-1FEB-4820-94DE-7A375D7F3C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Matavi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uri būti sudaromas matavimų pl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s turi būti suderinamas su organizacijos atstov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atavimo įrankiai turi būt patikimi, jų kodai turi būti patikrin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krinama, siekiant įsitikinti, ar tinklą gerai saugo ugniasienės, ar nėra skylių programinėje įrangoje, ar gerai fiksuojamos problemos log įrašu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7BC6-CDD5-426F-B6A8-F40FEA16D13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Fizinė sau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talpų sauga – ypač serverių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s gali įeiti, ar yra registracijos žurnalai, kas turi rak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riėjimas prie hostų, serveri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ip paliekami kompiuteriai pertraukų met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psauga patalpų nuo stichinių nelaimi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4390-5FA5-4689-A253-3830A7A98E4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Rapor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orto ruoši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Yra paruošiamas detalus raportas aprašantis tinklą ir visus trūkumus ar potencialius trūkumus, kurie buvo atrasti analizės eigoj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orto pristaty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Raportas pristatomas tiriamai organizacijai su trūkumų aptarimu ir potencialiu galimu patvarkymu ar siūlomu dizaino pakeitim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729F-070D-4CE3-93CD-6589335C950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igiamos pusė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s audit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ruopštesn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uolamas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vertinamas sumanumas ir kruopštumas jūsų darbuotoj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Matavimai gali būti atliekami tiesioginėje jūsų priežiūroje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okiu būdu jūs žinote tiksliai kokia informacija apie tinklą buvo parodyta auditori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utoriza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gali būti garantuojama auditoriui tik duomenų surinkimo faze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būti auditas atlikt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 maža arba be jokios įtakos sistemos veikl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viau sudary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varkarašt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olimo atveju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E8C6-1816-4226-9EE9-78CFD2CDAD3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rūku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Daugiau išlaid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nei puolamo audito atvej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eikalauja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aukštai kvalifikuoto auditoria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, ne vien tik įrankius įvaldžiusio žmoga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eikalingas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platus matavi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omeny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imam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š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rganizacijos tinklo jų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dorojimui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8A85-9E2D-4F2E-AF43-5FB0F0D75F5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v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io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etalus raportas, aprašantis trūkumus rastus analizės me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a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iskusija apie tai kaip šie trūkumai gali būti ištaisyti ar išeliminuo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sima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nklo dizaino analiz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odymas šaltinių, iš kurių galima gauti atnaujintą programinę įrang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4BBB-8A0F-4767-B4E8-65084C9A184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 jūs tikitės iš aud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 supratus, jums bus lengviau pasirinkti auditorių ir jums seksis geriau su juo bendrauti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mto audito tikslas turėtų būti  - atskleisti įdomią ir išsamią informaciją apie jūsų tinklo saugu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mtas audit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 Kai kurie auditai nėra rimti, nors yra atlikti su deramu stropumu. Pavyzdžiu gali būti auditas, kurio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kalauja biznio partneriai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mt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dito metu siekiama atskleisti silpnas saugumo puses, kad jas galima būtų pataisy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uopšči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likto audito esmė yra parodyti, kad nėra rimtų silpnumų jūsų saugu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0255-310F-4647-B045-59DE34FB561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dito rezultat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 rezultati bus įdomūs tik tu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veju, jei jūs jų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žinosite iš anks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i jūs ruošiatės atlikti auditą, </a:t>
            </a:r>
            <a:r>
              <a:rPr b="0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ūs turėtumėte užtaisyti visas skyle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tada pažiūrėti, ką pasakys auditorius. Nerašyta audito žaidimo taisyklė yra ta, kad auditorius turi kažką rast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udito informacija turi būt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sa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 Jūs norite sužinoti n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 kas yra blogo su tinklo saugumu, bet norite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noti viską kas įmanoma apie j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Kuo daugiau įdomių faktų auditorius gali jums atskleisti, tuo jums geria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1610-31BC-4715-8D92-8B1CEDFC5D6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iškus problemos formul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žnai sutinkamas auditorių nepasitenkin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tai, kad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tojai nežin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 jie nor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t nenori kad jiems būtų pasakyta ką jie ga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Reikia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kirt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m laik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pateik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ai kurių minčių auditoriui, kaip pavyzdžiui apie matavim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kuriuos reikia atlikti, kokius tinklo elementus norima ištir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s iš to gausite didesnę naudą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AA41-CB06-4A4D-892F-E7EAED4DC63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ros sritys vertos dėmesio yr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ungtis tarp Interneto ir jūsų tink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ungtys tarp jūsų tinklo ir biznio partneri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iemonės kuriomis naudojasi jūsų darbuotojai nutolusiame ryšyje su darbo vie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dinė tinklo infrastruktūra (DNS serveriai, failų serveriai, pašto serveria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dinė specifinė-biznio infrastruktūra ( duomenų bazių serveriai, procesų kontrolės serveriai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rbalaukio (desktop) aplin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cesai ir procedū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lanai atstatymui po nelaimi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A973-354F-409D-A085-7F7389377C9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di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 u="sng">
                <a:solidFill>
                  <a:srgbClr val="000000"/>
                </a:solidFill>
                <a:uFillTx/>
                <a:latin typeface="Times New Roman"/>
              </a:rPr>
              <a:t>Tai susiję su </a:t>
            </a:r>
            <a:r>
              <a:rPr b="0" lang="lt-LT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mažom problemom, kaip pavyzdžiu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ip atlikti savo tinklo auditą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ą tikrint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s, jeigu problemos lengvai nepasitai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rasti auditorius iš išorės, kuriais galima būtų pasitikėti?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58FA-684B-49D1-9C08-DD6B6DA38E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as </a:t>
            </a:r>
            <a:r>
              <a:rPr b="0" i="1" lang="lt-LT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spektas audito yra žinojimas, kurios mašinos turi būti audituojamos ir kurios n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igūracinei analizei gal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sirink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letą skirtingų krypč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iklausomai nuo to , ką norite pamatuot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vyzdžiui jūs galite audituo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ovu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 visos mašinos duotoje grupėje prisilaiko, remiasi tais pačiais standartai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a jūs galite audituo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pnum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kant po vieną mašiną iš skirtingų grupių sulyginkite jas pagal kritinius saugumo rodikli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olam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dito atveju jūs norėsite atrinkti kuri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šin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eina už rib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igūracinė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alizės atveju tikriausia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eliminuos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š nagrinėjim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kartojanči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nfigūracijas tikslu geriau įtrauk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kali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nfigūracijas, kad gauti platesnę vaizdo perspektyvą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6EE3-2A24-492D-9DD3-CFDD3B5E8D9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Kas turėtų atlikti auditą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aus parinkimas daug priklauso nu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kl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kurį rengiamasi audituo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 jūs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žiūri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 to tinklo saugu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atyviai paprastiems tinklams daug kas gali atlikti naudingą ir funkcionalų auditą.  Ekstremaliai komplikuotiems tinklams jūsų pasirinkimas bus labiau ribot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u atvej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ūs turite pasirinkti auditorių iš šių grupių: </a:t>
            </a:r>
            <a:r>
              <a:rPr b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priklausomi konsultantai, saugumo firmos, ir audito namai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122A-F74E-4035-8AA3-D712BE24097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Auditą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ykdančio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organizacijos parink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eikia rinktis tokią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ciją, kur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gebė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likti tokio lygio auditą, kokio jūs nori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gebėtų apdor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chnines detales, kurios jums reikalin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ūtų patiki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ūsų duomenų požiūriu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ius formal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yšius su jūsų biznio partneriai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ius neformal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yšius su jūsų biznio partneriais ar galimais atakuotoj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319D-ABEB-4E42-9363-03BAE85E2EE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riklausomi konsultanta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tlingiausi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ditorių pasirinkimų skaičiumi grupė. Šie konsultantai gali būti diapazone nu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kščiausi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ipsnio saugumo ekspertų  iki atakuotoj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e žiūri kaip pasinaudoti kažkuria sistema bei tokių kurie turi parsisiuntę nemokamą įrangą arba pasiskaitę knyg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žvilgiu šių nepriklausomų konsultantų galima pasakyti, kad tie, kurie žino, ką jie daro yra dažniausia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ugais su tais iš “tamsios pusė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dant nepriklausomus konsultantus tenka susidurti su ta pačia praktika kaip samdan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ist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t kelian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ugiau reikalavim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jei tik gal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nformacijos neskleidimo susitarimai, šešėliniai patikrinimai, interviu yra svarbiu elementu ši</a:t>
            </a:r>
            <a:r>
              <a:rPr b="0" lang="lt-LT" sz="2400" spc="-1" strike="noStrike">
                <a:solidFill>
                  <a:srgbClr val="cc0000"/>
                </a:solidFill>
                <a:latin typeface="Times New Roman"/>
              </a:rPr>
              <a:t>uo atvej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E528-4F34-4AD9-8AF4-E88BC8F8403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ivalumai/trūku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rivalu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antykinai lengva suras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būti efektyvūs kainos atžvilgi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rtais galima rasti talent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rūku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tipriai svyruoja kokyb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tikimumas gali būti problematišk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nku garantuoti nuoseklumą ir audito standartų laikymąs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ma sulaukti paslėptos atak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 atsirasti neformalus kanalas atakuotojam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63B7-E0F2-434D-9E01-4E26A4B962B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os firm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ompanijos, kurios specializuojas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ugumo klausimuose. Jas gali sudaryti konsultatų grupė, bet dažniau jų audito grupė yra dalimi didesnio, su saugumu susijusio bizn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žniausia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vačios, bet kai kurio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ybinės ir valdymo organizacijos tur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 ir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dito grupe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naudojimas gamybinės organizacijos grupe gali duoti jums galimybę prieiti prie aukščiausio lygi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en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et jūs turite būti atidūs jei nenorite, kad audito rezultatai taptų tos grupė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k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nki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limi. ( paprastai , grupės kurios tai daro užtikrina gerą anonimiškumą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B1B7-FD59-4118-81C0-FA900CA5887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ivalumai/trūku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valu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tikras jų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biznis, tai kokybė turi tendenciją būti aukš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e tikriausiai jau yra jums padarę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šešėlin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atikrinimą. Ir jei jie to nepadarė, tai kažką sako apie fir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e tikriausiai yra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susipažin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naujausio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problemo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Ir jei jie tuo nepasižymi, tai pasako dar kai ką apie fir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rūku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žnai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turi per daug klient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ibotai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brangū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93E6-61C4-4247-BF54-F0609E787D0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 nama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edaug tokio tip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dito fir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Kai kurios iš jų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ur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es giluminiam saugumo auditavim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valu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tipriai detalus rapor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tiprūs metodologišk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rūku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uditavimo metodologija gali bū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epakankam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lanks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ad pasakytų jums tai, ką jūs norėtumėte sužino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ebūti taip techniškai pagrįst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aip jums norėtųs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rast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na brang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81B5-6078-40C3-A88C-89730935FC9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Reikalavimai auditori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ionalu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argu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as turi nekelti pavojaus ne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am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kl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uris yra audituojamas ne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trauktiems žmonėm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as niekad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li sugriau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ganizacij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kdomo servis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okiais atvejais išskyrus iš anksto numatytus bei tiksliai aprašytus leidimu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lnas atskleid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umo auditas gali būti susijęs su kartais keistu auditoriaus elgesi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us turėtų aprašyti bent jau bendrais bruoža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ą jis rengiasi daryti, jūs turite duoti tam sankciją geriau raštišką prieš jam padarant ką nors neįprast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76F7-AFD1-469A-B4FE-401D1F4C4DB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rai parašytas raportas ir puikus pristaty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us turi sukurti gerai apgalvotą raportą, kuris būtų suprantamas ir pateiktų gerai patvirtintas išvad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acija turėtų būti padaryta su galimybe paklausti auditoriaus detalių klausim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antija, kad jūsų duomenys bus traktuojami teising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eš prasidedant auditui jūs ir auditorius turite susitarti apie audito metu surinktų duomenų, arba iš jų išvestų duomenų saugojimą, panaudojimą ir dispoziciją. Auditorius turi labai stengtis laikytis šio susitarimo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iežtas konfidencialu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1258-1607-4B0B-83D8-1916E7942A1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as tas saugo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udi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 tikrinimas paremtas priimta saugos politika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 galimos rizikos įvertinim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 tinklo konfigūracijos tyrimas bei įvertin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io, saugaus funkcionavimo įvertinim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u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ų saugos įvertinima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3E07-3753-40E1-8539-B5979AF2C1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 tikisi auditorius iš jūsų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aus elgesio” laišk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ūs mokate auditoriui už kai kurių saugumo pusių testavimą. </a:t>
            </a:r>
            <a:r>
              <a:rPr b="1" lang="lt-LT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Jis turi būti protingai laisv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urėti imunitetą) nu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estavimo pasekmių. To užtikrinimui auditorius turi teisę prašyti raštiško patvirtinimo, atleidžiančio jį nuo kaltės už tai ką jūs arba jis susitarė leis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ratingas elgesy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ekvienas saugumo auditorius turėjo patirties, kai jis buvo sekamas iš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os darbuotojo, kuris laikė savo pareiga perspėti bendradarbius, kad prasidėjo audita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745E-32AF-483E-BE2B-DE83C3AECA7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sipareigojimų laikymas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varbu kiek išankstinių perspėjimų yra duota, auditoriai retai kada baigia auditą su visa informacija ar tomis priėjimo galimybėmis, kurios buvo žadėtos. Jei jūs pasakėte, kad išsiųsite kopiją savo saugumo politik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kančią savaitę, tai to reikia ir laikyt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ūs – paskutinės minutės pakeitim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tės, kai auditorius jau laukia jūsų ofise – tai ne laikas keisti žaidimo taisykles. Taip pat jūs turite pripažinti kad auditoriaus laikas kainuoja pinig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inis nepriklausomu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i jūs esate suinteresuotas rimtu auditu, tai reikia atminti, kad auditorius nėra ginklu prieš jūsų priešus iš kito skyriaus. Iš auditoriaus negalima tikėtis kad jis dalyvaus vidinėje jūsų organizacijos politikoje, o bandymas t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yti sumažins audito reikšm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C84C-1A84-456F-923A-7267814847C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turi būti atliekamas audita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yb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tariamas audito dydis ir tikslai. Grubus tinklo aprašymas yra pateikiamas auditori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audi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rieš audit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ankstiniai perspėjimai apie bet kokią r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lingą informaciją. Susitarimai apie audito tvarką ir priėjimą prie personalo bei dokumentacijos yra padaromi. Detalus tinklo aprašymas pateikiamas auditori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omenų rinkimas sistemoj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kle atliekami matavimai. Vykdomi interviu su pagrindiniu personalu. Daromi susitarimai dėl papildomos informacijos pateik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F48E-41AE-4621-B3AE-B95DEB1E51C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160" y="457200"/>
            <a:ext cx="79246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izė namuo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analizuojami surinkti duomenys. Gaunama papildoma informacija. Paruošiamas detalus raportas. Numatoma prezentaci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zenta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tu su suinteresuotomis grupėmis atliekama viena ar kelios prezentacijos. Galimi atsakymai į klausim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k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ūsų organizacija reaguoja į auditą adresuodama įvairius klausimus techniniam lygiui, kartais paneigiant auditoriaus išvadas, nors į jas reikia įsiklausyti kaip į galimo pavojaus ženkl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ęsiny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us gali atlikti papildomus matavimus siekiant įsitikinti, kad organizacijos priimti sprendimai buvo teising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6FAD-7C7D-47B9-9FEB-8134F05213B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 rezultat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ikia sudary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detal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eiksmų plan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agal nurodytas problemas parenkant žmones jų sprendimui, taisym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taisymai daromi saugumo administratoriau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uoj pa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netempiant tai į kitas savaites ar mėnesi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ma suplanuoti dar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pildo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uditą po pataisymo ( nors tai brangu) įsitikinimui, kad komanda gerai susidorojo su problemom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39D9-1DA4-458C-BC66-0239BD92E0C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ada atlikt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udi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enumatytais, kritiškais atveja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kūrus tinkl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eguliariai pagal tvarkarašt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DEA4-8856-4340-9FFF-97B45F6E8F6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di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s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s k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2­24 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ėnesi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idelis tinklas k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2­24 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ėnesi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Lokalus tinklas k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2 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ėnesi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gniasienė k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6 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ėnesi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EFFB-95AA-45BB-8EB9-0E10B8A8D24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1114560" y="2125800"/>
            <a:ext cx="6916680" cy="2546280"/>
            <a:chOff x="1114560" y="2125800"/>
            <a:chExt cx="6916680" cy="2546280"/>
          </a:xfrm>
        </p:grpSpPr>
        <p:sp>
          <p:nvSpPr>
            <p:cNvPr id="150" name=""/>
            <p:cNvSpPr/>
            <p:nvPr/>
          </p:nvSpPr>
          <p:spPr>
            <a:xfrm>
              <a:off x="1114560" y="2125800"/>
              <a:ext cx="454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14560" y="2125800"/>
              <a:ext cx="6916680" cy="25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6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2" name="file3968100_DATORIprehisordi5" descr=""/>
          <p:cNvPicPr/>
          <p:nvPr/>
        </p:nvPicPr>
        <p:blipFill>
          <a:blip r:embed="rId1"/>
          <a:stretch/>
        </p:blipFill>
        <p:spPr>
          <a:xfrm>
            <a:off x="1371600" y="1179360"/>
            <a:ext cx="6553080" cy="438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27F8-E40F-4950-AA99-1D5AF24155F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okie galimi saugos audito tipa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gal tiriamą objektą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rientuoti į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 saugos tyrim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rientuoti į ugniasienės teikiamos saugios užtvaros tyrim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rientuoti į lokalaus tinklo saugą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rientuoti į didelių tinklų saugą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79F1-A806-4AF1-8950-ACFD101E3F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gos politik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menta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s yra saugos politik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augos politikos komponentė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s turi ją parašy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ip ilgai ji turi būt nekeičiam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24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s, jei tokios politikos nė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ita dokumentac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06E1-2ECE-42DB-9C46-C8EAFDC897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augos politikos komponentė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s gali </a:t>
            </a:r>
            <a:r>
              <a:rPr b="0" lang="lt-LT" sz="2800" spc="-1" strike="noStrike">
                <a:solidFill>
                  <a:srgbClr val="00cc99"/>
                </a:solidFill>
                <a:latin typeface="Times New Roman"/>
              </a:rPr>
              <a:t>naudoti </a:t>
            </a:r>
            <a:r>
              <a:rPr b="1" lang="lt-LT" sz="2800" spc="-1" strike="noStrike">
                <a:solidFill>
                  <a:srgbClr val="00cc99"/>
                </a:solidFill>
                <a:latin typeface="Times New Roman"/>
              </a:rPr>
              <a:t>resurs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cc99"/>
                </a:solidFill>
                <a:latin typeface="Times New Roman"/>
              </a:rPr>
              <a:t>Tinkamas</a:t>
            </a:r>
            <a:r>
              <a:rPr b="0" lang="lt-LT" sz="2800" spc="-1" strike="noStrike">
                <a:solidFill>
                  <a:srgbClr val="00cc99"/>
                </a:solidFill>
                <a:latin typeface="Times New Roman"/>
              </a:rPr>
              <a:t> resurs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audoji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cc99"/>
                </a:solidFill>
                <a:latin typeface="Times New Roman"/>
              </a:rPr>
              <a:t>Prieinamu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užtikrini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lt-LT" sz="2800" spc="-1" strike="noStrike">
                <a:solidFill>
                  <a:srgbClr val="00cc99"/>
                </a:solidFill>
                <a:latin typeface="Times New Roman"/>
              </a:rPr>
              <a:t>autorizacija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m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os 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ministrator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a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ivileg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j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o teisė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tsakomybė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p elgtis su 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jautr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saugos požiūriu informacij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Elgsena atakų metu, sistemos atstatymas po atakų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E1ED-B94B-4C86-9559-DB976ABD23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FC 1244 ­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``Site Security Handbook''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pibrėžia saugo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k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amp; proced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ūr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kos įvairov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et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cij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blemų 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tif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kavi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akcija į incident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stemų palaikymas (patch’a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[ Lietuvos standartai susiję su saugos klausimai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94B6-02DF-48FC-AAD5-41C26B0B3C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11:37:31Z</dcterms:created>
  <dc:creator>Kristina</dc:creator>
  <dc:description/>
  <dc:language>en-US</dc:language>
  <cp:lastModifiedBy>Kristina</cp:lastModifiedBy>
  <dcterms:modified xsi:type="dcterms:W3CDTF">2004-12-07T17:27:19Z</dcterms:modified>
  <cp:revision>16</cp:revision>
  <dc:subject/>
  <dc:title>13 paskaita</dc:title>
</cp:coreProperties>
</file>