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01C0-F4A8-4B81-94A5-A5960063B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A0D2-C85B-4449-824F-DC515CF49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75E7-4358-4665-B7B5-93AB85F9C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B59B-DF7D-44DF-AB07-4FF74463D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999C-CC13-4D4D-9785-0807BEECA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F65C-3606-4177-B216-C49963D88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5848-3292-47CB-9B47-266E0719E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DA8B-C010-4E76-B842-BCD604F54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A1AD-561A-44F6-BF6F-C114A3167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58B0-13C1-40A9-9353-5E70DD42B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3107-1AAF-430A-98D0-676427111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1FB0-1AE2-479D-976E-9FBCB43E5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9990-C0D2-4001-8D99-2DC86833B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1D72-9688-478D-81C8-7ED7A1A23ACC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Polimorfizmas ir virtualios funkcij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os klasės vadinamos „grynai abstrakčios klasės“ – pure abstract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ų klasių objektų konstruoti nega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#include &lt;iostream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Inline pure virtual definitions illegal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! virtual void sleep() const = 0 {}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eat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speak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Use the common Pet code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speak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eat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 simba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speak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eat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tos 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6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p yra, kuomet perduodami objektai, o ne nuorodos į objektu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Reikėtų išlaikyti reikalavimą, kad kodas, kuris dirba su bazinės klasės objektu, taip pat dirbtų ir su paveldėtos klasės objek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 – 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string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pnam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Pet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) : pname(name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name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This is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favoriteActivity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,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activity) : Pet(name), favoriteActivity(activity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name() +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 likes to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favoriteActivity; 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describe(Pet p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Slices the objec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cout &lt;&lt; p.description() &lt;&lt; endl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Pet p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Alfred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og d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Fluffy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sleep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p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d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88000" y="4581360"/>
            <a:ext cx="388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kon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de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5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pcasting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rocedūrų „susiejimo“ sąvo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arly-b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ynamic-binding – kviečiamos funkcijos adresas nustatomas vykdymo metu pagal tikrąjį objekto tip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++ realizuojamas virtualiomis funkcijom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 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irgi virtuali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TABL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ai klasei, kurioje yra virtualių funkcijų, sukuriama virtualių funkcijų lentelė (VT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onkrečios klasės metodų adresai įrašomi į tos klasės V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lasės duomenų struktūroje sukuriamas papildomas nematomas laukas VPT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rtualios funkcijos kvietimas realizuojamas kaip (*VPTR[N])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šininis k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ti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i.adjust(1); // kur adjust – virtuali f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eneruoja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mov bx, word ptr [si]   </a:t>
            </a:r>
            <a:r>
              <a:rPr b="0" lang="lt-LT" sz="2000" spc="-1" strike="noStrike">
                <a:solidFill>
                  <a:srgbClr val="808080"/>
                </a:solidFill>
                <a:latin typeface="Verdana"/>
              </a:rPr>
              <a:t>; nes vptr yra objekto pradžio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all word ptr [bx+4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add sp,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iliatoriaus optimiza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iostrea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string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virtual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Bark!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* p1 = &amp;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&amp; p2 =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p3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Late binding for both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1-&gt;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1-&gt;speak() &lt;&lt;end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2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2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Early binding (probably)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3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3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/:~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8240" y="1300320"/>
            <a:ext cx="4938840" cy="5516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#include &lt;iostream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Cflat 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Pure virtual functions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= 0;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&lt;- šitas galės modifikuoti objektą, todėl ne con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12:41:29Z</dcterms:modified>
  <cp:revision>46</cp:revision>
  <dc:subject/>
  <dc:title>PowerPoint Presentation</dc:title>
</cp:coreProperties>
</file>