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D2AC-0E6E-4E9B-9024-7A8F5C690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CFA7F-0DFE-4C16-99B2-5BEEFBEC46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6D990-D08D-4DAB-AD11-18323325C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C6BD3-6394-45B4-8BB0-1A23E161A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B2483-A392-4C2D-81BB-EB4F0D2690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41ED6-1471-4F77-815B-19362FD01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45B32-B7F7-4A9C-90D8-2C528AAB7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A3FB9-D01A-4390-B03C-5D8C58390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C64A6-5100-409D-9B7E-6DF6C9E744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2E8C4-27E9-48EB-93CD-FC88802FE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AEA51-CE40-43FB-936E-1919489B0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4BDBE-4FAF-4D7A-8350-781494D31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8983-A1E3-4BF1-99D4-AFB986CC2D59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Dinaminis objektų kūrima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ų perdav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4360" y="1341360"/>
          <a:ext cx="253656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25365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84360" y="1989000"/>
          <a:ext cx="2319120" cy="108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989000"/>
                    <a:ext cx="231912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84360" y="3284640"/>
          <a:ext cx="5337000" cy="28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3284640"/>
                    <a:ext cx="533700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443640" y="5013360"/>
          <a:ext cx="2403360" cy="15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43640" y="5013360"/>
                    <a:ext cx="240336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ų perdavimas į konstruktorių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Norint išvengti konstruktoriuje kopijavimo pabičiui, reikia apibrėžti konstruktorių su byref paramet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55640" y="0"/>
          <a:ext cx="5484960" cy="701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0"/>
                    <a:ext cx="5484960" cy="701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4360" y="1341360"/>
          <a:ext cx="5413320" cy="16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413320" cy="16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84360" y="5157720"/>
          <a:ext cx="4152600" cy="93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5157720"/>
                    <a:ext cx="415260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11 skyri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Dinaminių objektų masyv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4360" y="1989000"/>
          <a:ext cx="8459640" cy="25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845964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Dinaminio masyvo plėt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4360" y="1341360"/>
          <a:ext cx="803880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803880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Nuorodos ir kopijavimo konstruktoriu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uorod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4360" y="1341360"/>
          <a:ext cx="5873760" cy="371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873760" cy="37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uorodos funkcijų parametruos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4360" y="1341360"/>
          <a:ext cx="5599080" cy="45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59908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nstantinės nuorod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4360" y="1341360"/>
          <a:ext cx="252540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252540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uorodos į rodyklę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ai norime keisti ne objektą, o pačios rodyklės reikšmę funkcijoj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42920" y="2349360"/>
          <a:ext cx="1760760" cy="2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349360"/>
                    <a:ext cx="1760760" cy="2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971640" y="2708280"/>
          <a:ext cx="169056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2708280"/>
                    <a:ext cx="16905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971640" y="3789360"/>
          <a:ext cx="4205160" cy="250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3789360"/>
                    <a:ext cx="420516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Kopijavimo konstruktoriu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3-04T14:09:33Z</dcterms:modified>
  <cp:revision>37</cp:revision>
  <dc:subject/>
  <dc:title>PowerPoint Presentation</dc:title>
</cp:coreProperties>
</file>