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84AC7-5F4B-4DAA-8DF3-F3E55A5F5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B6BB4-90E3-49CB-A1AB-8D6C53AD1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B87D7-E6F2-4AE1-AE98-16944BE70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47F4-5722-4095-8418-FCBE87407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C30E-7074-4046-9DC2-E6A4F8232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F6CE-1261-43D7-8F8A-696CD9B7C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EE3C1-3295-4A66-94EC-0A658E62C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E8C15-73C6-4C8A-A0A6-395A6F697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169D7-A0B9-4896-AD19-84E9178A7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1BCF-290A-42A4-A39C-0E51C10AB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A887-059C-40FE-A43B-328AC418A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3C52-6695-4C86-977A-2BD28AECC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E865-53D4-4B99-9AC7-C107FD26FABF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Dinaminis objektų kūr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ozicij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4360" y="1341360"/>
          <a:ext cx="443376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43376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ozicija (2)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4360" y="1341360"/>
          <a:ext cx="514332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14332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ozicija (3)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4360" y="1341360"/>
          <a:ext cx="4638600" cy="39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638600" cy="39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veldėj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84360" y="1333440"/>
          <a:ext cx="4429080" cy="55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33440"/>
                    <a:ext cx="442908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dinių objektų inicializa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4360" y="1341360"/>
          <a:ext cx="4592520" cy="2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592520" cy="2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84360" y="2276640"/>
          <a:ext cx="5748120" cy="20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276640"/>
                    <a:ext cx="5748120" cy="20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84360" y="2997360"/>
          <a:ext cx="5599080" cy="313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2997360"/>
                    <a:ext cx="559908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Inicializavimo tvar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a tvarka kaip deklaruot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55640" y="1916280"/>
          <a:ext cx="3737160" cy="6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373716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826920" y="2708280"/>
          <a:ext cx="3964320" cy="6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2708280"/>
                    <a:ext cx="39643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971640" y="3645000"/>
          <a:ext cx="2444760" cy="29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3645000"/>
                    <a:ext cx="244476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3 ir 14 skyri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o kūr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ai kuriamas objekt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1. Išskiriama atmin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Statinėje atminty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Stek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Dinaminėje atmintyje (</a:t>
            </a:r>
            <a:r>
              <a:rPr b="0" i="1" lang="lt-LT" sz="2000" spc="-1" strike="noStrike">
                <a:solidFill>
                  <a:srgbClr val="000000"/>
                </a:solidFill>
                <a:latin typeface="Verdana"/>
              </a:rPr>
              <a:t>heap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2. Kviečiamas konstruktori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s sukūr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Be konstruktoriaus reikėtų daryti taip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ačiau galim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71640" y="1989000"/>
          <a:ext cx="4376520" cy="3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989000"/>
                    <a:ext cx="437652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920880" y="2421000"/>
          <a:ext cx="225108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880" y="2421000"/>
                    <a:ext cx="225108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971640" y="4581360"/>
          <a:ext cx="3459240" cy="29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4581360"/>
                    <a:ext cx="345924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tlaisvin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Dinaminėje atmintyje sukurtą objektą atlaisvinam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lt-LT" sz="1600" spc="-1" strike="noStrike">
                <a:solidFill>
                  <a:srgbClr val="3333cc"/>
                </a:solidFill>
                <a:latin typeface="Courier New"/>
              </a:rPr>
              <a:t>delete</a:t>
            </a:r>
            <a:r>
              <a:rPr b="1" lang="lt-LT" sz="1600" spc="-1" strike="noStrike">
                <a:solidFill>
                  <a:srgbClr val="000000"/>
                </a:solidFill>
                <a:latin typeface="Courier New"/>
              </a:rPr>
              <a:t> f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vyzdy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1341360"/>
          <a:ext cx="5564160" cy="48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56416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ų objektų masyv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55640" y="1557360"/>
          <a:ext cx="3405240" cy="26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557360"/>
                    <a:ext cx="340524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804960" y="2205000"/>
          <a:ext cx="293688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4960" y="2205000"/>
                    <a:ext cx="29368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755640" y="3068640"/>
          <a:ext cx="434196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3068640"/>
                    <a:ext cx="43419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55640" y="4149720"/>
          <a:ext cx="1496880" cy="27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4149720"/>
                    <a:ext cx="149688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755640" y="4508640"/>
          <a:ext cx="1851120" cy="25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4508640"/>
                    <a:ext cx="1851120" cy="25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gražinimas cons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eleidžiame keisti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 reikšmės (bet ne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</a:rPr>
              <a:t>*q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!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4360" y="2133720"/>
          <a:ext cx="2695320" cy="2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33720"/>
                    <a:ext cx="269532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ut_of_memory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1341360"/>
          <a:ext cx="5933880" cy="49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93388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Kompozicija ir paveldėj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2-25T14:03:44Z</dcterms:modified>
  <cp:revision>34</cp:revision>
  <dc:subject/>
  <dc:title>PowerPoint Presentation</dc:title>
</cp:coreProperties>
</file>