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media/image23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80B3DF-9C74-45C8-A8C0-2A7B647705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24640"/>
            <a:ext cx="77724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C8545C-4D37-4EDA-991F-BD262440DC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2464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2464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BD585A-6EDD-414D-BB97-122944ADA7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34100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34100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2464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2464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2464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FE7478-1E84-45C9-9448-AA4EE3FCCB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4360" y="29160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82464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16C866-EE92-4438-89A4-C88AD35F83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382464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824640"/>
            <a:ext cx="77724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824640"/>
            <a:ext cx="77724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82464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382464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34100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34100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82464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382464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382464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FA5688-2B44-476A-9492-57372B1823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FCA5FA-8FC0-4583-9F58-1B4F9D79FF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68696C-2401-4B4F-87B4-7BC08A3766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4360" y="29160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0FCBE0-43A2-45DB-9CDC-46B50FDF98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2464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DF1B05-CA88-4A5B-A90F-E9EA9C0FD2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2464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8D8479-1BDB-467A-8010-B4180A1EAB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24640"/>
            <a:ext cx="77724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253044-714D-41E9-8B65-B0A145DAEA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lnSpc>
                <a:spcPct val="110000"/>
              </a:lnSpc>
              <a:spcBef>
                <a:spcPts val="18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lnSpc>
                <a:spcPct val="110000"/>
              </a:lnSpc>
              <a:spcBef>
                <a:spcPts val="18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-3240" y="6200640"/>
            <a:ext cx="9144000" cy="0"/>
          </a:xfrm>
          <a:prstGeom prst="line">
            <a:avLst/>
          </a:prstGeom>
          <a:ln w="6480">
            <a:solidFill>
              <a:srgbClr val="c8c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-3240" y="6218280"/>
            <a:ext cx="9144000" cy="0"/>
          </a:xfrm>
          <a:prstGeom prst="line">
            <a:avLst/>
          </a:prstGeom>
          <a:ln w="6480">
            <a:solidFill>
              <a:srgbClr val="c8c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-3240" y="6235560"/>
            <a:ext cx="9144000" cy="0"/>
          </a:xfrm>
          <a:prstGeom prst="line">
            <a:avLst/>
          </a:prstGeom>
          <a:ln w="6480">
            <a:solidFill>
              <a:srgbClr val="c8c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-3240" y="6254640"/>
            <a:ext cx="9144000" cy="0"/>
          </a:xfrm>
          <a:prstGeom prst="line">
            <a:avLst/>
          </a:prstGeom>
          <a:ln w="6480">
            <a:solidFill>
              <a:srgbClr val="c8c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1066680"/>
            <a:ext cx="9144000" cy="228600"/>
          </a:xfrm>
          <a:prstGeom prst="rect">
            <a:avLst/>
          </a:prstGeom>
          <a:solidFill>
            <a:srgbClr val="d7d7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00" rIns="72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8457840" y="6248160"/>
            <a:ext cx="685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7d7ce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DAED3-80B7-4AB9-9D00-F825ABD96C65}" type="slidenum">
              <a:rPr b="0" lang="en-US" sz="1400" spc="-1" strike="noStrike">
                <a:solidFill>
                  <a:srgbClr val="d7d7ce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45" name=""/>
          <p:cNvSpPr/>
          <p:nvPr/>
        </p:nvSpPr>
        <p:spPr>
          <a:xfrm>
            <a:off x="-3240" y="6200640"/>
            <a:ext cx="9144000" cy="0"/>
          </a:xfrm>
          <a:prstGeom prst="line">
            <a:avLst/>
          </a:prstGeom>
          <a:ln w="6480">
            <a:solidFill>
              <a:srgbClr val="c8c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-3240" y="6218280"/>
            <a:ext cx="9144000" cy="0"/>
          </a:xfrm>
          <a:prstGeom prst="line">
            <a:avLst/>
          </a:prstGeom>
          <a:ln w="6480">
            <a:solidFill>
              <a:srgbClr val="c8c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-3240" y="6235560"/>
            <a:ext cx="9144000" cy="0"/>
          </a:xfrm>
          <a:prstGeom prst="line">
            <a:avLst/>
          </a:prstGeom>
          <a:ln w="6480">
            <a:solidFill>
              <a:srgbClr val="c8c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-3240" y="6254640"/>
            <a:ext cx="9144000" cy="0"/>
          </a:xfrm>
          <a:prstGeom prst="line">
            <a:avLst/>
          </a:prstGeom>
          <a:ln w="6480">
            <a:solidFill>
              <a:srgbClr val="c8c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1523880"/>
            <a:ext cx="9144000" cy="228600"/>
          </a:xfrm>
          <a:prstGeom prst="rect">
            <a:avLst/>
          </a:prstGeom>
          <a:solidFill>
            <a:srgbClr val="d7d7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  <a:p>
            <a:pPr lvl="1" marL="457200" indent="0" algn="ctr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lnSpc>
                <a:spcPct val="110000"/>
              </a:lnSpc>
              <a:spcBef>
                <a:spcPts val="1001"/>
              </a:spcBef>
              <a:buClr>
                <a:srgbClr val="c00000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lnSpc>
                <a:spcPct val="110000"/>
              </a:lnSpc>
              <a:spcBef>
                <a:spcPts val="400"/>
              </a:spcBef>
              <a:buClr>
                <a:srgbClr val="c00000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lnSpc>
                <a:spcPct val="110000"/>
              </a:lnSpc>
              <a:spcBef>
                <a:spcPts val="400"/>
              </a:spcBef>
              <a:buClr>
                <a:srgbClr val="c00000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2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3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7.png"/><Relationship Id="rId7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Objektinis programavimas C++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404040"/>
                </a:solidFill>
                <a:latin typeface="Verdana"/>
              </a:rPr>
              <a:t>C++ pagrindai</a:t>
            </a: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Rodyklės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1042920" y="1484280"/>
          <a:ext cx="6168960" cy="42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1484280"/>
                    <a:ext cx="6168960" cy="42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8" name=""/>
          <p:cNvGraphicFramePr/>
          <p:nvPr/>
        </p:nvGraphicFramePr>
        <p:xfrm>
          <a:off x="1042920" y="2097000"/>
          <a:ext cx="2398680" cy="371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42920" y="2097000"/>
                    <a:ext cx="2398680" cy="37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0" name=""/>
          <p:cNvGraphicFramePr/>
          <p:nvPr/>
        </p:nvGraphicFramePr>
        <p:xfrm>
          <a:off x="1082520" y="2708280"/>
          <a:ext cx="3300480" cy="442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82520" y="2708280"/>
                    <a:ext cx="330048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2" name=""/>
          <p:cNvGraphicFramePr/>
          <p:nvPr/>
        </p:nvGraphicFramePr>
        <p:xfrm>
          <a:off x="1074600" y="3357720"/>
          <a:ext cx="1913040" cy="1028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074600" y="3357720"/>
                    <a:ext cx="1913040" cy="102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4" name=""/>
          <p:cNvGraphicFramePr/>
          <p:nvPr/>
        </p:nvGraphicFramePr>
        <p:xfrm>
          <a:off x="907920" y="4629240"/>
          <a:ext cx="2886120" cy="7999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907920" y="4629240"/>
                    <a:ext cx="28861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127160" y="5649840"/>
          <a:ext cx="2486160" cy="3002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127160" y="5649840"/>
                    <a:ext cx="2486160" cy="30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Parametras reikšmė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971640" y="1413000"/>
          <a:ext cx="4641840" cy="4257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1413000"/>
                    <a:ext cx="4641840" cy="425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6877080" y="4869000"/>
          <a:ext cx="1414440" cy="1171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77080" y="4869000"/>
                    <a:ext cx="1414440" cy="117144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Parametras adresas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900000" y="1293840"/>
          <a:ext cx="4856400" cy="485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1293840"/>
                    <a:ext cx="4856400" cy="485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8" name=""/>
          <p:cNvGraphicFramePr/>
          <p:nvPr/>
        </p:nvGraphicFramePr>
        <p:xfrm>
          <a:off x="6227640" y="4508640"/>
          <a:ext cx="2229120" cy="1600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227640" y="4508640"/>
                    <a:ext cx="2229120" cy="16002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Parametras C++ nuoroda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795240" y="1293840"/>
          <a:ext cx="6070680" cy="505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5240" y="1293840"/>
                    <a:ext cx="6070680" cy="505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4" name=""/>
          <p:cNvGraphicFramePr/>
          <p:nvPr/>
        </p:nvGraphicFramePr>
        <p:xfrm>
          <a:off x="6691320" y="4437000"/>
          <a:ext cx="2260440" cy="1689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691320" y="4437000"/>
                    <a:ext cx="2260440" cy="16891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Modifikatoriai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717480" y="1309680"/>
          <a:ext cx="6696000" cy="5495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7480" y="1309680"/>
                    <a:ext cx="6696000" cy="549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void*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668160" y="1301760"/>
          <a:ext cx="4260960" cy="299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8160" y="1301760"/>
                    <a:ext cx="4260960" cy="299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596880" y="4653000"/>
          <a:ext cx="5726160" cy="1954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96880" y="4653000"/>
                    <a:ext cx="5726160" cy="195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Kintamųjų galiojimo ribos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684360" y="1341360"/>
          <a:ext cx="4622760" cy="5516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41360"/>
                    <a:ext cx="4622760" cy="551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typedef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684360" y="1341360"/>
          <a:ext cx="4584600" cy="27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41360"/>
                    <a:ext cx="4584600" cy="27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4" name=""/>
          <p:cNvGraphicFramePr/>
          <p:nvPr/>
        </p:nvGraphicFramePr>
        <p:xfrm>
          <a:off x="611280" y="2060640"/>
          <a:ext cx="1743120" cy="371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1280" y="2060640"/>
                    <a:ext cx="1743120" cy="37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611280" y="2997360"/>
          <a:ext cx="3171600" cy="599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11280" y="2997360"/>
                    <a:ext cx="3171600" cy="59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Struktūros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684360" y="1341360"/>
          <a:ext cx="6661080" cy="49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41360"/>
                    <a:ext cx="6661080" cy="49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Į save referuojanti struktūra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684360" y="1341360"/>
          <a:ext cx="6459480" cy="392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41360"/>
                    <a:ext cx="6459480" cy="392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Rodyklė į struktūrą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611280" y="1308240"/>
          <a:ext cx="6985080" cy="546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308240"/>
                    <a:ext cx="6985080" cy="546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C++ iostreams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684360" y="1447920"/>
          <a:ext cx="6635520" cy="424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447920"/>
                    <a:ext cx="6635520" cy="424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Įvedimas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1619280" y="1628640"/>
          <a:ext cx="5845320" cy="380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9280" y="1628640"/>
                    <a:ext cx="5845320" cy="380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string klasė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755640" y="1628640"/>
          <a:ext cx="7402680" cy="404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1628640"/>
                    <a:ext cx="7402680" cy="404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Failų skaitymas ir rašymas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684360" y="1700280"/>
          <a:ext cx="7646760" cy="354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700280"/>
                    <a:ext cx="7646760" cy="354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Failo skaitymas eilutėmis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755640" y="1844640"/>
          <a:ext cx="6527880" cy="377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1844640"/>
                    <a:ext cx="6527880" cy="377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Vektorius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563400" y="1317600"/>
          <a:ext cx="7431120" cy="485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400" y="1317600"/>
                    <a:ext cx="7431120" cy="485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Kintamųjų adresai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684360" y="1285920"/>
          <a:ext cx="6657840" cy="55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285920"/>
                    <a:ext cx="6657840" cy="55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2" name=""/>
          <p:cNvGraphicFramePr/>
          <p:nvPr/>
        </p:nvGraphicFramePr>
        <p:xfrm>
          <a:off x="6161040" y="3716280"/>
          <a:ext cx="2982960" cy="2225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61040" y="3716280"/>
                    <a:ext cx="2982960" cy="2225880"/>
                  </a:xfrm>
                  <a:prstGeom prst="rect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0T20:44:31Z</dcterms:created>
  <dc:creator>Andrius Adamonis</dc:creator>
  <dc:description/>
  <dc:language>en-US</dc:language>
  <cp:lastModifiedBy>Andrius Adamonis</cp:lastModifiedBy>
  <dcterms:modified xsi:type="dcterms:W3CDTF">2005-02-11T15:06:45Z</dcterms:modified>
  <cp:revision>31</cp:revision>
  <dc:subject/>
  <dc:title>PowerPoint Presentation</dc:title>
</cp:coreProperties>
</file>