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038-176A-41C3-98FC-3D290235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935-FB91-4DE5-AB0D-FF629733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8C0-5BC0-41EE-AC2D-BC7A1F36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3DD-5F98-40F7-ADF4-158570BA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80AC-7888-4777-9318-749C3740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6973-9726-40E1-89F7-A5F2E97D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203C-DD08-4662-8F6B-5C30DF22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83E2-DE24-4C76-98D2-59B44D02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91C4-3415-4765-9D29-45ACE8A4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2583-C31C-4A56-B5E9-34F5AA97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E8DF-6663-4AA5-874F-F24AFF9E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8F5-9218-4CCC-BF42-5134B3C5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51AC-1BC8-4F29-A77E-DF51E778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08FF-17D4-4FBE-AE01-41BD3B2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4AFB-407A-44FE-9046-8C7E6712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6095-6040-4BA3-8936-668A0D11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9514-7F30-4F9E-94C6-B6F66589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E40-6D1D-477C-A849-DF29A734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04C-6615-4411-89AE-E1E0368C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3B7-4A41-41B2-9159-0DD6F3D4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37B-522C-4822-BB40-2B44F7BB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827-2175-4185-98EE-63E527D3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8C9-BE4E-40B4-AC76-575E94A8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27A-E6A2-458E-BC28-63E6DB41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4AF9-200B-4863-8341-9BD05CBA9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A952-F8F9-4CE8-886B-65F586758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akarai.lt/klientam/tinklai/teorija/111.htm" TargetMode="External"/><Relationship Id="rId2" Type="http://schemas.openxmlformats.org/officeDocument/2006/relationships/hyperlink" Target="http://www.vakarai.lt/klientam/tinklai/teorija/111.htm" TargetMode="External"/><Relationship Id="rId3" Type="http://schemas.openxmlformats.org/officeDocument/2006/relationships/hyperlink" Target="http://www.vakarai.lt/klientam/tinklai/teorija/112.htm" TargetMode="External"/><Relationship Id="rId4" Type="http://schemas.openxmlformats.org/officeDocument/2006/relationships/hyperlink" Target="http://www.vakarai.lt/klientam/tinklai/teorija/11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DUOMEN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 BAZ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S IR 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1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5040000"/>
            <a:ext cx="8153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aulius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82551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n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žinerijos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7760" y="2133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1523880"/>
          <a:ext cx="75438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75438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568-6B14-43C9-BDD2-725F7FF6DB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8400" y="294840"/>
            <a:ext cx="8462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ų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inžiner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iu požiūriu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chnical approaches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vystymuisi turi įtakos informatika (computer science), operacijų tyrimas, vadybos moks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gsenos požiū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havioral approache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grinėja IS kūrimo ir IS eksploatavimo (palaikym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us. Svarbiausios problemos yra strateginis veiklos integravimas,  veiklos kompiuterizavimo IS projektavimas ir realizavimas, kompiuterizuoti vadybos procesai. Šių veiklos sričių modelių kompiuterizavimas  grindžiamas techninio požiūrio modeliais ir metodai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rečias požiūris į IS vietą organizacijos veiklo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ociotechnologinis požiūris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2E8-50BD-4302-8860-A206E61A47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55600" y="380880"/>
            <a:ext cx="8255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rganizacijos dal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ų sąsaja su IT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5600" y="1371600"/>
            <a:ext cx="825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5 pag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dinė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dal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m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ą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orm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us į aplinkos poveiki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uktūra ir bendroji kul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ateg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ybos ir biznio (verslo) proces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ividai ir jų ro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formacinė technologija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3886200"/>
            <a:ext cx="4038480" cy="2133720"/>
            <a:chOff x="5257800" y="3886200"/>
            <a:chExt cx="4038480" cy="2133720"/>
          </a:xfrm>
        </p:grpSpPr>
        <p:sp>
          <p:nvSpPr>
            <p:cNvPr id="119" name=""/>
            <p:cNvSpPr/>
            <p:nvPr/>
          </p:nvSpPr>
          <p:spPr>
            <a:xfrm>
              <a:off x="5257800" y="4739760"/>
              <a:ext cx="384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192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16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654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2280" y="409932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22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8832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424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0404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49680" y="388620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968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038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76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1180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2280" y="4953240"/>
              <a:ext cx="7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88320" y="4953240"/>
              <a:ext cx="5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2480" y="4953240"/>
              <a:ext cx="5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5593320"/>
              <a:ext cx="4038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96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038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498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040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845-DF5D-4EC2-9353-354E667D8A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T apibūd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560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u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macin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 dalis: techninė įranga, DB valdymo sistema, kompiuterinis tinklas, sisteminė program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kit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ąja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rganizacijos techninė, komun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rogram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uri atitikti veiklos sričių poreikius. Atsiradus naujoms veiklos problemoms ar pasikeitus veiklos pobūdžiui, seni IT sprendimai turi būti modifik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17F-202F-4E76-9699-F97FE85E4D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IT dal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5600" y="1752480"/>
            <a:ext cx="8255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organizacijos IT skirstoma į dal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eginės sistemos,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os pirmavimui konkurencinėje kovoj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tinio veiklos tobulinimo darb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ų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so reinžiner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PR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yst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ktroni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erc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yra viena iš organizacijos IT sudedamųjų dalių. Efektyvus veiklos sričių tvarkymas gali būti tik įdiegus atitinkamos paskirtie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DAD-C61C-42B4-BFB8-A167230D59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1998720"/>
            <a:ext cx="89154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KOMPONENT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– tai veiklos problemos, duomenys, nurodymai, galimyb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doroji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ai programos, įranga (technika), žmonės, D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š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ataskaitos, grafikai, skaičiavimo rezultatai, sprendim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ldym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yvauja sprendimą priimantys asmen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90720" y="1219320"/>
            <a:ext cx="8048160" cy="2412360"/>
            <a:chOff x="990720" y="1219320"/>
            <a:chExt cx="8048160" cy="2412360"/>
          </a:xfrm>
        </p:grpSpPr>
        <p:sp>
          <p:nvSpPr>
            <p:cNvPr id="147" name=""/>
            <p:cNvSpPr/>
            <p:nvPr/>
          </p:nvSpPr>
          <p:spPr>
            <a:xfrm>
              <a:off x="990720" y="1219320"/>
              <a:ext cx="10058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į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0240" y="2942640"/>
              <a:ext cx="1508760" cy="68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valdy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81400" y="1219320"/>
              <a:ext cx="125748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iš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7320" y="1219320"/>
              <a:ext cx="20120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pdoroji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6560" y="1563840"/>
              <a:ext cx="17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9360" y="1563840"/>
              <a:ext cx="20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769000" y="1908720"/>
              <a:ext cx="251532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014800" y="1908720"/>
              <a:ext cx="0" cy="10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493280" y="1908360"/>
              <a:ext cx="276660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138480" y="3808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yra IS funkciniu požiūri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7E7-0651-4F34-B9B1-6EB88424B9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5240" y="380880"/>
            <a:ext cx="8255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37160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 tenden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tinant kainos efektyvumo 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ai vis labiau pirmaus prieš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aus darb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is labiau dominuos draugišk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ui interfeisai (kalba, vaizdas ir k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ugojimo įreng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lpa labai iša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augy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ehou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Jose bus saugoj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 visi veiklos duomeny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rabai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bai išaugs daugialypių t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multimedijos) panaudoj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diegi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ntelektualios sist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r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bjektiškai orientuotas (OO) programavima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ys kompiuteriai bus dar labiau kompaktiš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2F6-01D7-4D6E-AEB9-2F10B61C68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3160" y="0"/>
            <a:ext cx="82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0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3160" y="1447920"/>
            <a:ext cx="852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osi skaičiavim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iuterių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pagrįstos sistemos, kurių technologinis pagrindas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/server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T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rauja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labiau įsig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ernešami ko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bas namuose su ko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ut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perspektyvi sri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rneto reikš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naudojimas išaugs. Bus sukurtas informacijos supergreitke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ranetas taps vyraujančia tinklo sistema organizacij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stysis elektroninė komercija iš es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keisdam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ganizacijų veiklo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lektu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rograminiai agentai (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are ag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naršys d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bazes taupydami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lai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32D-AA5A-4DD9-B159-51D58AFB0F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ai tinkla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r informaci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jos sistem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us IS vaidmuo organizacijos veikloje yra paaiškinamas išaugusiu skaičiavimo technikos (techninės ir programinės įrangų) galingu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 kainos mažėjim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iuterinių sistemų pajėg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 išau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iradus kompiuterių tinklams.  Jie susiejo skirtingas darbo vietas, įgalino bendrai naudotis vieninga duomenų baze, paskirstyti informaciją pagal darbo vietų poreiki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turėjo įtakos organizacijų struktūrų pokyčiams, veiklos formoms ir metod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C45-BE92-409E-9D6C-339357DAF1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ų tinklų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mpiuterinių tinklų topologij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/>
              </a:rPr>
              <a:t>Bendros magistral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/>
              </a:rPr>
              <a:t> (Bus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/>
              </a:rPr>
              <a:t>Žvaigžd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/>
              </a:rPr>
              <a:t> (Star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edo (Ring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(Tree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u kiekvienu (Mesh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0C1-D181-4AFF-810E-2106516CD6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4160" y="580680"/>
            <a:ext cx="9356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formac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sistema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nka, apdoroja, saugo, analizuoja ir paskirsto informaciją, turinčią konkrečią paskir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rganizacijos veikl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or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uomenis) 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formuoja iš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askaitas, 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vestin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uos nusiunčia vartotojui arba kit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veikia tam tikroje aplink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organizacinėje aplinkoje, technologinėje aplink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sistemos yra informacinės technologijos, įdiegtos organizacijoje, dali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72D-DFCC-4513-B6A3-98861B7198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agistral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0524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111a" descr=""/>
          <p:cNvPicPr/>
          <p:nvPr/>
        </p:nvPicPr>
        <p:blipFill>
          <a:blip r:embed="rId1"/>
          <a:stretch/>
        </p:blipFill>
        <p:spPr>
          <a:xfrm>
            <a:off x="2063880" y="1371600"/>
            <a:ext cx="5448240" cy="1341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111b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3467160" cy="3200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111c" descr=""/>
          <p:cNvPicPr/>
          <p:nvPr/>
        </p:nvPicPr>
        <p:blipFill>
          <a:blip r:embed="rId3"/>
          <a:stretch/>
        </p:blipFill>
        <p:spPr>
          <a:xfrm>
            <a:off x="5410080" y="2895480"/>
            <a:ext cx="3549600" cy="32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A03-FED5-4928-81F4-6110162A6F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vaigždė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38560" y="2676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112a" descr="star topology picture"/>
          <p:cNvPicPr/>
          <p:nvPr/>
        </p:nvPicPr>
        <p:blipFill>
          <a:blip r:embed="rId1"/>
          <a:stretch/>
        </p:blipFill>
        <p:spPr>
          <a:xfrm>
            <a:off x="1238400" y="1752480"/>
            <a:ext cx="3714480" cy="342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112b" descr=""/>
          <p:cNvPicPr/>
          <p:nvPr/>
        </p:nvPicPr>
        <p:blipFill>
          <a:blip r:embed="rId2"/>
          <a:stretch/>
        </p:blipFill>
        <p:spPr>
          <a:xfrm>
            <a:off x="5448240" y="1600200"/>
            <a:ext cx="388008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3C2-A0FE-4FCC-90C0-E5F2213A24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iedo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06880" y="2724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90920" y="1828800"/>
          <a:ext cx="47242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47242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77F-A4F1-43B3-92A2-1B7FC5D845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Mesh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6360" y="27097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989440" y="2133720"/>
          <a:ext cx="4381200" cy="39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2133720"/>
                    <a:ext cx="438120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B61-5A5A-4789-87B0-7752C82624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S klasifikavima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 gali būti klasifikuojama pag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nės struktūros lygme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unkcines veiklos s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mpiuterizuojamo proceso (pagalbos) pobūd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stemos architektūr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eiklos, kuri kompiuterizuojama, valdymo lygmen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93B-5D3C-4AC0-A87B-AEDB5B6109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8040" y="685440"/>
            <a:ext cx="8057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S klasifikacija pagal organizacinės struktūros lygmeni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dalin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dažniausiai būna skirta tik konkrečią funkciją atliekančiam padaliniui, pvz., žmogiškųjų išteklių valdymo IS skirta personalo skyri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ganizacij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skirta kelių arba visų organizacijos padalinių funkcijų kompiuteriz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organizacinės 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i sudėtingos IS, kompiuterizuojanti kelių organizacijų veiklos procesus ar funkcijas, pvz.: pasaulinė aviabilietų rezervavimo siste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209-36E0-4A5D-9BAE-2F45C3FD7B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veiklos 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unkcines srit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2551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skaitos 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apskaitos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an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finansų valdym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myb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gamybos procesus, jų valdymą ir kontrol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keting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piuterizuoja veiklos marketingo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onal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personalo valdymo funk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178-84C4-4E77-8399-9CF7F8B7BF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pagalbos pob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d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nkci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veiklos s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č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nformacijos sistema (Management I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- raš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is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S - grupinio darbo informacijos sistemos (group suport syste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- sprendimo p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mo 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vadovo IS (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ecutive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S – intelektuali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ksper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sistemos (ES), neuron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ink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 (AN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01F-4627-4BA2-971F-999E6B2349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S klasifikacija pagal architektūr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j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avi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aš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veikiančios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infram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ski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ersonal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sudaryt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stytos informacijos sistemo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stributed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FDF-0917-4ECC-B028-9C29471BB5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Klasifikacija pagal veiklos valdymo lygme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y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s valdy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ion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ageri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rateginė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tegic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469-6D29-4DAD-B5E3-FA2870CF96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prastai organizacijos informacijos sistema (dar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 informacija ir priemonių visuma) yra dalinai kompiuterizuota, skirstoma į ne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 ir 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stumo dėlei, mes sąvoką “kompiuterizuota informacijos sistema” toliau pakeisime terminu “informacijos sistema (IS)”, kadangi nekompiuterizuotų darbų su informacija nenagrinės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14C-079B-4AC0-80A7-EC4DFBC6AA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5240" y="704880"/>
            <a:ext cx="8255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jo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os sudėti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55240" y="1371240"/>
            <a:ext cx="8255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rindinia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ekvie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jo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sistemos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ponentai yr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chninė įrang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įrenginių rinkinys tokių kaip procesorius, monitorius, klaviatūra ir spausdintuvas, kurie priima duomenis, apdoroja ir išveda j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inė įrang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programų rinkinys, kuris įgalina techninę įrangą apdoroti duomen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omenų bazė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usijusių failų, lentelių, ryšių ir t.t. rinkinys, kuriame saugomi duomenys ir asociacijos tarp j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n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j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kuri leidžia resursų pasidalijimą tarp skirtingų kompiuter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cedūro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instrukcijų rinkinys apie tai, kaip apjungti aukščiau išvardintus komponentus tam, kad būtų galima apdoroti informaciją ir sugeneruoti pageidaujamą rezulta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Žmonė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okie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rganizacijos darbuotoj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naudojasi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naudoja j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a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taip pat informatikos specialistai, kurie užtikrina IS funkcionavim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D33-CE4D-4C5B-89ED-C0EF43F250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840" y="304920"/>
            <a:ext cx="784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sistemos </a:t>
            </a:r>
            <a:r>
              <a:rPr b="1" lang="lt-LT" sz="2600" spc="-1" strike="noStrike">
                <a:solidFill>
                  <a:srgbClr val="221304"/>
                </a:solidFill>
                <a:latin typeface="Times New Roman"/>
              </a:rPr>
              <a:t>sudėtis ir sąsaja su organizacija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00280" y="2038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1859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1523880"/>
          <a:ext cx="8585280" cy="45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523880"/>
                    <a:ext cx="85852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260-B8F8-4EFC-8909-1D73D2E7BB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 PROGRAMINĖS ĮRANGOS TIP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4120" y="2166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143000"/>
          <a:ext cx="883260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88326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52C-C642-4A7A-9A22-24B2EE03CD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81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klasifikacij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y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arptautinės mokslininkų grupės darbo 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T srities pavadinimas,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os įvert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Adekvačios biznio procesui IT infrastruktūros sukūrimas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9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Biznio proceso perprojektavimo kompiuterizavimas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7,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Paskirstytų IS kūrimas ir tvarkymas.                                                       7,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Organizacijos informacinės architektūros kūrimas ir realizavimas.        7,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Komunikacinių tinklų planavimas ir tvarkymas.                                     7,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IS kūrimo efektyvumo didinimas.                                                            7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Duomenų šaltinio tikslinio naudojimo užtikrinimas.                               7,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IS personalo kvalifikacijos kėlimas.                                                         7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IS organizavimas atsižvelgiant į organizacijos struktūros vystymąsi.     7,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IS strateginio planavimo įvertinimas.                                                     6,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10C-030D-4229-AA0B-B66895058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(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A.Kolektyvinio darbo sistemų kūrimas ir valdymas.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B.IS efektyvumo ir našumo matavimas.                    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Supratimo apie IS vaidmenį ir įtaką organizacijai didinimas.                 6,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Organizacijos personalo apmokymo kompiuterizavimas.                       6,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Esamos IS valdymas.                                                                                6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Galutiniam vartotojui skirtų IS kūrimas ir tvarkymas.                             6,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IS panaudojimas konkurenciniam pirmavimui.                                        6,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Atvirų sistemų planavimas ir integravimas (skirtingų IS integravimas)  6,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Elektroninių duomenų mainų (EDI) kūrimas ir tvarkymas.                     5,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Atskirų informacinių paslaugų nuomavimas (outsourcing).                     5,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0DB-FF14-431B-BFA4-1B791F7982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3160" y="456840"/>
            <a:ext cx="808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ių technologijų 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įtaka veikla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380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im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as 1997 metų pabaigoje, nustat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ki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iausias I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tako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Našumo didinimas (improving productivity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Savikainos mažinimas (reducing cos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Priimamų sprendimų gerinimas (improving decision mak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Ryšio su vartotojais tobulinimas (enhancing customer relation­ship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Naujų st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inės paskirties IS kūrimas (developing new strategic applica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446-9ABE-4B68-A830-E8ABD0C47C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240" y="1676160"/>
            <a:ext cx="8255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zav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dyba ir kontrolė globalioje rink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 pasaulio rink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darbo grup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produkto paskirstymo sist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095-90FF-491A-86FE-1EAA4A02F5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5240" y="1371600"/>
            <a:ext cx="8255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ustrinės ekonomik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mis ir informacija grindžiama ekono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ktyv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ji produktai ir paslau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s: pagrindinis gamybos ir strateginis tu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, kurioje svarbus laiko faktorius (time-based compet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mpesnis produkto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ulentinė apl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otas darbuotojų žinių bag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F0E-E315-4E59-9352-339AC1956A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ikl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nės struktūros plokštėjimas (flatt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ldymo d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slank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(flexi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etumas nuo geografinės padėties (location indepen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mos transakcijų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avimo ka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uotojo teisių didėjimas (empower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ektyvinis darbas ir grupinis dar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DA3-D7F4-4EC7-8966-CED41DF6F1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isd</cp:lastModifiedBy>
  <cp:lastPrinted>2002-08-27T15:34:20Z</cp:lastPrinted>
  <dcterms:modified xsi:type="dcterms:W3CDTF">2002-09-11T14:42:15Z</dcterms:modified>
  <cp:revision>86</cp:revision>
  <dc:subject/>
  <dc:title>Informacinės sistemos gamybos valdymui  IT apibrėžimas ir klasifikacija</dc:title>
</cp:coreProperties>
</file>