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3C3E-29FB-4191-AB7C-4F5676C5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7703-0B97-4A85-B799-EB0C7B4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9393-EBD1-49A6-BD22-9A3B2007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4E17-3E05-4315-88A9-B5EF03F1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CB12-2FBA-414C-977B-2E21DA1F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666B-0778-4DA8-B5D9-25B602C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9970-1B78-426B-B057-D7B9C7AB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FF94-7F31-406E-A003-67931CB5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D00C-2C3C-458C-92BC-7627F6B2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AA77-DF4E-4ABD-988C-D899B047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4616-7AFD-4BC7-AF46-AD268E95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EF56-D7AF-4AA3-8DA9-254D169B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899C-8F8A-4862-8718-4904053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E589-0C74-4A5B-BDB5-31BCE691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8483-9026-43DA-9DCC-3619BFD4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D985-95DB-41BB-AEA6-7753592C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B71A-AC2B-4987-8A84-6B87E7EA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40FC-D20D-4B58-8509-163EB5EA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E018-0D10-4733-8637-D1A2BC53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7B71-37CD-4B8E-BB48-29D6BA5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E4DF-08DB-4302-8EC1-4C352557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BE53-8653-468C-A6D9-8A8CEA13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0363-BDEE-464C-AB98-BCB64E4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B005-5F81-4D67-8A4F-33751FBE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9654-A717-4335-87B7-461FC2C10D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1D7A-4CD6-43A3-9E0D-FB632D9505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ffffff"/>
                </a:solidFill>
                <a:latin typeface="Times New Roman"/>
              </a:rPr>
              <a:t>Verslas. Verslumas. Verslininkystė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disponuojantis kapitalu ir siekiantis jį padidinti, ieškantis naujų pelningų veiklos sričių, pasitelkiantis dalykines žinias ir žmogiškąsias savyb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asmuo, kuris susiejęs lėšas, darbą, mežiagas ir pan., padidina jų visuminę ver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sicholog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žmogus, kurį veikti skatina tam tikri motyvai: troškimas ką nors gyvenime pasiekti, įgyti savarankiškumą ir p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tų verslininkų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pavojingas varžovas arba, priešingai, partneris, tiekėjas, pirkėjas ir 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ro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žmogus, didinantis ne vien savo, bet ir nacionalinį turtą, atskleidžiantis geresnį išteklių naudojimo, nuostolių mažinimo būdus, kuriantis naujas darbo vi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ko nors nauja, turinčio vertę kūrimas, jėgų ir laiko reikalaujantis, asmeninę, finansinę, moralinę ir socialinę atsakomybę numatantis procesas, kuris galų gale teikia pinigų ir pasitenkinimą pasiektais rezultat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6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– tai ne vien veiklos forma, gyvenimo būdas, mokslas ir menas kartu paėmus; tai dar poezija ir kūrybinis polėkis, sportas, ekonominės rizikos sritis; jis aprėpia savus rašytinius ir nerašytinius dėsnius, principus, tarpusavio bendravimo etiką, slaptus sveikatos poveikio mechanizm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Nauji, dinamiški, nedideli, bet lankstūs verslai atlieka daug svarbių funkcijų visuomenėje ir nacionalinėje ekonomik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amina prekes, teikia paslaugas, kuria pridėtinę vertę ir didina nacionalines paja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pildo ribotas geografines, gamybines, paslaugų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moka mokesč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kuria naujas darbo vietas, kurios valstybei nieko nekainuo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ininkai apmoko ir įdarbina daug nekvalifikuotų darbinink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perskirsto išteklius, skatina konkuruo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eriau tenkina net itin specifinius bei pavienius vartotojų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veikia kaip ekonominio šoko slopintuvai, nustatantys ekonominio pakilimo ir depresijų rib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dekoncentruoja ekonomines jėgas ir sprendimų pasirink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tikrina individualias galimybes ir socialinį mobilu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ai tenkina asmeninius poreikius bei siekius tų asmenų, kurie juos turi ir val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, ypač nauji, yra tarsi laboratorijos, kuriose galima pigiai išbandyti idėjas, produktus, paslaugas, naujas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ūtent verslai buvo, yra ir bus tarptautinių korporacijų lopš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Išor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92360" y="3860640"/>
            <a:ext cx="2303640" cy="505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5640" y="2421000"/>
            <a:ext cx="230364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458136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katina konkuruo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27640" y="242100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Teikia paslau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56360" y="4653000"/>
            <a:ext cx="22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kuria tu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43280" y="6021360"/>
            <a:ext cx="3600360" cy="576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teikia naujų darbo viet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2626920" y="2923920"/>
            <a:ext cx="8650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987640" y="4365720"/>
            <a:ext cx="504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796000" y="2923920"/>
            <a:ext cx="863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6000" y="436572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43657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Vid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3645000"/>
            <a:ext cx="2736720" cy="504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2205000"/>
            <a:ext cx="2519280" cy="719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inansinės apska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12000" y="2276640"/>
            <a:ext cx="244764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ersonalo valdy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5229360"/>
            <a:ext cx="273528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Rinkodaros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40360" y="5229360"/>
            <a:ext cx="266400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Tiekimo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19280" y="2924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7640" y="2565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58972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292428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003280" y="299736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203640" y="4149360"/>
            <a:ext cx="57636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5076360" y="4149360"/>
            <a:ext cx="86364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3280" y="2997360"/>
            <a:ext cx="3600360" cy="29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2924280"/>
            <a:ext cx="4105080" cy="302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lą sudar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ujos idėjos paieška ir jos įvertini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erslo plano sudary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teklių paiešk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įsteigtos įmonės valdym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Išskiriamos šios verslininkystės rūš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amyb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omerc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nansin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as. Verslumas.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Tiksla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siaiškinti pagrindines verslo sąvok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uformuluoti verslo sampratos apibrėžimą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analizuoti verslo funkcij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rūši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įtaką šalies ekonominei sistema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Gamybinė 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apima prekių gamybą ir vartoj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Komercinės verslininkystė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agrindas yra komerciniai sandoriai, t.y. prekių ir paslaugų perpardav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Finansinėje verslininkystėje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irkimo ir pardavimo objektas yra pinigai, valiuta, vertybiniai popieri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ir XXI a. sandūroje pasaulis yra globalizacijos, naujos informacijos valdymo ir pramonės revoliucijos eros pradžio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ežastys, kurios skatina kurtis mažas ir vidutines įmones ir didina jų reikšmę pasauliui, yra sekanč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žagabaritinės technikos suklestėj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šių kanalų, informatikos suklestėjimas paprastina priėjimą prie duomenų bazių, lengvina kontaktą su klientais ir tiekėjais užmezg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emografiniai pokyči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imos verslo privalum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laugų plėt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totojų poreikių skalės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chologinis darbuotojų poreikių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olatinis rinkos poreikių kit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ug verslo įmonių kuriasi buvusio Rytų bloko šalyse, tarp jų ir Lietuvoje, kadang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žai mažų ir vidutinių įmonių atsirado privatizuojant buvusių valstybinių įmonių padaliniu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aikinus iš centro planuojamas ekonomines sistemas buvo suteikta laisvė privačiai iniciatyvai, kurios viena svarbiausių išraiškų – verslininkystės atgimim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ujai bsikuriančios įmonės dažniausiai gali būti tik mažos, nes jas kuriantys verslininkai nėra sukaupę didelio pradinio kapita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ame pasaulyje verslo įmonės yra valstybės remiamos, o Lietuvoje turėtų būti remiamos, nes j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tykinai mažomis išlaidomis sukuria darbo vietų, ypač paslaugų srityje, kuri nuolat plečias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deda spręsti užimtumo problemas nepramoniniuose ar šiaip atokiuose nuo pagrindinių šalies centrų regionuose, kur stambios įmonės paprastai nelinkusios plėtoti veikl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arbios kaip subrangovės, vykdančios stambių įmonių užsakymus abipusiškai naudingomis sąlygom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idina gyventojų investicinį aktyvumą, naudodamos savininkų, jų giminaičių ir draugų asmenines santaupas verslui plės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ų daugėjant, mažėja kapitalo ir gamybos priemonių susitelkimas įvairiose verslo šakose, todėl sudaroma sveikesnė konkurenci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tina diegti inovacijas, nes sugeba lanksčiau prisitaikyti prie kintančių rinkos poreikių nei didelės įmonės ir kartu verčia pastarąsias neatsilik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enkina psichologinius žmonių atsakomybės, nuosavybės, sprendimo laisvės, individo saviraiškos ir kitus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žose šalyse naudoja įvairių vietų negausius vietinius gamtos ištekl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atsižvelgiant į produkto naujumą arba technologijas, kiekviena naujovė patenka į rinką šiais kanal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alstybės sektori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idinę verslininkystę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pskritai verslininkys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alstyb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gali remti mokslinius atradimus, tik ne visi jie įgyvendinam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idaus verslininkyst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tokia verslininkystė, kuri susiklostė verslo struktūrose ir užtikrina ryšį tarp mokslinių tyrimų ir gamyb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dar vienas kelias, įgalinantis mokslines idėjas paversti gaminiais, t.y. įgyvendinant naują idėją, įsteigiama ir pradeda veikti nauja įmon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 esmės veikia vietinę ekonomiką, nes ji stiprina materialinę ir techninę bazę, todėl daugėja naujų darbo viet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VV, nors ir stokoja finansinių išteklių, mokslinio potencialo, techninių galimybių, įgyvendina nepaprastai daug naujų idėj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a. inovacijų raida išryškino SVV reikšmę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mulkiojo ir vidutiniojo verslo subjektų gausa, aktyvi investicijų ir eksporto veikla, didelis užimtumas bei produktyvios naujos darbo vietos duoda realią naudą nacionalinės ekonomikos plėtr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agrindinis tuometinių verslininkų tiksla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buvo kuo labiau apgauti pirkėją gaunant ku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augiau naudos s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rslininkystės samprata kūrėsi stebint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asdienę žmonių ūkinę veikl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intanti socialinė aplinka sudarė sąlyg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urtis verslininkų bendrij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ieji bandymai teoriškai įprasminti reiškinį 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” įvyko tik XVII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dfdef6"/>
                </a:solidFill>
                <a:latin typeface="Times New Roman"/>
              </a:rPr>
              <a:t>Dėkoju už dėmesį </a:t>
            </a:r>
            <a:r>
              <a:rPr b="1" i="1" lang="en-US" sz="5400" spc="-1" strike="noStrike">
                <a:solidFill>
                  <a:srgbClr val="dfdef6"/>
                </a:solidFill>
                <a:latin typeface="Times New Roman"/>
                <a:ea typeface="Arial"/>
              </a:rPr>
              <a:t>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iduramžiais sąvoka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“verslininkas”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artojama dvejopa prasme: verslininkai buvo parodų ir muzikos renginių organizatoriai bei didelių galimybių arba statybinių projektų vadov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VII a. jau atsižvelgiama į rizikos veiksn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sudaręs su valstybe sutartį, kurios įgyvendinimo vertė iš anksto apta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ž. Lokas Prancūzijoje įkūrė Karališkąjį banką ir Misisipės bendrov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cij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dokumentas (vertybinis popierius), liudijantis nuosavybės ir balsavimo teisę akcinėje bendrovė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tyvai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konkrečiam  asmeniui priklausantis fizinis turtas (pinigai, akcijos, obligacijos) bei turtinės teisės, turinčios ekonominę vertę (patentai, autorių teisė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asis verslininkystės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teoreti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XVIII a. pr. Anglijos ekonomistas R.Kantilj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asak R.Kantiljono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žmogus, kuris tam tikra kaina perka gamybos priemones, kad pagamintų atitinkamai produkcijos, siekdamas gauti pajamų, tačiau nežino, kokiomis kainomis pardu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raktuojamas kaip žmogus, veikiantis rizikos sąlygo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.Sėjaus nuomone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tai žmogus, organizuojantis žmones gamybiniame viene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XVIII a. atskiriamos sąvokos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kapitalo savininkas”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ir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verslininkas”,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.y. atskiriamos kapitalo teikimo ir verslininkystės funk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Kapital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finansiniai ir materialiniai ištekliai prekėms gaminti ir paslaugoms teikti; į mokslą investuotos savininko lėš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Vartojamos sąvokos: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smulkusis verslas”, “vidutinis versla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SVV apibrėžti labiausiai tinka tokie ES priimti kriterij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inės įplaukos už realizuotą produkcij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anso sum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dra įmonei priklausančio turto suma, įskaičius grynuosius pinigus, žaliavų ir prekių atsargas, žemę, įrenginius ir kitus ištekli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buotojų skaič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BM bendrovės atstovas Tomas Dž. Votsonas jaunesnysis poetiškai teigia, kad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didžiausias žaidimas pasaulyje, jeigu žinote, kaip jį žaisti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stų požiūriu verslas y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ominė veikla, kuria siekiama peln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žsiėmimas, darbas, smulkioji gamyba, amat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giau trunkanti profesinė ir neprofesinė veikla, susijusi su pareigomis ir teisėmis siekiant uždarb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ybos, pirkimo, pardavimo ar tiekimo veikla, atliekama už pinigus ir t.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um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gamybos veiksnys, kurio turinys – žmogaus gebėjimas susieti kapitalą, darbą ir gamtinius išteklius, organizuoti verslą, įgyvendinti inovacijas, rizikuoti savo turtu ir gerove siekiant pel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nuosavybė, savarankiškumas, atsakomybė prieš visuomenę, dirbančiuosius, už save ir artimųjų gyvenim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8:09:29Z</dcterms:created>
  <dc:creator>a</dc:creator>
  <dc:description/>
  <dc:language>en-US</dc:language>
  <cp:lastModifiedBy>SK_06</cp:lastModifiedBy>
  <dcterms:modified xsi:type="dcterms:W3CDTF">2007-10-16T11:46:44Z</dcterms:modified>
  <cp:revision>32</cp:revision>
  <dc:subject/>
  <dc:title>Verslas. Verslumas. Verslininkystė</dc:title>
</cp:coreProperties>
</file>