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D8555-38B6-4B61-A3C1-FC41FA8964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6B063-8B82-4C1D-B4B2-650A05C426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DEE43-4253-4938-A094-2F7C0BE01D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8D00D-6563-42D3-9B2A-6A093E8A4A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E6D23-74F1-485C-99F6-B61607C958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693E7-A169-46B7-9708-02242DB8A6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CD437-3DDA-4CC4-80A0-D6D7534433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40999-2DB2-485F-B399-F5AE590DE7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FF4D8-D4A6-4C89-BA7F-0B13906A0A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FF892-6F78-4745-BE30-CB555811BB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CAF28-8B21-463B-A8E1-66596E4689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AEEDF-EFA1-4221-BDA4-6ACC4AFC3C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457840" y="6248160"/>
            <a:ext cx="68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7d7c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19CA-A33F-4F77-92E5-CE6CEDFFEB08}" type="slidenum">
              <a:rPr b="0" lang="en-US" sz="1400" spc="-1" strike="noStrike">
                <a:solidFill>
                  <a:srgbClr val="d7d7ce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5238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lvl="1" marL="457200" indent="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inis programavimas C++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Operatorių perkrovimas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Laikini grąžinami kintamiej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Skirtumas tarp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Integer(left.i + right.i);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Integer tmp(left.i + right.i)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tmp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peratorių apibrėž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Visi unariniai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kaip klasės metoda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( ) [ ] –&gt; –&gt;*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Privalo būti klasės metoda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= –= /= *= ^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amp;= |= %= &gt;&gt;= &lt;&lt;=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Kaip klasės metoda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Visi kiti binariniai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aip </a:t>
            </a: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friend 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kcijo</a:t>
            </a: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Namų darb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erskaityti TICPP 12 skyri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peratorių perkrov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askirtis – palengvinti kodo skaitomum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peratorių perkrov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askirtis – palengvinti kodo skaitomum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Ne kas kita, kaip globali funkci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erkrauti operatorius galima tik vartotojo apibrėžtiems tip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rametrų skaičiu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Jei apibrėžiamas kaip globali funkcija, tai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Unariniai operatoriai – vienas parametras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Binariniai operatoriai – du parametra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Jei apibrėžiamas kaip klasės metodas, tai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Unariniai operatoriai – be parametrų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Binariniai operatoriai – vienas paramet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Sintaksė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9900"/>
                </a:solidFill>
                <a:latin typeface="Arial Unicode MS"/>
              </a:rPr>
              <a:t>//: C12:OperatorOverloadingSyntax.cp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#include &lt;iostream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using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namespace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std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class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Integer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i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Integer(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ii) : i(ii) {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Integer 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+(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Integer&amp; rv) 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cout &lt;&lt; </a:t>
            </a:r>
            <a:r>
              <a:rPr b="0" lang="lt-LT" sz="1400" spc="-1" strike="noStrike">
                <a:solidFill>
                  <a:srgbClr val="004488"/>
                </a:solidFill>
                <a:latin typeface="Arial Unicode MS"/>
              </a:rPr>
              <a:t>"operator+"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&lt;&lt; endl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Integer(i + rv.i)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Integer&amp; 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+=(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Integer&amp; rv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cout &lt;&lt; </a:t>
            </a:r>
            <a:r>
              <a:rPr b="0" lang="lt-LT" sz="1400" spc="-1" strike="noStrike">
                <a:solidFill>
                  <a:srgbClr val="004488"/>
                </a:solidFill>
                <a:latin typeface="Arial Unicode MS"/>
              </a:rPr>
              <a:t>"operator+="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&lt;&lt; endl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i += rv.i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*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this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Integer ii(1), jj(2), kk(3)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kk += ii + jj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Variantas – globali funkcija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teger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// Prefix: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frien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teger&amp;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++(Integer&amp; a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// Postfix: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frien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teger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++(Integer&amp; a,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// Prefix; return incremented value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teger&amp;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++(Integer&amp; a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cout &lt;&lt; </a:t>
            </a:r>
            <a:r>
              <a:rPr b="0" lang="lt-LT" sz="1400" spc="-1" strike="noStrike">
                <a:solidFill>
                  <a:srgbClr val="004488"/>
                </a:solidFill>
                <a:latin typeface="Verdana"/>
              </a:rPr>
              <a:t>"++Integer\n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a.i++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a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// Postfix; return the value before increment: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teger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++(Integer&amp; a,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cout &lt;&lt; </a:t>
            </a:r>
            <a:r>
              <a:rPr b="0" lang="lt-LT" sz="1400" spc="-1" strike="noStrike">
                <a:solidFill>
                  <a:srgbClr val="004488"/>
                </a:solidFill>
                <a:latin typeface="Verdana"/>
              </a:rPr>
              <a:t>"Integer++\n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Integer before(a.i)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a.i++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before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Variantas – metod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Byte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unsigne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ha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b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// Prefix: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Byte&amp;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++(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cout &lt;&lt; </a:t>
            </a:r>
            <a:r>
              <a:rPr b="0" lang="lt-LT" sz="1400" spc="-1" strike="noStrike">
                <a:solidFill>
                  <a:srgbClr val="004488"/>
                </a:solidFill>
                <a:latin typeface="Verdana"/>
              </a:rPr>
              <a:t>"++Byte\n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b++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*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thi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// Postfix: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Byte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++(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cout &lt;&lt; </a:t>
            </a:r>
            <a:r>
              <a:rPr b="0" lang="lt-LT" sz="1400" spc="-1" strike="noStrike">
                <a:solidFill>
                  <a:srgbClr val="004488"/>
                </a:solidFill>
                <a:latin typeface="Verdana"/>
              </a:rPr>
              <a:t>"Byte++\n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Byte before(b)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b++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before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perator=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Byte&amp;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=(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Byte&amp; right)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// Handle self-assignment: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if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thi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== &amp;right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*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thi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b = right.b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*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thi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Kaip šiame pavyzdyje būtų su priskyrimu a=b=c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Kaip šiame pavyzdyje būtų su priskyrimu (a=b).funk();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O kaip būtų su (++a).funk();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Binarinis operatoriu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&gt;=(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Byte&amp; right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b &gt;= right.b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20:44:31Z</dcterms:created>
  <dc:creator>Andrius Adamonis</dc:creator>
  <dc:description/>
  <dc:language>en-US</dc:language>
  <cp:lastModifiedBy>Andrius Adamonis</cp:lastModifiedBy>
  <dcterms:modified xsi:type="dcterms:W3CDTF">2005-04-01T03:13:52Z</dcterms:modified>
  <cp:revision>43</cp:revision>
  <dc:subject/>
  <dc:title>PowerPoint Presentation</dc:title>
</cp:coreProperties>
</file>