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8C58-7050-498B-B8BC-81E83B1BE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9B2F-994E-4E99-963A-D7F3D6E0B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0B31-BFD4-43A0-89C8-9DEFEB0BF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88EC-DFA7-4DA3-B22B-9548507FA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9B9D-54A3-4FF0-83CD-77359BC0D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6CE3-4D98-4CAC-BE41-68E79D41C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6F86-886F-4B89-9F05-5F7564BA1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CA5C-30B1-4264-A280-779B38368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1BDB-55C1-463D-B7A7-000BF78365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AE905-B57A-481E-BB18-FFF391745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5871-3C99-4AD9-84A4-4BCB087D4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172E-B6EC-41B5-8D7A-67A67F861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E3F7-2680-4FE0-ADE7-CF1AAF5F47C2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Dinaminis objektų kūr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ozicij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4360" y="1341360"/>
          <a:ext cx="443376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43376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ozicija (2)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4360" y="1341360"/>
          <a:ext cx="514332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14332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ozicija (3)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4360" y="1341360"/>
          <a:ext cx="4638600" cy="39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63860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veldėj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4360" y="1333440"/>
          <a:ext cx="442908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33440"/>
                    <a:ext cx="442908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dinių objektų inicializa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4360" y="1341360"/>
          <a:ext cx="4592520" cy="2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59252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84360" y="2276640"/>
          <a:ext cx="5748120" cy="20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276640"/>
                    <a:ext cx="5748120" cy="20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84360" y="2997360"/>
          <a:ext cx="5599080" cy="313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2997360"/>
                    <a:ext cx="559908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Inicializavimo tvar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a tvarka kaip deklaruot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55640" y="1916280"/>
          <a:ext cx="3737160" cy="6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373716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826920" y="2708280"/>
          <a:ext cx="396432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2708280"/>
                    <a:ext cx="39643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971640" y="3645000"/>
          <a:ext cx="2444760" cy="29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3645000"/>
                    <a:ext cx="24447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3 ir 14 skyri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o kūr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ai kuriamas objekt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1. Išskiriama atmin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Statinėje atminty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Stek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Dinaminėje atmintyje (</a:t>
            </a:r>
            <a:r>
              <a:rPr b="0" i="1" lang="lt-LT" sz="2000" spc="-1" strike="noStrike">
                <a:solidFill>
                  <a:srgbClr val="000000"/>
                </a:solidFill>
                <a:latin typeface="Verdana"/>
              </a:rPr>
              <a:t>heap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2. Kviečiamas konstruktori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s sukūr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Be konstruktoriaus reikėtų daryti taip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ačiau gali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71640" y="1989000"/>
          <a:ext cx="4376520" cy="3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89000"/>
                    <a:ext cx="437652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920880" y="2421000"/>
          <a:ext cx="225108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880" y="2421000"/>
                    <a:ext cx="225108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971640" y="4581360"/>
          <a:ext cx="3459240" cy="29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581360"/>
                    <a:ext cx="34592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tlaisvin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Dinaminėje atmintyje sukurtą objektą atlaisvina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lt-LT" sz="1600" spc="-1" strike="noStrike">
                <a:solidFill>
                  <a:srgbClr val="3333cc"/>
                </a:solidFill>
                <a:latin typeface="Courier New"/>
              </a:rPr>
              <a:t>delete</a:t>
            </a:r>
            <a:r>
              <a:rPr b="1" lang="lt-LT" sz="1600" spc="-1" strike="noStrike">
                <a:solidFill>
                  <a:srgbClr val="000000"/>
                </a:solidFill>
                <a:latin typeface="Courier New"/>
              </a:rPr>
              <a:t> f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vyzdy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341360"/>
          <a:ext cx="5564160" cy="48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56416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ų objektų masyv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55640" y="1557360"/>
          <a:ext cx="3405240" cy="26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340524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804960" y="2205000"/>
          <a:ext cx="293688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4960" y="2205000"/>
                    <a:ext cx="29368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55640" y="3068640"/>
          <a:ext cx="434196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068640"/>
                    <a:ext cx="43419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55640" y="4149720"/>
          <a:ext cx="1496880" cy="27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4149720"/>
                    <a:ext cx="149688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55640" y="4508640"/>
          <a:ext cx="1851120" cy="25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4508640"/>
                    <a:ext cx="1851120" cy="25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gražinimas cons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eleidžiame keisti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reikšmės (bet ne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</a:rPr>
              <a:t>*q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!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2133720"/>
          <a:ext cx="2695320" cy="2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269532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ut_of_memory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341360"/>
          <a:ext cx="5933880" cy="49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93388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Kompozicija ir paveldėj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2-25T14:03:44Z</dcterms:modified>
  <cp:revision>34</cp:revision>
  <dc:subject/>
  <dc:title>PowerPoint Presentation</dc:title>
</cp:coreProperties>
</file>