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9723-A0B5-4FF8-9D92-40FACE3DF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AB5E-E821-4242-8ED4-0249AA93C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A2CC-75F1-4909-8476-F52B2F3C1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CC6A-0751-46F8-8731-0A18AFCB1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9521-5669-4BE7-9E17-1011DC339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ABEA-C090-468B-9DB8-925E8A859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FE32-794F-412F-BF47-AB3D54CE5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F76B-6FBC-4C7F-9068-576EFD238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2647-F1BA-4BE7-AADA-958108A82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FC65-E3BD-4F4B-A801-9237BCB23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85E8-8C57-49FD-AC1E-FBC99812A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4C8F-56FC-470A-B05D-8B93425BE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D7EF-0D99-4740-847E-2C5F6B0B6998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42920" y="1484280"/>
          <a:ext cx="61689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168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42920" y="2097000"/>
          <a:ext cx="239868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097000"/>
                    <a:ext cx="2398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82520" y="2708280"/>
          <a:ext cx="330048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708280"/>
                    <a:ext cx="3300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074600" y="3357720"/>
          <a:ext cx="191304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4600" y="3357720"/>
                    <a:ext cx="19130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07920" y="4629240"/>
          <a:ext cx="288612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7920" y="4629240"/>
                    <a:ext cx="28861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27160" y="5649840"/>
          <a:ext cx="248616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27160" y="5649840"/>
                    <a:ext cx="24861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reikšm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1413000"/>
          <a:ext cx="46418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46418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77080" y="4869000"/>
          <a:ext cx="141444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869000"/>
                    <a:ext cx="1414440" cy="117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adres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0000" y="1293840"/>
          <a:ext cx="485640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93840"/>
                    <a:ext cx="48564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227640" y="4508640"/>
          <a:ext cx="222912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508640"/>
                    <a:ext cx="222912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C++ nuorod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95240" y="1293840"/>
          <a:ext cx="60706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293840"/>
                    <a:ext cx="60706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691320" y="4437000"/>
          <a:ext cx="22604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1320" y="4437000"/>
                    <a:ext cx="2260440" cy="1689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odifikatori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17480" y="1309680"/>
          <a:ext cx="669600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09680"/>
                    <a:ext cx="66960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oid*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68160" y="1301760"/>
          <a:ext cx="426096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01760"/>
                    <a:ext cx="426096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96880" y="4653000"/>
          <a:ext cx="5726160" cy="19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880" y="4653000"/>
                    <a:ext cx="572616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galiojimo rib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341360"/>
          <a:ext cx="462276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227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typedef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1341360"/>
          <a:ext cx="458460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846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11280" y="2060640"/>
          <a:ext cx="174312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060640"/>
                    <a:ext cx="1743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1280" y="2997360"/>
          <a:ext cx="317160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97360"/>
                    <a:ext cx="317160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uktūr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341360"/>
          <a:ext cx="666108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66108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 save referuojanti struktūr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341360"/>
          <a:ext cx="645948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45948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 į struktūrą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308240"/>
          <a:ext cx="6985080" cy="54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08240"/>
                    <a:ext cx="6985080" cy="54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C++ iostream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447920"/>
          <a:ext cx="66355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47920"/>
                    <a:ext cx="6635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ved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19280" y="1628640"/>
          <a:ext cx="5845320" cy="38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4532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ing kla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628640"/>
          <a:ext cx="74026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7402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ų skaitymas ir rašy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700280"/>
          <a:ext cx="764676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64676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o skaitymas eilutėmi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844640"/>
          <a:ext cx="652788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65278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ek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63400" y="1317600"/>
          <a:ext cx="743112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1317600"/>
                    <a:ext cx="7431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85920"/>
          <a:ext cx="66578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85920"/>
                    <a:ext cx="66578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61040" y="3716280"/>
          <a:ext cx="2982960" cy="22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3716280"/>
                    <a:ext cx="2982960" cy="22258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11T15:06:45Z</dcterms:modified>
  <cp:revision>31</cp:revision>
  <dc:subject/>
  <dc:title>PowerPoint Presentation</dc:title>
</cp:coreProperties>
</file>