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D383-48FE-4937-900D-925F02E4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6AF-819F-45DC-B17C-26FEF955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506-EE4C-461B-AE7C-F7DDB765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CE2-0537-4ED9-A470-3B44CF23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B7AF-56D1-4130-A777-08BA9D3F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8231-B2EE-451C-B316-6150008C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2D30-5633-45C6-83A4-60675CED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EE76-A193-46A5-88C1-6F61AA0E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722D-D746-4615-80E9-9076F386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61B1-F41A-4DB6-A553-08FA94FB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F0FA-A4CA-4050-A1EF-4B25804E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8F51-5549-4EC9-8D6A-2654ACF3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8AA8-351C-4937-BFB3-D50BB6DF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163E-CA45-4ACD-A156-BC023AB3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3793-3BDE-437B-9787-F420EA25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97D9-A9B4-4B43-A75D-EFCBADB2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7264-C665-4FB8-A320-DBC88FB6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FEB4-6566-4551-AE85-C865754B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5416-35BD-49D1-BB56-C1419BAA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B21-6FE8-44B8-99B1-9BD5F7D2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39E-4DDC-46E6-818F-76F886A1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9C4-A048-465B-97DA-A23EC97F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42A-3280-43C0-B87B-9163F143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28E-1120-4418-8DC6-8EC12B82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A0B5-F212-4464-AC37-06EFCDEEED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A6A1-890A-4B40-B8B7-32C6FE96B6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000000"/>
                </a:solidFill>
                <a:latin typeface="Verdana"/>
              </a:rPr>
              <a:t>Vadybos teori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jo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C24A-D6A8-4A75-A7DB-9F5CCF367BE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Teorija „Z“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technikos: sprendimų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Dinamiškų santykių požiūris į vadybos mokslą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uotinės kokybės vadybos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348-8E3A-4075-AD5F-146FB9D86DD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Pokyčių ir inovacijų valdyma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Naujos sąlygos valdymui: vadybos mokslo ateiti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560-76E6-4939-B2C3-09E6025272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EGZAMINAS (13-26 temo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Testas sudarytas iš teorinių klausimų ir situacijos analizių (uždavinių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Egzaminas vyksta raš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Konsultacijos teikiamos teorinių paskaitų ir pratybų me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akartotinas atsiskaitymas skiriamas pagal numatytą egzaminų perlaikymo savaitės tvarkaraštį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50 proc. galutinio pažym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7A3-479E-4802-BC6B-B27AD57F89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varan</a:t>
            </a: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kiškas darb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imes New Roman"/>
              </a:rPr>
              <a:t>Individualūs užduočių pristatymai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atliekami pasirinktomis temomis, suderintomis su dalyko dėstytoj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as atliekamas PowerPoint formate, pateikiant pristatymo skaidres, atspausdintas po dvi A4 formato lapuos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as atliekamas auditorijoje pratybų me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o trukmė 10-15 mi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įtaka galutiniam pažymiui - 10 proc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0876-024F-48A1-9618-B378464181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varan</a:t>
            </a: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kiškas darb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ų darbas (grupinė užduotis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šomas pasirinktinai pagal dėstytojo pateiktas temas, suderinus jas su dėstytoju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itinio pobūdžio studija, kurioje turi dominuoti analitinis stilius, išreiškiantis autorių nuomonę į tyrinėjamą tematiką bei kitų autorių atliktus pastebėjimus ir tyrimu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ekama grupėse po 3-4 studentu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kiamas raštu iki 14 studijų savaitės (iki gegužės 07d.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16 savaitę vyks namų darbų pristatymai, parengti PowerPoint formate. Pristatymo trukmė 10-15mi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atliekamas tokiu būdu: (50 proc. darbas pateiktas raštu ir 50 proc. – pristatymas. Konsultacijos teikiamos pratybų metu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A0D-5C5D-407E-A1DE-B61C51BF7D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Atsiskaity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" y="2057400"/>
            <a:ext cx="8762760" cy="3987720"/>
            <a:chOff x="228600" y="2057400"/>
            <a:chExt cx="8762760" cy="3987720"/>
          </a:xfrm>
        </p:grpSpPr>
        <p:grpSp>
          <p:nvGrpSpPr>
            <p:cNvPr id="114" name=""/>
            <p:cNvGrpSpPr/>
            <p:nvPr/>
          </p:nvGrpSpPr>
          <p:grpSpPr>
            <a:xfrm>
              <a:off x="236520" y="2062080"/>
              <a:ext cx="8745840" cy="3978360"/>
              <a:chOff x="236520" y="2062080"/>
              <a:chExt cx="8745840" cy="397836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36520" y="2062080"/>
                <a:ext cx="4754880" cy="914400"/>
                <a:chOff x="236520" y="2062080"/>
                <a:chExt cx="4754880" cy="9144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52440" y="2062080"/>
                  <a:ext cx="45230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tsiskaitymo (užduoties) tip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36520" y="2062080"/>
                  <a:ext cx="47548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991760" y="2062080"/>
                <a:ext cx="1242720" cy="914400"/>
                <a:chOff x="4991760" y="2062080"/>
                <a:chExt cx="1242720" cy="9144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107680" y="2062080"/>
                  <a:ext cx="10112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m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991760" y="2062080"/>
                  <a:ext cx="12427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234840" y="2062080"/>
                <a:ext cx="1189080" cy="914400"/>
                <a:chOff x="6234840" y="2062080"/>
                <a:chExt cx="1189080" cy="9144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350760" y="2062080"/>
                  <a:ext cx="95760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š viso valandų, val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234840" y="2062080"/>
                  <a:ext cx="1189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7424280" y="2062080"/>
                <a:ext cx="1558080" cy="914400"/>
                <a:chOff x="7424280" y="2062080"/>
                <a:chExt cx="1558080" cy="914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539840" y="2062080"/>
                  <a:ext cx="13262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Įtaka pažymiui, proc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24280" y="2062080"/>
                  <a:ext cx="1558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36520" y="2976480"/>
                <a:ext cx="4754880" cy="609480"/>
                <a:chOff x="236520" y="2976480"/>
                <a:chExt cx="4754880" cy="6094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52440" y="297648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dividualūs užduočių pristatyma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36520" y="297648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991760" y="2976480"/>
                <a:ext cx="1242720" cy="609480"/>
                <a:chOff x="4991760" y="2976480"/>
                <a:chExt cx="1242720" cy="6094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107680" y="297648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991760" y="297648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234840" y="2976480"/>
                <a:ext cx="1189080" cy="609480"/>
                <a:chOff x="6234840" y="2976480"/>
                <a:chExt cx="1189080" cy="6094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350760" y="297648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234840" y="297648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424280" y="2976480"/>
                <a:ext cx="1558080" cy="609480"/>
                <a:chOff x="7424280" y="2976480"/>
                <a:chExt cx="1558080" cy="6094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7539840" y="297648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424280" y="297648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36520" y="3585960"/>
                <a:ext cx="4754880" cy="609840"/>
                <a:chOff x="236520" y="3585960"/>
                <a:chExt cx="4754880" cy="6098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52440" y="3585960"/>
                  <a:ext cx="45230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mų darbai (grupinės užduoty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36520" y="3585960"/>
                  <a:ext cx="47548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991760" y="3585960"/>
                <a:ext cx="1242720" cy="609840"/>
                <a:chOff x="4991760" y="3585960"/>
                <a:chExt cx="1242720" cy="609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107680" y="3585960"/>
                  <a:ext cx="1011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991760" y="3585960"/>
                  <a:ext cx="12427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234840" y="3585960"/>
                <a:ext cx="1189080" cy="609840"/>
                <a:chOff x="6234840" y="3585960"/>
                <a:chExt cx="1189080" cy="6098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350760" y="3585960"/>
                  <a:ext cx="957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234840" y="3585960"/>
                  <a:ext cx="11890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424280" y="3585960"/>
                <a:ext cx="1558080" cy="609840"/>
                <a:chOff x="7424280" y="3585960"/>
                <a:chExt cx="1558080" cy="6098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539840" y="3585960"/>
                  <a:ext cx="1326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424280" y="3585960"/>
                  <a:ext cx="15580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36520" y="4195800"/>
                <a:ext cx="4754880" cy="609480"/>
                <a:chOff x="236520" y="4195800"/>
                <a:chExt cx="4754880" cy="6094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52440" y="419580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arpinis egzam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36520" y="419580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991760" y="4195800"/>
                <a:ext cx="1242720" cy="609480"/>
                <a:chOff x="4991760" y="4195800"/>
                <a:chExt cx="1242720" cy="6094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107680" y="419580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991760" y="419580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234840" y="4195800"/>
                <a:ext cx="1189080" cy="609480"/>
                <a:chOff x="6234840" y="4195800"/>
                <a:chExt cx="1189080" cy="6094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350760" y="419580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234840" y="419580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7424280" y="4195800"/>
                <a:ext cx="1558080" cy="609480"/>
                <a:chOff x="7424280" y="4195800"/>
                <a:chExt cx="1558080" cy="6094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7539840" y="419580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24280" y="419580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36520" y="4805280"/>
                <a:ext cx="4754880" cy="609480"/>
                <a:chOff x="236520" y="4805280"/>
                <a:chExt cx="4754880" cy="609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52440" y="480528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alutinis egzaminas</a:t>
                  </a:r>
                  <a:r>
                    <a:rPr b="0" lang="lt-LT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36520" y="480528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991760" y="4805280"/>
                <a:ext cx="1242720" cy="609480"/>
                <a:chOff x="4991760" y="4805280"/>
                <a:chExt cx="1242720" cy="609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107680" y="480528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91760" y="480528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6234840" y="4805280"/>
                <a:ext cx="1189080" cy="609480"/>
                <a:chOff x="6234840" y="4805280"/>
                <a:chExt cx="1189080" cy="609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350760" y="480528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234840" y="480528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424280" y="4805280"/>
                <a:ext cx="1558080" cy="609480"/>
                <a:chOff x="7424280" y="4805280"/>
                <a:chExt cx="1558080" cy="609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539840" y="480528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424280" y="480528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236520" y="5414760"/>
                <a:ext cx="4754880" cy="625680"/>
                <a:chOff x="236520" y="5414760"/>
                <a:chExt cx="4754880" cy="6256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52440" y="5414760"/>
                  <a:ext cx="45230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š viso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36520" y="5414760"/>
                  <a:ext cx="47548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991760" y="5414760"/>
                <a:ext cx="1242720" cy="625680"/>
                <a:chOff x="4991760" y="5414760"/>
                <a:chExt cx="1242720" cy="6256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107680" y="5414760"/>
                  <a:ext cx="10112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991760" y="5414760"/>
                  <a:ext cx="1242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234840" y="5414760"/>
                <a:ext cx="1189080" cy="625680"/>
                <a:chOff x="6234840" y="5414760"/>
                <a:chExt cx="1189080" cy="6256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350760" y="5414760"/>
                  <a:ext cx="95760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234840" y="5414760"/>
                  <a:ext cx="11890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7424280" y="5414760"/>
                <a:ext cx="1558080" cy="625680"/>
                <a:chOff x="7424280" y="5414760"/>
                <a:chExt cx="1558080" cy="6256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7539840" y="5414760"/>
                  <a:ext cx="13262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24280" y="5414760"/>
                  <a:ext cx="15580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228600" y="2057400"/>
              <a:ext cx="8762760" cy="3987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DE2D-C38A-4491-89F8-412E98B3440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Literatūra (pagrindinė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ames A.F. Stoner, R.Edward Freman, Daniel R. Gilbert, Jr. Vadyba. Kaunas, Poligrafija ir informatika, 1999. 660 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vilas Zakarevičius, Vadyba: genezė, dabartis, tendencijos. Kaunas, Vytauto Didžiojo universiteta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. 225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raim Turban, Jack Meredith, Fundamentals of management science. Irwin, 1991. 1010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nius Neverauskas, Jonas Rastenis, Vadybos pagrindai. Kaunas, Technologija, 2001. 143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iel A. Wren, The Evolution of Management Thought, John Wiley &amp; Sons, Inc. 1994. 466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02B-E7BF-46C0-AFA9-DF627C6E135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Literatūra (papildoma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Ramon J. Aldag,Timothy M. Stearns, Management. Cincinati, South-Western Publishing, 1991. 800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G.A. Cole, Management: Theory and Practice. London, Letts, 1996. 462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Fabijonas Saulius Butkus. Organizacijos ir vadyba. Vilnius, Alma Litera, 1996. 158 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Jonas Kvedaravičius. Graičiūno vieta ir reikšmė vadybos raidoje. Kn.: Organizacijų vadyba: sisteminiai tyrimai, Nr.8. Kaunas, VDU. 1998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Michael H. Mescon, Michale Albert, Franklin Khedouri. Management. New York, Harper and Row Publishers, 1992. 700 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44B-249F-470F-8E8C-D3AFD2863E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iksla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1520" y="2111040"/>
            <a:ext cx="7851600" cy="387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supažindinti su vadybos moks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suteikti teorines žinias apie vadybos mokslo raid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ugdyti įgūdžius, įgalinančius analizuoti vadybos mokslo raidos tendencij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2D5-75DA-4987-9BF8-6DED6733A1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iksla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Verdana"/>
              </a:rPr>
              <a:t>pažinti ir vertinti vadybos įtaką organizacijų ir pasaulio ekonomikos plėtr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Verdana"/>
              </a:rPr>
              <a:t>pritaikant vadybos mokslinės minties istorinę patirtį, formuoti vadybos mokslo principų vieningą suvokim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963-54F6-441B-9C3B-6BBDC47F87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ištakos: ankstyvieji strateg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organizacijų  valdy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kslinio valdymo mokykla: F. Taylor vadybos princip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kslinio valdymo teorijos raida ir reikšmė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72A-98E8-4582-9BAD-B64186EA92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organizacijos teorijos mokykla: H. Fayol vadybos princip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as Lietuvoje: V. Graičiūno indėlis į klasikinės organizacijos teorijos raidą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. Weber idealaus biurokrat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sociopsichologinė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F106-A38A-4142-8BF0-DCD56708A9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Žmogiškųjų santykių teorija: Hawthorne eksperimenta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Bihevioristinė mokykla: veiklos ir elgsenos motyvavi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Lyderiavi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Grupių elgseno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CF9-A65F-4FF3-BC3A-C891761863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Tarpinis egzaminas (1-12 tem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Testas, sudarytas iš teorinių klausimų ir situacijos analizių (uždavinių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Atsiskaitymas vyksta raš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Konsultacijos teikiamos teorinių paskaitų ir pratybų metu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30 proc. galutinio pažym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485-6BB5-49BC-8893-B3892B2C79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isuotinis dalyvavimas valdyme: partisipatyvinė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mokykla: kiekybinės valdy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Integratyvaus valdymo mokykl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Profesionalaus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422-67C0-4E47-99D8-8578529CEC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derniosios vadybo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istem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ituatyv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trateginio valdymo teorij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6C8-7BA7-45A3-B8B3-CBEB1241A8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4:06Z</dcterms:modified>
  <cp:revision>17</cp:revision>
  <dc:subject/>
  <dc:title>Introduction to Management</dc:title>
</cp:coreProperties>
</file>