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5AD-6A15-4EE2-A2DE-8DE5E386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377-81C8-45B5-910B-19985646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FDD-5EE7-474E-B70F-FFC31C62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AAC-01D2-4123-8E68-78DCC7B8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8E4C-BBD5-4BB0-AA4C-7E42074E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9C55-273A-4DB6-815A-FA1E5FEE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ED4B-2B67-4142-B29A-75359DEA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1C81-6D7D-4188-852E-F5240DDD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5D8B-B22D-409E-AF68-6968046D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D848-608E-48D8-8FBE-F126ED8E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F8A3-71D6-4F9E-A09C-3FAC66CD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BE6-686F-4BA0-B687-13A1540F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7415-7D0A-44DA-AE38-B5BB00B0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FBC9-4D7B-42FF-B998-12487402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4F5F-1536-40AE-9D9D-94F0BE2B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0E3C-40B0-44C9-B0FC-11C80111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9AA9-ABCE-4117-9078-132DBE53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B02-D115-4FA1-891A-A74BBE72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F34-127E-4C2B-8AB5-75C2A69C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E3C-ED40-4252-A0E2-D060AC56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1F5-C856-4C2D-AD1F-84878DD7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F61-D8C0-4478-A3ED-C44FE1C7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731-9000-42AE-96C2-3A0E1784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2CC-77B2-4B87-AF2F-6A9370C4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2BBE-9428-47E7-94D4-6CC7E6B9A5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3AD7-E5D3-4015-A066-C7000BB6C6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samprata ir kateg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588F-9218-4501-9EF2-B0C94EC88AB5}" type="slidenum">
              <a:t>1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rezulta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PRINCIPAI IR METODAI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85A-9A5C-4128-8F2B-1A6184E08005}" type="slidenum">
              <a:t>10</a:t>
            </a:fld>
          </a:p>
        </p:txBody>
      </p:sp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rindinės taisyklės, elgesio normos, teiginiai, kuriais(iomis) remiantis reiktų atlikti valdymo veiklą organizacijose (efektyviai ir efektinga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026-DC50-40C0-BEE1-70C02F6351DC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Ų KLASIFIKAVI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formuluojamų taisyklių pobūdį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rašomieji (rekomendac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rodomieji (normatyv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apimamų (vadybos) sričių platum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ndrie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nkretū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3D1-001E-4D2E-AD6D-A916615889CA}" type="slidenum">
              <a:t>12</a:t>
            </a:fld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7C6-D6A1-476E-9B8A-EDFBAA37B5DC}" type="slidenum">
              <a:t>13</a:t>
            </a:fld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finė darbinės veiklos rūš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rocesas, apimantis konkrečias stadij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Tikslinė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pagrįsta išteklia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orientuota į rezultat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ikliška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A78-2640-4EF7-B785-F04A83867906}" type="slidenum">
              <a:t>14</a:t>
            </a:fld>
          </a:p>
        </p:txBody>
      </p:sp>
    </p:spTree>
  </p:cSld>
  <p:transition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 ORGANIZ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truktūrizuota žmonių grupė, siekianti bendrų tiksl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rielaid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tvira sistema: vidinė ir išorinė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usideda iš valdymo ir valdomosios posistemi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0DB-24DE-43F7-96D6-513DCA4395F2}" type="slidenum">
              <a:t>15</a:t>
            </a:fld>
          </a:p>
        </p:txBody>
      </p:sp>
    </p:spTree>
  </p:cSld>
  <p:transition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S ORGANIZACIJOS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Išor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NE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475-DA9F-4844-B2E2-F59D261F458E}" type="slidenum">
              <a:t>16</a:t>
            </a:fld>
          </a:p>
        </p:txBody>
      </p:sp>
    </p:spTree>
  </p:cSld>
  <p:transition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os turiny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Darbo pasidalijimo valdyme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avarankiškos valdymo veiklos daly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Objektyvios, specializuotos valdymo veiklo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ų atlikimas valdymo srityse sudaro valdymo veiklos turin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D6E-F32D-4896-AE08-FD57782A168D}" type="slidenum">
              <a:t>17</a:t>
            </a:fld>
          </a:p>
        </p:txBody>
      </p:sp>
    </p:spTree>
  </p:cSld>
  <p:transition>
    <p:split dir="out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veiklos subjekta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Žmonės, atliekantys valdymo veikl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384-D9A4-499B-A7AD-3F9C32E71E80}" type="slidenum">
              <a:t>18</a:t>
            </a:fld>
          </a:p>
        </p:txBody>
      </p:sp>
    </p:spTree>
  </p:cSld>
  <p:transition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OVAI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ALIST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PTARNAUJANTIS PERSONALA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5DF-B3E4-4965-BF6E-E0BA097BF9D2}" type="slidenum">
              <a:t>19</a:t>
            </a:fld>
          </a:p>
        </p:txBody>
      </p:sp>
    </p:spTree>
  </p:cSld>
  <p:transition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3880" y="2363400"/>
            <a:ext cx="7629480" cy="374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samprat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mokslo tikslus, objektą ir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rėžti vadybos mokslo terminij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B97-846D-46D4-B09A-847A466B0C1C}" type="slidenum">
              <a:t>2</a:t>
            </a:fld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METO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bū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agrįsti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sr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avimo stilia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ybos mokslo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BE3-E6CB-42E5-9153-E9E2519193FF}" type="slidenum">
              <a:t>20</a:t>
            </a:fld>
          </a:p>
        </p:txBody>
      </p:sp>
    </p:spTree>
  </p:cSld>
  <p:transition>
    <p:split dir="out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NĖ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DYMO </a:t>
            </a: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TRUKTŪRA (OV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for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antykinai savarankiški elementa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ų pasidalij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Formalių ryšių visum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grandžių ir lygių visu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jos veiklų koordinav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F2D-277F-4D1E-841D-3589CF3793B9}" type="slidenum">
              <a:t>21</a:t>
            </a:fld>
          </a:p>
        </p:txBody>
      </p:sp>
    </p:spTree>
  </p:cSld>
  <p:transition>
    <p:split dir="out" orient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lausimai diskusij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760" y="2017440"/>
            <a:ext cx="38098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uo skiriasi “vadyba” nuo “valdymo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a mokslas ar men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BD04924_" descr=""/>
          <p:cNvPicPr/>
          <p:nvPr/>
        </p:nvPicPr>
        <p:blipFill>
          <a:blip r:embed="rId1"/>
          <a:stretch/>
        </p:blipFill>
        <p:spPr>
          <a:xfrm>
            <a:off x="1562040" y="2017800"/>
            <a:ext cx="3051360" cy="377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7BE-C98C-45A3-8040-2526E09DEC4A}" type="slidenum">
              <a:t>22</a:t>
            </a:fld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 mokslas ar mena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omasi iš vadovėlių, mokytojų ir aplinkos (IŠSILAVINIM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ritaikomas mokslas kintant sąlygoms (PATIRT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o ir meno vertė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inių ir patirties sintezė įgalinanti prognozuoti ateities įvyk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5D9-FE46-4248-A34F-C8D4434A33BD}" type="slidenum">
              <a:t>23</a:t>
            </a:fld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Arial"/>
              </a:rPr>
              <a:t>Kodėl studijuoti vadybą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prasti kaip organizacijos valdom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irengti valdyti arba būti valdom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BD06663_" descr=""/>
          <p:cNvPicPr/>
          <p:nvPr/>
        </p:nvPicPr>
        <p:blipFill>
          <a:blip r:embed="rId1"/>
          <a:stretch/>
        </p:blipFill>
        <p:spPr>
          <a:xfrm>
            <a:off x="1182600" y="2422440"/>
            <a:ext cx="381024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85F-8607-48E6-A65A-7D529FD65A81}" type="slidenum">
              <a:t>24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A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 –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.A. Graičiūnas, 1935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.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mokslinė vadybos ir visuminė valdymo veiklos sampr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EB3-022B-4214-A649-82C1B0D23425}" type="slidenum">
              <a:t>3</a:t>
            </a:fld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nariai, kurie priima esminius sprendimus susijusius su organizacijos veikla. (Šiuo atveju priimtina tik Amerikos vadybinėje kalboj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inios, sukauptos mokslinių tyrimų ir praktinių stebėjimų me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7C0-DF0D-4D9E-B712-F89B84663D4E}" type="slidenum">
              <a:t>4</a:t>
            </a:fld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aktinis mokslinių studijų taikymas specifinių vadybinių problemų sprendimu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os veiklų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lanavimo, organizavimo, vadovavimo ir kontrol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procesas sisteminiu būdu siekiant organizacijos tikslų. 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Ramon J. Aldag, Timothy M. Stearns, Management, 1991 South Western Publishing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i klasikinė samprata reiškianti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minę organizacijos valdymo veiklą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6FF-220C-4F2D-B4DF-E1B739D4F223}" type="slidenum">
              <a:t>5</a:t>
            </a:fld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029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vi 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“VADYBOS”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ampratos pu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ė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psmas vadovu priklauso nuo vadybinių žinių ir praktinių įgūdžių. …šiuo atveju galima kalbėti apie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kaip apie mokslą (discipliną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adovo veikla gali būti sistemiškai analizuojama ir klasifikuojama. …aišku, kad reikia iškirti profesinius ir mokslinius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aspekt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Peter F. Druker An Introductory View of Management, 197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A52-3333-450E-AF1E-0C0A37BF6CA3}" type="slidenum">
              <a:t>6</a:t>
            </a:fld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Mokslas apie socialinių organizacijų, sistemų valdym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raktinių valdymo metodų ir tradicijų, būdingų kokiam nors istoriniam laikotarpiui ar šaliai, visuma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57A-4E59-475E-9143-02403C07E422}" type="slidenum">
              <a:t>7</a:t>
            </a:fld>
          </a:p>
        </p:txBody>
      </p:sp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Suformuoti efektyvius valdymo metodu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Nurodyti efektingas organizacijos plėtros krypti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adėti organizacijoms prisitaikyti prie dinamiškai kintančios aplinkos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79D-8DD9-4B59-842C-9C053A5851E4}" type="slidenum">
              <a:t>8</a:t>
            </a:fld>
          </a:p>
        </p:txBody>
      </p:sp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objekt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VEIKLA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4A46-AD82-4A2D-A556-8076C067E5C2}" type="slidenum">
              <a:t>9</a:t>
            </a:fld>
          </a:p>
        </p:txBody>
      </p:sp>
    </p:spTree>
  </p:cSld>
  <p:transition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3:40Z</dcterms:modified>
  <cp:revision>22</cp:revision>
  <dc:subject/>
  <dc:title>Introduction to Management</dc:title>
</cp:coreProperties>
</file>