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013-637F-4D34-8C4E-99D5E6A2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CC8-EA58-4AF0-9BE5-2AF5028D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97A-8BF3-4822-BED7-4C69B345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A06-99FF-470D-AC99-D9D82A98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9F68-5EE3-4C2C-AFB6-E137ECDA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20AA-E932-44B2-A51A-E005297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E7A8-C591-4370-B3D1-5C0525B8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3B70-BD6D-4A75-867F-B27444E9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92D2-A7CF-4332-A342-50394EB3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FA5A-87C7-4C29-842F-D8D41BDA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AC7C-ACE7-4AE2-BCF4-EC1AA134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29B-9515-4F48-9A8A-192A045F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CF41-5CFC-470E-B81B-C16D42D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D106-E4BF-498B-A028-A12ED125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9E8D-507D-4446-98C3-6B011564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65CD-B077-4385-AA9F-1F6D090B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39F2-C43B-4556-9255-68CDFB9D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A13-F6B6-44B8-8837-370C70C1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9B3-B3FB-4295-B536-A6D12241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927-EEA5-4AB3-A9A0-7A795A7E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F38-AD16-48C2-979C-3D876D52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287-76FC-4AD3-886E-5E906B68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80F-80E6-47B6-B898-7D30743B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2ED-56F0-4A81-8FA5-F164163E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148C-84B6-412D-A4AD-CD820524F8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44DC-582D-4D18-99A1-CD83557EB2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80D9-9823-4C2B-8B8B-E179E517E31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nės valdymo struktūros svarba (T. Burns, G. Stalk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6460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irmą kartą vadyboje panaudoti terminai: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ir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valdymo struktūr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yra labiau biurokratizuota, aiškiai nustatytos padalinių funkcijų ribos, reglamentuota veikla taisyklėmis. Tokia struktūra yra “kieta” ir nelankst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abiau grįsta žmogiškaisiais santykiais, funkcijas derinant prie kompetencijų, lanksčiai reaguojant į aplinkos pokyčius ir organizacijos poreikiu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399-1502-4099-B8D9-37145F3E46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kirtingi požiūriai į organizacijos  struktūr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057400"/>
            <a:ext cx="20574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819520"/>
            <a:ext cx="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2767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819520"/>
            <a:ext cx="228600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Ai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hierarc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733920"/>
            <a:ext cx="2286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ustaty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re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57200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638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10080"/>
            <a:ext cx="22860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553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6324480"/>
            <a:ext cx="22860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81080"/>
            <a:ext cx="205740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514600"/>
            <a:ext cx="0" cy="4114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819520"/>
            <a:ext cx="259056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Bendradarbi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33920"/>
            <a:ext cx="25905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taik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b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i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4572000"/>
            <a:ext cx="259056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5410080"/>
            <a:ext cx="25146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e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400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6248520"/>
            <a:ext cx="25905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F05-5530-46E4-A804-0B33FB45C6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12960" y="16765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981080"/>
            <a:ext cx="5267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rbuotojų charakteristi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438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silav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276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dovavimo stil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6576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-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19112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rjeros lūkesč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1148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49568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495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02920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gūdž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33412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525780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7564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i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609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60199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2CC-1C22-497C-84E7-B59C5BAEB4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70160" y="18702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9000" y="1870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5040" y="2708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Y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5800" y="316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19200" y="316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8862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30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LEK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520" y="4994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917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57913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C11-DEC8-4F3B-BEA3-BCB3784678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šor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217476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2680" y="21747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93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KLAUSOM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0520" y="3394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0600" y="3470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4038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OLOG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572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utinin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sikeičianč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334120"/>
            <a:ext cx="46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INKOS DINA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832360"/>
            <a:ext cx="10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2400" y="5756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DAD-8B59-4D32-8C94-9868CB3C0FF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aplinkos įtaka organizacijos valdymui bei vadybos metodų būtinybė prisitaikant prie besikeičiančios aplink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leista struktūros įtaka ir galimybės organizacijai prisitaikant prie aplinkos pokyči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os mechanistinės ir organinės organizacijos koncepcijos bei jų įtaka organizacijos gebėjimams reaguoti į aplinkos pokyč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2FB-AC76-4468-A72C-04504FF1E6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00E-A8EC-4D91-A56E-2B127C9D44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etodų nelankstumas bei taikymo ribotumai skatino ieškoti naujų vadybos princip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latinė situacijų kaita sąlygojo poreikį ieškoti metodų, leidžiančių valdyti organizacijos tokių pokyčių konteks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264-5F0B-4BC5-B8DC-DB2DC4EBDF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96F-FA00-40D2-B85A-D0566303D0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P. Lawr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Lors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R Mockl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. Bur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G. Stalker ir ki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89E-32E7-4336-AFBA-68FA6F92F5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cijų analizės princip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id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diferenciacijos (atskirų organizacijos struktūrinių padalinių įtakos situacijai) ir integracijos (organizacijos kaip visumos galimybės įtakoti situaciją) lygio nustaty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Išor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išorės veiksnių įtakos nustatymas bei iš jos kylančių galimybių ir grėsmių įvertin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63D-6BA8-4BF6-B5EF-5D5A539E8E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Diferenciacija / integracija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iferenci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sąlygota skirtingų padalinių specializacijos, požiūrių, tikslų, struktūrų  skirtingumų. Tai veiklos skirtingumų sąlygoti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Integr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adalinių bendradarbiavimo kokybės laipsn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 diferenciacijos ir integracijos laipsnio priklauso organizacijos galimybės reaguoti į aplinkos pokyčius ir valdyti situac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7A6-BBF7-4C8D-9D23-561DF1FB45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yrimų išvados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namiškesnė aplinka tuo didesnio diferenciacijos ir integracijos laipsnio reikia sėkmei pasiek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tabilesnė aplinka reikalauja mažesnio diferenciacijos bet vis dar aukšto integracijos laipsn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desnis diferenciacijos laipsnis, tuo didesnė vidinių konfliktų grėsmė ir mažesnė jų sprendimo galimybė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Esant dideliam netikrumo laipsniui, integracija užtikrinama vidurinės grandies vadovų; esant stabiliai aplinkai, integracija užtikrinama aukščiausio lygio vadov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AC5-AD33-4ACF-ABF6-531DB0A744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tyvinio nagrinėjimo žingsni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R. Mockl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ituacijos diagno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priežasčių nustatymas ir tikslų formulav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riežasčių anali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įtakojančių veiksnių diferencijavimas ir įvertin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Veiksmų alternatyvų numa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galimų veiksmų būdų nustat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ternatyvų įvertinimas ir pasirink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tinkamo sprendimo surad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prendimo realizavimo plano sudar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8B1-61C4-4B87-94EC-327365082D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0:19Z</dcterms:modified>
  <cp:revision>47</cp:revision>
  <dc:subject/>
  <dc:title>Introduction to Management</dc:title>
</cp:coreProperties>
</file>