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6C2-5106-4596-896E-EB893066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96B-FD37-461B-AE11-72ABAE94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9F1-6620-4E71-88EC-2B2A8A23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2F0-E941-4167-9B63-32DF65F0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BC41-1817-4276-B7BC-DDEC228C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A1C9-7448-4727-BD4E-07E4C58C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1455-41C9-4F2F-8E17-44DEFE55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8718-254C-456B-935A-71F36CFC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AB17-B5AB-41A8-BDAF-F5F059F7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EA5A-3D2A-48B1-AC65-7BBCEA6A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ACC0-20A3-4946-AD80-531BDA1A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695-AA0F-4283-9639-90DAE3CE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E222-30F2-4D86-B6A3-50A9FE0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CF1E-4A4B-417C-9106-6316D5F9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5A18-A828-4C3F-8120-68AFF343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3FF4-AC87-48EB-9AC5-12D6F0B0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0147-76A7-4623-9F39-CB2F8B95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0A3-0146-481C-8A88-BB50D257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53E-0F97-4FA3-A9DA-66BF11FB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F25-F6F2-461A-8A3D-3D9538FC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267-642E-4D08-82D4-2C87C9B1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F57-7F44-454E-917C-DF5F1195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363-9472-4A13-9A54-8C8BE8E1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720-6CEC-4BF2-A7AE-744242F5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8CEB-4FD8-494C-B0DD-CE6C6A36DA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B75D-A877-4CC8-9E45-691590D1CB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0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947B-7D6A-4FCB-BADE-49D73FBBD02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rįžtamasis ryš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alanso tarp veiklos ir aplinkos palaik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ferenciacija – veiklų specializacija ir vaidmenų multi-funkcišku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eiklų įvairovė – įvairūs būdai tikslams pasiekti. (“Equifinality”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L. Bertalanfi, 194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F84-581E-4A3C-9E69-0EC6F104B7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veiklos kintamie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n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echnologi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truktū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lin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919-98F4-4244-9864-CECD43F518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plinkos charakteristiko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Emery ir Trist (196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atsitiktinė – nekintanti ir homogeniška, poreikiai atsitiktinai išsibarst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koncentruota - nekintanti, poreikiai koncentruo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intanti, reaktyvi – didelė konkurencija ir lanksti konkurentų reakci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namiška – sparčiai kintanti, reikalaujanti ypač didelio prisitaikomumo, kad išgyven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50F-145C-43BC-8355-92F0044E02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a yra socialinė – ekonominė siste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Social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žmonių grupė, kuriuos sieja bendri tikslai, interesai, bendradarbiavimo ryš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Ekonom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a yra vieta, kur fizinio kapitalo santykio su darbo jėga rezultate gaunamas produktas, atnešantis ekonominę naud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0D5-CDBF-483D-8BDF-B088262D36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posistemė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atz ir Kahn (196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myb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amos (išteklių ir rezultatų paskirstymas, išoriniai ir vidiniai ryš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tarnavimo (stabilumą užtikrinanti posistemė, darbuotojų darbo turinio nustatymas, atlygis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itaikymo (gebėjimai atpažinti ir reaguoti į pokyčius, marketingas, tyrimai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ymo (koordinavimas ir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87F-70D6-4B96-831F-8E31F90D90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os sisteminė sanda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Gamyb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gamyb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omerc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komerc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Ekonom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finansinei - ekonom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– technolog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techn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ocial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ersonalo valdymo ir darbo organizavimo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516-B3E8-4917-A578-37C4673C85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jos sisteminis valdyma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2174400"/>
            <a:ext cx="84186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ymo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vykdanti dvejopo pobūdžio funkcij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irų organizacijos procesų (posistemių) valdymo funkcij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endrąsias valdymo ciklo funkcijas (planavimas, organizavimas, vadovavimas,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omoji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realizuojanti atskirus organizacijos proces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61D-AAAB-4466-A6B4-E5838D6F54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taikytas sisteminis požiūris organizacijų valdy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i esminiai sisteminio valdymo bruožai ir elementa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a organizacija, kaip atvira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Įvardinti ir apibūdinti atviras sistemas įtakojantys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statytos ir apibrėžtos organizacijos posistemės ir jų sąveikos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D43-1EEA-4B8D-8346-B6096CF1C5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in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ės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B3A-6F7F-472E-9C50-92E7B8DD3E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augo organizacijų įvairov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lobalių korporacijų valdymas iškėlė naujus vadybos iššūki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isteminio požiūrio populiarėjimas, analizuojant kitas, su vadyba nesusijusias srit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ų integracijos problemos skatino ieškoti naujų būd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BA9-2B4B-47B4-A0C6-E91982A0D4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6AB-5A52-4A6A-82F5-73A8CCBA96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istemos sampr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a – tarpusavyje susijusių elementų visuma, veikiančių kar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Atvi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Užda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os dažnai dalomos į posistemes – autonomiškai veikiančias sistemas vienos sistemos viduje, užtikrinant visos sistemos gyvavi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osistemių ribos nėra matomos – jos yra pagrįstos ryšiais tarp posistemi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F87-4653-4BE8-9269-7435512DF2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1240" y="380880"/>
            <a:ext cx="7845480" cy="5607000"/>
          </a:xfrm>
          <a:prstGeom prst="ellipse">
            <a:avLst/>
          </a:prstGeom>
          <a:gradFill rotWithShape="0">
            <a:gsLst>
              <a:gs pos="0">
                <a:srgbClr val="23238d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438280"/>
            <a:ext cx="1218960" cy="68580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562720"/>
            <a:ext cx="60948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562720"/>
            <a:ext cx="68580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57560" y="385128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629400" y="2962440"/>
            <a:ext cx="2133720" cy="2552400"/>
            <a:chOff x="6629400" y="2962440"/>
            <a:chExt cx="2133720" cy="2552400"/>
          </a:xfrm>
        </p:grpSpPr>
        <p:sp>
          <p:nvSpPr>
            <p:cNvPr id="116" name=""/>
            <p:cNvSpPr/>
            <p:nvPr/>
          </p:nvSpPr>
          <p:spPr>
            <a:xfrm>
              <a:off x="6629400" y="3494160"/>
              <a:ext cx="213372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roduk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aslau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el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Nuostol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9400" y="2962440"/>
              <a:ext cx="213372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Rezulta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2962440"/>
            <a:ext cx="2133360" cy="2552400"/>
            <a:chOff x="533520" y="2962440"/>
            <a:chExt cx="2133360" cy="2552400"/>
          </a:xfrm>
        </p:grpSpPr>
        <p:sp>
          <p:nvSpPr>
            <p:cNvPr id="119" name=""/>
            <p:cNvSpPr/>
            <p:nvPr/>
          </p:nvSpPr>
          <p:spPr>
            <a:xfrm>
              <a:off x="533520" y="3494160"/>
              <a:ext cx="213336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Žmonė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Medžia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Kapital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uomen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2962440"/>
              <a:ext cx="213336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Ištekli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09680" y="5746680"/>
            <a:ext cx="4876920" cy="42552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5716440"/>
            <a:ext cx="475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rįžtamasi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7180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11560" y="2935440"/>
            <a:ext cx="2797200" cy="2624040"/>
            <a:chOff x="3211560" y="2935440"/>
            <a:chExt cx="2797200" cy="2624040"/>
          </a:xfrm>
        </p:grpSpPr>
        <p:sp>
          <p:nvSpPr>
            <p:cNvPr id="125" name=""/>
            <p:cNvSpPr/>
            <p:nvPr/>
          </p:nvSpPr>
          <p:spPr>
            <a:xfrm>
              <a:off x="3211560" y="3483000"/>
              <a:ext cx="2797200" cy="20764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Valdym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arbuotoj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Technolog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Operac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11560" y="2935440"/>
              <a:ext cx="2797200" cy="57456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Transformacij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692360" y="992160"/>
            <a:ext cx="652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rganizacijos aplin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1905120"/>
            <a:ext cx="3810240" cy="8380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tvir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C93-7F04-4E8D-A919-D19F8AD99F9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a – atvira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una išteklius iš aplink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ransformuoja juos į rezultatu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 rezultatus aplink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7FC-795E-43F5-9EDE-11BBFC4840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tz; Kah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L. Bertalanf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. Rappo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. Bou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. Si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J. M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. Bl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W. Scott ir k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3A4-0741-4E70-8A9F-49150E5F42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nergijos ir skatinimo svarba (žmonės, medžiag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edžiagų konversijos procesai ir su tuo susiję darbinės veik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mi produkt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ocesų ciklišku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Negatyvi atro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24E-8F56-483F-BBCD-C840F3A16A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54Z</dcterms:modified>
  <cp:revision>48</cp:revision>
  <dc:subject/>
  <dc:title>Introduction to Management</dc:title>
</cp:coreProperties>
</file>