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E3B1-1EAE-4495-B054-D8BCCD91E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07B6-3B1B-43A3-942B-1EA7195EC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16000" y="65088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5480" y="4341960"/>
            <a:ext cx="5032440" cy="41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F78-6A98-425A-A6E9-A1DFA25A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F7C-5C18-449D-B63C-16C2DF8A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15E-92E2-4A37-99D7-417D67CD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4AC-D8D0-4277-BB16-BC5C3C7E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AC84-40B0-46E5-8E2A-878331B2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7723-9B53-4735-ACF3-9594C257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EED8-34B7-4EF0-B0BD-EC089166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24BF-79EC-4527-94CF-2C1098D5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CFBC-8EBD-481D-A3BC-EDC7E376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C048-2ED1-4F21-833B-C19C17BE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2829-68B4-4456-BD94-3925459B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5AC-C96F-4CDB-A704-6D801191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1043-ACD2-46C2-97FA-8DE7AD0A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E959-5E45-4818-9223-20B82CDA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9EF7-EF82-4DB9-A61C-C510A845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B15-5A8F-4EF5-AAE7-D0430F78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334D-0E15-4374-BC09-3F94009E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7EC-1963-4C53-8C5F-1F734391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E2D-818D-4368-AB67-E4BD1254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4AF-C8F3-4913-A2C8-7B30138E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427-974F-4A55-90F7-DC778A22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6A6-374D-4140-B698-8A131432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EFE-A20A-4D9F-B189-991F9E24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44A-B664-4DDC-8729-4E4DD5C6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FAA0-56FC-45EF-9F18-B046BE76BB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E8DA-74A0-4935-A209-5E645E6AC5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4CC4-C4E1-41B5-9839-A70D6304873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proble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i top valdymo lygmens pa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profesionaliai suformuluot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us pažangos monitorin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aug popierinio da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aikui imlus dar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230-F2CE-4B34-BAE4-6983CEDABD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lanavimo efektyvu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panijoje naudojamus metodus, technikas, priemones ir sistemas. Pokyčiai ir nauji būdai didina klaidos tikimyb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katinti dalyvavimą planavime. Kuo daugiau organizacijos žmonių dalyvauja tuo didesnis lojalumas ir pasitikėjimas užtikrin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unikaciją ir didinti informuotumą. Tikslų ir veiklų sąveikos suvokimas svarbus planavimo sėkm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5B0-401A-4BDF-A521-8A49904380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i individualių ir organizacijos tikslų derinimo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darbuotojų dalyvavimo planavime ir tikslų nustatyme svarb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plėtota “tikslo nuosavybės” koncepcij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formuota MBO samprata bei nustatyti tikslinio valdymo organizacijose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B01-C750-497F-86D9-2A4621C9E4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kslinio valdymo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300-1B1B-4351-8854-3446B712DA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ovavimas žmonėms ir įtraukimas į valdymą tampa vis svarbesniu vadybos ob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DF5-C0C3-4039-BBEE-9F9461EF91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309-62EE-46A7-BF34-99C03A17D6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H. To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. Carro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Odior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A52-432E-42F0-9CA6-5033B080AA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ini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valdym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MBO)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 žing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darbo reikalavim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plėtoti potencialius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statyti kontrolės sr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įvertinti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2AB-8D3F-4F6D-B776-0614A2E10F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nkos poveik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oper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ildoma motyv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ankstiniai susitarim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ištekl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cijos vertyb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D35-2B70-4FFD-B970-CCDEBF681D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subjek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ija - strateg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t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funkciniai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yv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žem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5F8-EA0C-4BA1-A358-55D10CDABB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nau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horizont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išteklių panaudoji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vertik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obulinami pažangos vertinimo kriteri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planavimo proc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518-90ED-4AD5-BE6C-3B08FEC4A2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2:11Z</dcterms:modified>
  <cp:revision>48</cp:revision>
  <dc:subject/>
  <dc:title>Introduction to Management</dc:title>
</cp:coreProperties>
</file>