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7233-AE92-44EE-A728-00FE25D0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120-27DB-4E36-A9BF-9A5BF5CF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C00-49DA-44AC-BBC3-F5241446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B791-CE9D-4404-BB6B-21689791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CECF-4053-4E2D-AFC7-CCEF45CC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D4F7-D5D6-417D-9F8F-3CEFF389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60C4-B278-49D0-92E3-46D09836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9FF6-92D6-4761-A3ED-A02AC84A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5B2D-A8DA-455E-A49D-303D4968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266B-7EDE-4D57-8AD0-215514A1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6DE2-CA9F-4FE4-89DA-4867F681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D18-05AE-4AEE-A755-A004FA24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DA6F-0A3A-4ADD-A2C8-04498145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60F9-22EC-481E-9AEE-219EF2E8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8166-B732-480D-A385-F7E89540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D76D-76BD-4038-9B98-4F29FB00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2C2A-D84D-4C0C-BEE5-D0914B19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63BD-F8F9-4A63-BC33-F826F427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AF0-93C7-4532-BDBF-3F50057E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B97-5E1F-4B0F-B793-89E0BE7A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67FB-A4E0-46D4-A2B4-A25530CF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046-4453-418F-ADA3-E568E4A2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842E-470F-43D4-86F8-B34D0F78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56F-AAAF-483A-9E85-7A4C97A6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FC35-7169-4F6A-8BF1-D11FFFE328B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6A95-E0AC-49E4-88E7-4263642253B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700" spc="-1" strike="noStrike">
                <a:solidFill>
                  <a:srgbClr val="ffffcc"/>
                </a:solidFill>
                <a:latin typeface="Arial"/>
              </a:rPr>
              <a:t>Visuotinio dalyvavimo valdyme (partisipatyvinė) teorija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07A5-E037-4D72-9A3A-66289EA6888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Nuopelnai vadybos mokslu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agrįsta, kad organizacijos žmonės, dalyvaudami valdymo procese labiau motyvuojami geriau atlikti savo funkcija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Išryškinta, kad kiekvienas žmogus kupinas kūrybingų minčių, taigi yra neišsenkantis naujų idėjų šaltini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agrįsta, kad derinant organizacijos narių ir organizacijos interesus, derinami ir visuomeniniai interesai, kas leidžia organizacijai įsitvirtint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40D-FEDD-46BE-B700-8C39B2FD50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Apibūdinti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</a:t>
            </a: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isuotinio dalyvavimo valdyme teorij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s</a:t>
            </a: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 susiformavimo prielaida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statyti pagrindinius autori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Apžvelgti jų nuopelnus vadybos mokslu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07A7-72D2-4F9C-9C2A-6C6477310C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Valdymo ir 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ndim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ų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ri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ė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mo centralizacija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augant organizacijoms darėsi vis sudėtingesnė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Augo darbuotojų nepasitenkinimas motyvacine sistema ir valdymo neefektyvumu organizacijos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Naujų idėjų trūkumas skatino įtraukti vis daugiau žmonių į valdymo procesą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73EF-1C4A-4FD5-93CD-1F156B11B3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C. Ker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W. Gellerm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. Perro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T. Pars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R. Liker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bjektas – 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organizacijos darbuotojų dalyvavimas užduočių formavime ir sprendimų priėmim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EFA-4A7B-4643-BE7E-05BD2C42B6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Dalyvavimo valdyme galimybės 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C. Kerr,  W. Gellerman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imant sprendimus organizacijos lygmenyje, į jų rengimo ir priėmimo grupes įtraukiami organizacijos padalinių (grupių) atstovai, turintys atstovavimo teisę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imant sprendimus padalinio lygmenyje, į jų rengimo ir priėmimo procesą vadovas įtraukia padalinio darbuotojus, su kuriais konsultuojamas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232-955D-43F1-90B9-E7222B0D2B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Institucionalizm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a veikia visuomeninėje aplinkoje, taigi yra visuomenės dalis arba visuomenės institucija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ai svarbu įsitvirtinti visuomenėje ir būti pripažintai, kaip reikalingai institucijai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Visuotinis dalyvavimas padeda geriau įsitvirtinti visuomenėje, nes atspindi platesnius žmonių ir grupių, t.y. visuomenės interesus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os ir visuomenės interesai turi būti suderinti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BD9-BCD5-4DBC-BFBC-A08E31DF95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nstitucinis valdymas 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K. Perrow, T. Parsons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Gamybinis valdyma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gamybinio – techninio objekto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Socialinis valdyma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socialinio objekto (žmonių)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Institucini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institucinio objekto santykyje su kitais, visuomenėje funkcionuojančiais objektais,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AAF-A65D-4669-B163-AF9D704550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dealios organizacijos modelis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R. Likert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Organizacijos tikslai nustatomi grupinių svarstymų būdu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Organizacija yra atviras objektas, palaikantis ryšius su kitomis organizacijomi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Sprendimai visuose organizacijos lygiuose priimami, įtraukiant jos narius. Informacijos srautai organizacijoje turi būti subalansuoti – pasiekti organizacijos narius ir išorės institucijas laiku ir tiksliai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6FD-AD7F-4AB5-8993-8703BDBC6A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dealios organizacijos modelis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R. Likert), tęsiny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Darbuotojai motyvuojami įvairiais būdais, ypač naudojant grupinio skatinimo metodus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Visų lygių vadovai pasitiki organizacijos nariais, svarsto ir panaudoja jų teikiamus pasiūlymus ir idėj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ontrolės funkcijos organizacijoje decentralizuotos, ji vykdoma keliais lygiai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43C-1A49-46E0-9E01-B5319A09A9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8:52Z</dcterms:modified>
  <cp:revision>41</cp:revision>
  <dc:subject/>
  <dc:title>Introduction to Management</dc:title>
</cp:coreProperties>
</file>