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3C6-BF99-4908-AF12-818C8518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232-9547-482F-959E-C5010F08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F04-0181-41F7-8FC0-E263358D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787-D7C9-4CEE-8C9A-4128E381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941D-0FB8-4BE7-BCF4-22C61B6D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2BBD-92A2-488F-B574-0837F9F5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C045-99BD-456F-B06F-2C527F8A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B912-6BA5-411C-9553-FC75B3E2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80C2-9447-443E-9F12-9AD555C4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E8D2-6277-4F51-BF1B-A6838EBC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BF6C-CCCD-40D4-A915-5722D2E6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998-629C-4092-838B-3C8C6740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9F7A-E155-4E28-807C-3110A2C9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CAB5-F329-409E-9552-119F6081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A91F-9C35-49D8-8F6D-3A972280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C44C-F283-4D15-B342-198C0113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92B4-7816-48C8-A339-E0DAA8BC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1DC-097C-40AE-9F8B-DA7BBACB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07F-1D15-4AAA-9E6C-C2752E01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3B4-2F1A-4D45-819E-0964662D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0BC-9BA9-4FE8-8476-C4020A7C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93B-122C-44D1-BAED-04ED6312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335B-00EF-4B44-89E9-816409EB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B3A-EB1D-4B2B-A7E5-EE429937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8C09-223F-4462-878C-3D905FF929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2118-093E-4E1F-940D-DA3160E20D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ffffff"/>
                </a:solidFill>
                <a:latin typeface="Arial"/>
              </a:rPr>
              <a:t>Lyderiavimo teorij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63FC-027A-49CB-A1F4-633842A1D6C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Autoritarinis – demokratinis vald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3116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dovas daro sprendimu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 ir juos “nuleidži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“parduoda” sprend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sprendimus ir inicijuoja klaus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sprendimų projektus diskusija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problemą, sulaukia pasiūlymų ir priima sprendim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apibrėžia sritį ir ribas bei deleguoja grupei priimti sprendim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deleguoja pavaldiniams veikti savo funkcijų ribose ir priimti sprend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D2B-432B-4572-BBD4-C385B7C393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Atsitiktinumų teorij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ktas – vadovavimas, pag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rįstas poreikių pokyčiais, integruojant užduoties, grupės ir individualius poreik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ituacijos valdymą lemiantys veiksniai (Fiedl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7)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Lyderio ir pavaldinio santyk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Užduoties struktūrizavimo laips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Pareigybės valdžios ir galios laips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EFC-93B1-4F7C-9C4C-3E5A787733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Funkcinis lyderiavimo model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16360" y="1844640"/>
            <a:ext cx="2592360" cy="244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63640" y="3500280"/>
            <a:ext cx="2665440" cy="2521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3573360"/>
            <a:ext cx="2592360" cy="244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492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Užduotie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407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rupė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407664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16360" y="4076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Individualū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1E1-5C4F-4974-9658-2842D01C7BB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Lyderiavimo teorijų nuopeln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ryškintas vadovo - lyderio vaidmuo organizacijoj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Apibrėžti vadovavimo stiliai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analizuotos ir apibendrintos vadovams būdingos savybė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uformuoti vadovavimo principai nuo autokratinio iki demokratin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analizuoti lyderiavimo būdai, priklausomai nuo situacij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ryškinti vadovų asmeninė įtaka organizacijos veiklai ir santykiams su darbuotojai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428-3979-4B46-B41F-93F74A1DE1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ibūdint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deriavimo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teorijų susiformavimo priela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DB8-38DB-4FC3-BD99-E48C2F92A8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ožiūrių į vadovo formavimosi sąlygas kai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o vaidmens organizacijose sureikšm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oreikio profesionaliems ir kvalifikuotiems vadovams aug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o – lyderio formavimo metodų ir principų sto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D91-D3A1-48B5-82FA-F067326303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ų tip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Charizmat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sąlygotas asmeninių savybių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Tradic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paveldėtas ar kitų aplinkybių sąlygotas status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Situacijo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atsiradimas tinkamoje vietoje tinkamu met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Paskirta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pozicijos, pareigybės suteiktas status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Funkc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sąlygotas gebėjimų, žinių ir kitų savybių, lemiančių ekspertinį išskirtinum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8F61-189A-481C-A57C-044D84225B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avimą lemiantys veiksni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844640"/>
            <a:ext cx="4174920" cy="194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1844640"/>
            <a:ext cx="4032360" cy="194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3789360"/>
            <a:ext cx="4174920" cy="20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3789360"/>
            <a:ext cx="4032360" cy="20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2133720"/>
            <a:ext cx="338292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DER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EBĖJIM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ŽIN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ASMENYB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2133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2133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TIKSL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076640"/>
            <a:ext cx="2303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PAVALDINI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EBĖJIM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MOTYVACI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4005360"/>
            <a:ext cx="20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400536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APLINKA / SITUA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BBA-35B7-4177-87F4-FD09C252C2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avimo teorij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avybių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iliaus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itiktinumų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cijos vadovų vadovavimo žmonėms gebėjimų ir būdų analizė ir formav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F5B-2B5F-4AF1-AAEE-2E1FEDA4DC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Savybių teorij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esminių organizacijos vadovų vadovavimo žmonėms asmeninių savybių nustaty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ffffff"/>
                </a:solidFill>
                <a:uFillTx/>
                <a:latin typeface="Arial"/>
              </a:rPr>
              <a:t>Dominuojančios savybė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Protas, intelek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Energ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Sumanumas, išrading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i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%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lyderių savybių yra bend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864-A137-476D-A9B6-C3BC7CC87F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Arial"/>
              </a:rPr>
              <a:t>Stiliaus teorij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ktas –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vadovavimo žmonėms stilių nustatymas ir form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avimo stilių kraštutinum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Autoritarini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centralizuotas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 (X vadov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Demokratini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deleguotas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 (Y vadov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F1C-2CB6-49D9-8CB2-18391673B1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Autoritarinis – demokratinis vald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557360"/>
            <a:ext cx="8424720" cy="2592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24000" y="1557000"/>
            <a:ext cx="842472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184464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Arial"/>
              </a:rPr>
              <a:t>AUTORITARI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Valdžios panaudojimo sr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924280"/>
            <a:ext cx="266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Arial"/>
              </a:rPr>
              <a:t>DEMOKRATI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Pavaldinių laisvės sr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971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979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995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76720" y="422064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156360" y="4149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380360" y="4149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916360" y="4220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35280" y="537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27280" y="530064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537372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53737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5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587700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EGAVIMO LAIPS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49B-F246-40F5-AC82-BCA356EB22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7:04Z</dcterms:modified>
  <cp:revision>44</cp:revision>
  <dc:subject/>
  <dc:title>Introduction to Management</dc:title>
</cp:coreProperties>
</file>