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629-B0AF-4A76-8E83-26B7576E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C74-1180-4263-9C11-2DE9180F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B1D-07CF-4722-A47F-21A7AB10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E02-177A-4A75-B76E-1BDF6772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90A7-99E3-4B63-98CC-08B33DA0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D6CF-6790-4A20-B88E-EAA97B7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798C-10D1-4AEF-A23A-3237CFA2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7735-D205-4BB3-A127-C6A588A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7D7A-7871-4A8F-998D-A817166E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BDC4-2500-478F-89BF-454D883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6319-73DB-47DB-9692-A436885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009-5988-4A51-A19B-BA188AD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5EFC-90F7-4D82-B67C-28E76B4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DED1-67D8-489F-8A49-D128B16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B48A-47AB-4D92-A5FB-096F2D59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AC63-95EC-4A32-82B1-C1A49F78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F29C-A6E2-4DE5-BD35-C94DD06E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220-2BC4-4AF6-BA95-03A356DC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663-C276-49FB-BCD6-99CAF27E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A3D-3D0B-4F01-8ED4-25475E0B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A16-0A45-410A-968D-A6D39964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AD8-3118-44A7-AD10-82BFA842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323-612D-49F5-B2D5-6225854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DAC-7697-468C-8065-608825A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621D-41FE-4611-8AD6-41A9CB7F3B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51C6-4B8D-4D3D-800D-E1958C9164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7DDD-0AAC-4E00-9A72-C44B6A528C7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6633"/>
                </a:solidFill>
                <a:latin typeface="Garamond"/>
              </a:rPr>
              <a:t>Poreikių grupė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3116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Fiziologiniai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aistas, miegas, seksas i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ugu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stabiliai aplinkai, būstui, ir apsisaugojimui nuo pav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Bendravi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risirišimas, meilė) – noras socialiai priklausyti grupei žmoni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ripažinimo, pagarb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būti gerbiamam ir pripažintam tarp ki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viraišk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noras išbandyti save ir siekti rezultatų vis aukštesniame lygy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ABE-23C5-4BA6-BB28-4D7E2ADE67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Douglas McGregor (X ir Y teorij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tyr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ės žmogaus elgesio motyvų kraštutinumus apibrėžiančios frazės – “valdymo stiliaus” folklo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F0F-5535-4984-BD24-A419100BF7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dirba tik todėl, kad patenkinti savo materialinius poreiki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nemėgsta ir vengia darbo, atsakomybės ir dirba ne tą, kuris malonus, o kuris gali duoti daugiau pajam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us būtina griežtai prižiūrėti ir versti gerai dirb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ūtina reglamentuoti veiklos turinį, nustatyti procedūras ir kontroliuo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869-B6D2-416A-846D-9C592105BA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linkę dirbti ir darbas reikalingas kaip maistas ir poil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renkasi darbą, kuris jiems malonus ir gali suteikti didžiausią pasitenkinim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stengiasi gerai ir atsakingai atlikti darbą, būti ištikimi organizacijai, siekti jos tiksl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ikia suteikti darbuotojui galimybes save realizuoti, veikti kūrybiškai ir naš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F22-019A-4FEC-9D95-0F4883EE31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Chris Argyr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ktas – darbuoto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asmeninių poreikių ir organizacijos tikslų suderinam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nės vengia darbo ne todėl, kad tingi, bet todėl, kad verčiamu dirbti ir kontroliuojami kaip vaik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uformavo Brendimo – Brandos Teorij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gaus asmenybė vystosi tam tikrose srityse, kurios keičiasi la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818-1C32-4CD9-914F-21B67474A3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Brendimo – Brandos teorij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yvumas ----------------------- Aktyvu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klausomybė ---------------- Nepriklausomyb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ibota elgsena ------------------ Įvairi elgs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viršutiniški interesai -------- Gilūs intere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rumpalaikė perspektyva --Ilgalaikė perspekty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ekimo pozicija -------------- Lygiavertė poz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Nepasitikėjimas ----- Pasitikėjimas ir savikontrol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7E7-37F0-4032-9782-78E70BC644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Išv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sikinė organizacija pasižym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Užduočių speci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mandų grandinės apibrėž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Valdymo centr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trolės išplėst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brendę” darbuotojai siekia išvengti nepalankios aplinkos darbe kurdami neformalias grupes ir organizuodami veiklas prieš formalią organizaci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491-F4C0-4CFB-98BF-9EF883397F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F. Herzber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asitenkinimas dar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yrimai skirti nustatyti situacijas, kuomet darbuotojai patyrė pasitenkinimą ir nepasitenkinimą darbo vieto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Motyvator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– veiksniai, sąlygojantys 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Higienos veiksn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lemia ne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202-CF35-4645-A745-A584A9FABD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motyva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iekim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paž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sakomyb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aukšt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turiniu ir sąlygoja pozityvų pasitenkinimą darbu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D10-CEA0-4319-9526-392C5A204E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higienos fak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ompanijos politika ir administr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ežiūra – techniniai aspekt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lyg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arpasmeniniai santyk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o sąly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aplinka ir gali tik mažinti nepasitenkinimą j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F5C-13EB-4A56-A2B5-35D9C2AAC3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askaitos tiksl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rėžti motyvavimo koncepci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ūdinti Bihevioristinės – veiklos ir elgsenos motyvavimo teorijų susiformavimo prielaid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ristatyti pagrindinius autori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 teor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žvelgti jų nuopelnus vadybos mokslu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5EF-53B3-4830-8C39-F783FD38B1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Rensis Like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ldymo įtaka darbuotojų elgsenai derinant jų interesus su organizacijos ir formuojant santykius neformaliose grupė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Mičigano tyrimai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žemi kaštai ir aukšt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e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aukšti kaštai ir žem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aujas vadybos modeli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agrįstas tarpasmeninių santykių rėmimu ir vystym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dovo funkcija – remti darbuotojo priklausomybę grupei ir skatinti asmeninę saviraiška grupės vidu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185-8817-4DDF-8A4D-1F9D5D8464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dovavimo stil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2936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Eksploatacini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hierarchinė valdžia, kontrolė, bausmės, menka komunikacija, nėra komandinio darbo. Produktyvumas ž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lanku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yra šiek tiek valdžios delegavimo, naudojamos bausmės, tačiau ir skatinimas, konsultuojama darbe. Produktyvumas aukštesnis, tačiau kaštai aukš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onsultacinis –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kslai ir užduotys formuojamos po konsultacijų su darbuotojais, naudojamas komandinis darbas. Produktyvumas geras, tačiau motyvavimas nepakanka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arbuotojų dalyvav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ideali sistema, darbuotojai dalyvauja formuojant tikslus ir užduotis, gerai organizuotas komandinis darbas, gera komunikacija, aukšta motyvacija. Produktyvumas aukš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364-B022-4116-AD02-835E3004FC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teorijų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steminti žmogaus poreikiai ir jų patenkinimo svarba jų elgsen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asmeninių ir organizacijos tikslų suderinamumo problema ir svarba veiklos rezultat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vadovų įtaka motyvuojant darbuotoj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grupių svarba motyvuojant joms priklausančius darbuotojus siekti geresnių rezultat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DDC-F9A9-4905-AA55-C6C538A2B2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vėl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. H. Vroom (Vilč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obbins (Turt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Lock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Lathman (Tiksl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elley (Požym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. F. Skinner (Gebėjimų stiprinim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W. Ouchi 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6BB-F2CF-4A54-B8A2-46CFD1A869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V. H. Vroom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a realio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interprate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lči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trijų dalykų – pastanga, atlikimas, atlyg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suvokimą sąlygojančių veiksnių apibrėžim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B69-2BA7-4275-BCBF-92DC4210F9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o veiksnia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ilt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ikėjimas, kad atitinkamas veiksmas duos laukiamą rezultat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emonė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 - tikėjimas, kad atitinkamų priemonių panaudojimas duos laukiamą rezultatą ir atlyg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lentinguma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– įsitikinimo laipsnis, kad patrauklus atlygis potencialiai yra įmano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F5C-24F0-40AA-BDA0-799A319B01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romoji jėg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romoji jėga (VJ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orce (F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rijų motyvavimo veiksnių kombin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)=Viltis (Expectancy E)* Valentingumas (Valence 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E*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4FB-6689-45F8-9B3E-69893D59FD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l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čių teorijos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eikė suprantamą požiūrį į motyvavimo proces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ė, kad individai veikia, jei yra įsitikinę, kad jų veikla duos pageidaujamus rezul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skleidė individualaus situacijos suvokimo svarbą motyvavimo proces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, kad efektyvus atlikimas suteikia pasitenkinimą darbu, o ne atvirkščia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 darbo veiksnių – autonomiškumas, įvairovė, užduoties suvokimas ir grįžtamasis ryšys yra svarbiausi organizuojant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5D8-B9F7-4258-95E0-B80CFB5E97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Robbi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u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iūriu į veiklos ir naudos santyk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urto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dedamų pastangų darbui atlikti ir gaunamos naudos (teisingum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s suvokdamas situacijos neteisingumą patiria “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turtinę įtamp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084-54FD-4CE8-BD4E-09EA14158A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urtinė įtampa skatina elgtis taip, kad suvokiamos situacijos neteisingumas būtų panaikin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pozityviai, jei suvokia kad gaunama nauda yra per didelė ir reikalauja didesnių pastang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per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negatyviai, jei suvokia kad gaunama nauda yra per maža ir neatitinka įdedamų pastang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neį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C78-4B09-4F4A-8A34-23A4BA0D92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stinktyvūs ir racionalūs procesai, kurių metu žmogus siekia patenkinti savo poreikius ir tikslus, kurie sąlygoja ir formuoja žmogiškąjį elgesį. (Col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9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770-0BCC-4632-8244-9250F02E32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os šalinimo būdai (Robbin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alimi darbuotojo elgesio pasirinkimai, šalinant įtamp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indėlis į darbą (nenaudoti per daug pastang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rezultatai (daryti daugiau, net jei ir prastesnės kokybė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savęs vertinimas (dirbu žymiai sunkiau ir daugiau negu ki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kitų vertinimas (kiti darbai žymiai patrauklesni (arba ne) negu aš galvoj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irenkamas skirtingas vertinimo atskaitos taškas (nesvarbu, kad blogesnis už kažką bet geresnis už kit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liekamas dar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FBA-9964-4BC1-B171-8B38DDF1D4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o teorijos esm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Individai vertina ne tik indėlio į darbą ir gaunamos naudos santykį (kaip vilčių teorijoje), bet ir siekia palyginti jį su kitomis veiklomis ir tai tampa esminiu stimulu veikl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dividai patys susikuria tam tikrus teisingo atlygio už darbą standartus... Šie standartai yra santykiniai; atlygio skirtumai suvoki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pažįstami) kaip teisingi už skirtingai atliktą darbą (skitingas atlikimo lygis)   Jaque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64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D04-1D01-4F7F-922B-9EA8009275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Lock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Lathm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katinant siekti savų tikslų ir uždavini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asmeniniai siekiai patys savaime yra stiprūs motyvator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uo tikslai specifiškesni tuo labiau motyvuoja. “Atlikti darbą gerai” pats savaime nėra stiprus motyvas, tuo tarpu asmeninis specifinis tikslas yra žymiai stipresnis motyvas atlikti darbą ger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449-2473-4488-9ABF-C7C4A78069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ikslo “nuosavybė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o individualizavimas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įsipareigojimą tikslui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ir motyvacij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sipareigojimas didėja, jei tikslai tampa vieš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pecifinis individualus tikslas stiprina pasitikėjimą savo jėgomis ir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eiksmingum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harmonizuoti juos su organizacijos tiksla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efektyviau valdyti organizaciją (MB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C0D-7A80-4B06-A9D0-C5F6553E6A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Kell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vidinius ir išorinius veiksni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ymių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įgauna tam tikrus požymius, nes jį suformuoja vidiniai veiksniai (kontroliuojami) ir išoriniai aplinkos veiksniai (nekontroliuojam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pasirinkdami tam tikrą elgesį daro tai sąmoningai ir verčiami tam tikrų aplinkos veiksni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EAB-D62F-4E1E-9EAF-181B2ECA39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požym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iniai kriterijai lemiantys elgesio pasirinkimą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skirtin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išskirtinai ir netipiškai pasielg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sensus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atitinka tipišką elgesį tipinėse situacijo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tov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pastovus ir nuoseklus laikui bėg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lgesys pasižymintis vidiniais kriterijais kontroliuojamas ir motyvu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šoriniai kriterijai lemia elgesį, vengiant atsakomybės, įsipareigojimo ir kontrolė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518-CECD-4CC9-9E92-CFFCC1BBA2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. F. Ski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išorinius veiksnius, naudotus praeity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Gebėjimų stiprinimo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yra ankstesnių elgesio pasekmių funk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o elgesį galima motyvuoti veiksniais, kurie davė rezultatų praeityje ir kurių poveikis stiprina įgūdžius veikti ateity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1B5-14B4-45D4-A5C7-8FC5087B15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motyvavimo būd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ityviai skatinti norimą elges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gnoruoti nepageidaujamą elges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bausmių, kaip pagrindinės priemonės, siekiant norimų rezulta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tiprinti įgūdžius iš kart, kai pageidaujamas rezultatas pasiek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yti pozityvų įgūdžių stiprinimą reguliar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rtinti pozityvius ir negatyvius individualios aplinkos veiksn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rėžti norimo elgesio ir rezultato santykį kiekybiš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2B9-8015-4318-ACAE-56FA3ED3F6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W. Ouc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, taikant japoniškosios vadybos princip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“Z” tipo organizacija siekia tobulinti savo gebėjimus koordinuoti žmones, ne technologijas, didinant produktyvum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E7E-E1D9-4A14-ACBB-B201E62483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Japoniškosios vadybos bruožai lyginant su vakarietiš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ojalumas organizacijai / lojalumas profes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ėtas kilimas karjeros laiptais / poreikis diktuoja kilimą karjeros laip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as darbo keitimas / dažnas darbo kei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mda visam gyvenimui / samdos garantijų nė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tinami ilgalaikiai darbai / vertinami darbo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galaikis dėmesys kvalifikacijos kėlimui / kvalifikacijos tobulinimas pagal poreik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96B-00EF-43F4-9AA5-D492084D4B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del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iz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i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86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ocialiniai/ intelektiniai/ emoc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916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sak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itenki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ivyl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6920" y="3715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5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22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3E5-4CDA-4C0B-B2C3-2823DD2A59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“Z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naikinti visus dirbtinius barjerus statusui formuoti (harmonizav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struktūrizuoti darbą, sudarant sąlygas darbuotojui prisiimti prasmingą vaidmenį ir pozityviai įtakoti organizacijos sėk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lėtoti mokymus, užtikrinant valdymo tęstinu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obulinti komunikaciją visomis kryptimis akcentuojant kompanijos veiklą, politiką ir ateities gal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dinti individualią atsakomybę darbui, kokybei ir aplin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gti naujoves organizacijos valdyme ir darbo organizav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1A6-D6BF-41DC-B8A0-C327BA7A5C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 teorijų (vėlyvesnių) nuopelna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žmogaus asmeninių siekių ir subjektyvios motyvacijos svarba, skatinant elgesį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i vadovavimo principai skatinant darbuotojų subjektyvią motyvacij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analizuoti ir pristatyti japoniškosios vadybos principai ir ypatum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Japoniškojo valdymo principai pateikti, kaip efektyvūs darbuotojo subjektyvios motyvacijo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045-1C89-43F0-8680-A79F621700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Motyvavimo požiūriai </a:t>
            </a:r>
            <a:br>
              <a:rPr sz="3800"/>
            </a:b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pagal Schein (</a:t>
            </a:r>
            <a:r>
              <a:rPr b="0" lang="en-US" sz="3800" spc="-1" strike="noStrike">
                <a:solidFill>
                  <a:srgbClr val="006633"/>
                </a:solidFill>
                <a:latin typeface="Brush Script MT"/>
              </a:rPr>
              <a:t>1965)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cionalus – ekonominis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Asmeninių interesų ir naudos maksimiz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ocialini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Socialiniais poreikiais asmeniniais santy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aviraiško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Pripažinimo, pagarbos ir saviraiškos porei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udėtinga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Kompleksiškas ir sudėtingas įvairių poreikių, interesų ir tikslų derinys, sąlygojantis žmogaus elgsen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F0E-C99B-47A8-A2D8-00452E00F9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Brush Script MT"/>
              </a:rPr>
              <a:t>Prielaidos</a:t>
            </a:r>
            <a:r>
              <a:rPr b="0" lang="en-US" sz="4200" spc="-1" strike="noStrike">
                <a:solidFill>
                  <a:srgbClr val="006633"/>
                </a:solidFill>
                <a:latin typeface="Brush Script MT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ių teorijų ribotas požiūris į žmogaus svarbą organizacijo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otyvacinių priemonių ir metodų trūkumas ir ribot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sapusiškų veiklos aktyvinimo motyvų paieška ir taikymo organizacijų valdyme galimybė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E20-DF34-4D32-B9A4-65D2E05493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ankst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braham Mas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ouglas McGregor (X ir Y teorij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Chris Argy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. Herzberg (Motyvavimo – higienos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nsis Lik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73F-6868-40BF-A6F7-9D59F186C5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Abraham Mas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merikiečių psicholog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3m.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irmasis paskelbė žmonių poreikių, skatinančių jų elgesį, hierarchinę piramid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– žmogaus veiklą sąlygojančių poreikių vis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DE9-E0AB-4635-9DB1-57E10E3723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oreikių hierarch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84280"/>
            <a:ext cx="7848720" cy="4321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37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ziologin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429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paž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7082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viraiš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229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58136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B6A-EF7F-409F-A482-C2C087B08D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00Z</dcterms:modified>
  <cp:revision>53</cp:revision>
  <dc:subject/>
  <dc:title>Introduction to Management</dc:title>
</cp:coreProperties>
</file>