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64C-50F8-4CF9-9FDA-90F795B3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FA6-0309-4EE2-A0C8-9DCBB83E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6F8-85E3-44D0-BC0F-6AF72887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16F-54E4-4ED4-ACC2-AE3B13D8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018A-AB3B-435E-B1E7-23DD2C18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4EF3-C3FC-45B1-946F-B3FBD383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BF9B-6404-4FD3-AEE5-F462C9B3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883D-5B9F-4153-AFFF-C65BCF41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3BA9-07EC-4B60-98B4-AA362CAF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0C85-6B71-4186-9A34-55F3327B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079A-6E41-4639-9C48-4E674CC4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FF9-90CE-4F51-B636-5A43DB71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BED2-E63D-4CFC-9D0F-3C0DEA4B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1A5D-22F2-48A1-AAA4-980EBB3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4A67-0822-4B10-B7D5-07CD852C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52D0-479A-42C2-8175-67225030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9EFD-D32A-4DB5-B994-22675A61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F67-C8FD-4582-B8F9-7A251A38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471-DA0A-4D70-B34F-75BD30C8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3C0-C9EE-4262-BAF7-1F2B5324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C28-8EDA-4746-B7A8-72345B8E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867-DA0F-497A-B1CE-B2AAADB4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662-4672-4E59-BFA8-DAA1432B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D35-DC94-4C9A-9298-80818CC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E052-4331-4DBA-B64C-0C860AB2F8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37B8-76CD-4E91-98AB-330B3A2CB1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. Weber idealaus biurokrat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6097-5E0E-4501-8E7D-9A4BDF383FC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Weber biurokratijos koncepcijos esmė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zuoti ir reglamentuoti santykius tarp darbuotojų organizacijoje, suformuoti “nuasmenintą” santykių atmosferą, eliminuoti vienų prielankumą (neprielankumą) kitiems. Bet koks nukrypimas nuo reglamentų neigiamai veikia darbo efektyvumą ir rezultat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B42-301F-4CB6-9E0C-C325813154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Hierarchinė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aiškiai apibrėžta valdžios hierarchija yra racionalaus darbuotojų elgesio kontrolės pagrin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eigybės yra sujungtos vertikaliais ryšiais, sudarančiais įsakymų lin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didėja su kiekvienu laipteliu aukšty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arbų grup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truktūriniai padaliniai, kurie leidžia kompleksinius darbus racionaliai suskaidyti į atskiras operacij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 leidžia efektyviausiai panaudoti darbuotojus ir lengviau specializuoti naujai priimt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9FF-8248-43B3-9E63-61B2877231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aisyklės ir procedūr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varbu paskirstyti taisykles ir procedūras organizacijos darbuotojams formuojant sprendimo priėmimo grandinę ir darbuotojų elges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syklės ir procedūros garantuoja organizacijos stabilumą ir apsaugo nuo savanaudiško elges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kompeten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acionaliai apibrėžtos pareigybės leidžia parinkti geriausiai kompetentingus darbuotoj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rantuoja personalo parinkimo objektyvu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465-0D17-4B09-BE18-A3D74294CA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Nuosavybės atskyr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atskiriant savininkus nuo valdymo galima užtikrinti objektyvesnį valdymą, nepagrįstą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Savininkai daugiau orientuojasi į kuo didesnį pelną, bet ne į produktyvumo didinim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Pareiginė valdžia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valdžia suteikti pareigybei, bet ne asmeniui, vengiant jos panaudojimo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smuo, praradęs pareigas, praranda ir valdži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Faktų fiksav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raštu fiksuoti visus įvykius bei sprendimus ateities sprendimam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038-6804-4260-9EAD-419DC919CA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deali organiz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Visiems laikantis nustatytų taisyklių ir procedūrų, nelieka vietos asmeniškumams, formuojasi “sveika korporacijos dvasia”, nėra sąlygų intrigoms, paskaloms ir panašiems dalykams. Tokia atmosfera sąlygoja aukštą veiklos efektyvum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F97-947B-40B3-A642-B0C96A3C3A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Weber nuopelnai vadyb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irmas kompleksiškai suformuluotas požiūris į organizacijos formaliąją struktūr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Biurokratinės – tiksliai veikiančios organizacinės struktūros reikšmės išryškinimas organizacijos veiklos efektyvumui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s struktūros svarbos formalių tikslų siekimui išryškinima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 struktūra būtina ir galima bet kokioje organizacijoje, nepriklausomai nuo dydžio ir kompleksiškum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šryškinta koordinavimo ir kontrolės svarba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76B-0F06-4715-900A-23C24C1DFB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i biurokratinio valdymo teorijos prielaid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rėžti biurokratijos samprat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tatyti Max We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žvelgti jo nuopelnus vadybos mokslu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D1E-3BA5-4EB6-B836-C9FB2C7D2B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onopolinių organizacij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imo ir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y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nės valdymo struktūros sureikšminimas Fayol ir Taylor darbu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Įmonių valdymo ir veiklos organizavimo efektyvu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28D-9F06-4E81-93C8-1933BABF05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2120" y="2296800"/>
            <a:ext cx="749160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Tradicinė samprata. Biurokratija – valdymas, panaudojant biurų sistemą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Weber samprata. Biurokratija – valdymas, organizuojant grupinę veiklą, šią veiklą griežtai reglamentuojant taisyklėmis, standartais, instruk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CAF-AD9C-44AD-9399-CB71A3C036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raudonoji linija”, pagrįsta daugybe neefektyvaus popierinio darbo ir nelanksčių taisyklių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valstybinis aparatas”, susijęs su vietinės ar centrinės valdžios institu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organizacinė forma”, pagrįsta dominuojančiais elementais – valdžios hierarchija ir taisyklių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1E7-4CD9-4F00-AAD7-5F7DC49AD3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Max Web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864 – 192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nas 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š vadybos teorijos pionieri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okiečių sociolo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kademik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valdymo struktūrizavimas ir valdžios racionalizav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CA7-35EA-4127-AA80-1F82BB6005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Valdžia / Gal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l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smens gebėjimai kitą žmogų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ž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galia, įteisinta tam tikrais įstatymais ir suteikianti teisę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kitus žmones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20F-03C7-4556-9246-78B91AAD8C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Gal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SILYGIN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BAUD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KSPERTIN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ATRAUKLU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9CC-4255-4635-BB93-E7D60791E8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44440"/>
            <a:ext cx="7648560" cy="13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ldž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749124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radic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sąlygota tradicijų ir įsitikinimų (monarchija ir pan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Charizmat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ąlygota pagarbos ir pasitikėjimo asmenyb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cionali – teis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uteikta pareigybės ir apibrėžta taisyklėmis ir procedūrom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D0B-C612-4211-B631-7ADF4E1C1F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44Z</dcterms:modified>
  <cp:revision>38</cp:revision>
  <dc:subject/>
  <dc:title>Introduction to Management</dc:title>
</cp:coreProperties>
</file>