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FED-1A5E-4DC4-80CC-227A6DCF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F4E-993E-4179-A08A-0236D941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0E5-1D72-42BC-BF3F-A5C8D96A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E33-CA2E-4952-9FCD-472EDAA9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17426-E1ED-447B-A567-A3E34380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5992D-4543-44B1-AC16-327D41CB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318F6-F679-46D6-A725-95498343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43075-E487-4212-964E-F9E34A86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CBF5A-F8B6-4BD9-ABEE-8D706B81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BA0F0-8074-4144-B926-8264791E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E9F5B-977F-4943-84CE-8EDBB40B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336-2B48-47C3-9EDE-B0272FF4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BD18A-49A2-4DA5-98DD-E3991AE3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87C41-6C61-4247-8770-51D6F016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9C5D2-0361-4FDB-9FA0-2DC8CA0C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96DB0-C4E5-40C4-972A-0A5242D6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4C63B-1E70-49F8-806C-D78218DC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2D0-3600-4E2F-8285-71F9230C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FB7-2EC6-4918-BFC6-22A9242C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4C1-4271-42B5-A144-A50DA690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12F-A434-42A7-BE85-E622B7E9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1E9-C6B7-4E6C-958A-0A389954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AD4-2EAA-4A4C-9E91-E78BB580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690-0A49-483C-953B-016D3F21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08A5-E1AE-4BD6-944C-E33C557445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0AA3-A4C7-430D-8D54-3C3E3CE207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adybos mokslas Lietuvoje: </a:t>
            </a:r>
            <a:br>
              <a:rPr sz="4400"/>
            </a:b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. Graičiūno indėlis į klasikinės organizacijos teorijos raid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81F1F-E5A5-466E-B735-B431A0D7A61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bjektas – organizacijos vidiniai ryši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eorija apie valdymo procesą, vadovo darbo turinį ir “valdomumo normą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vidinių ryšių klasifikavi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Tiesioginiai individualūs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ryšiai (a) – tarp vadovo ir pavaldinio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Tiesioginiai grupinia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ryšiai (b) – tarp vadovo ir dviejų ar daugiau pavaldini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Kryžminiai ryšia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(c) – pavaldinių tarpusavio ryši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A7C-28CC-4B05-A6C4-CC6E26945B6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aldomumo nor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Jei pavaldinių skaičius – n, o visų galimų ryšių skaičius – f, ta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=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=n (n – 1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=n (2</a:t>
            </a:r>
            <a:r>
              <a:rPr b="0" lang="en-US" sz="2800" spc="-1" strike="noStrike" baseline="50000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 2 – 1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=a + b + 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=n (2</a:t>
            </a:r>
            <a:r>
              <a:rPr b="0" lang="en-US" sz="2800" spc="-1" strike="noStrike" baseline="50000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 2 + (n – 1)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dovas produktyviai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ali valdy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tiesioginių individualių ryšių (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8 tiesiogin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ų grupinių ryšių (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ptimalus pavaldinių skaičiu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-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2CC-1EDA-404E-8585-DF15B5A8C8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reikšmė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rganizacijos grupini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ų ir kryžminių ryšių reikšmės organizacijos valdymui išryškinim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etodologiniai pagrindai organizacijos ryšiams apskaičiuot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etodologiniai principai valdomumo normai nustatyt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atematinių skaičiavimų taikymas valdymo ryšiams analizuot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Labiausiai cituotas nacionalinis vadybos darb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969m. 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Niujorke išleistas pakartotinai “Pakartotinos ekonomikos klasikų publikacijos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CA4-170D-4120-9FFE-B610EAA523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kslin</a:t>
            </a: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ė veikla Lietuvoje p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9297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8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Įsteigė Mokslinės vadybos draugij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Tikslas: “tyrinėjimais, diskusijomis, spauda ir kitomis tinkamomis priemonėmis kelti lietuvių ūkinį pajėgumą ir ekonominę gerovę, praktiškai taikant vadybos dėsniu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36D-3E17-40C7-BE7F-3AE2A89B22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Mokslinės vadybos draugijos veik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936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dybos dėsnių pripažinimas ir propagavi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Nariai: kariškiai, inžinieriai, ekonomist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ai spaudo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Aktualių vadybos temų pristatymas. Vien pirmaisiais veiklos metais aptar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 temų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Organizacijos prada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Sąlygos mokslinei vadybai įvest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Ganto grafikų pritaikyma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Asmeninio darbo organizacij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Funkcinė sistema organizacijoj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Skatinimo problema organizacijoje ir k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Uždary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40 meta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E25-F17F-443B-A651-8A3E4964B5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veikla Lietuvoje p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940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9360" cy="434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0 - 1941m. Techninio skyriaus vir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šininkas Vietinės pramonės 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audies komisari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5m. Pram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ės skyriaus vedėjas Liaudies komisarų Taryboje, Tyrimų skyriaus viršininkas “Lietstatprojekt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5 – 1948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Ėjo 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cento pareigas VDU statybos fakulte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8 – 1951m., atleistas is universiteto, Dirbo “Kotono”, “Silvos” fabriku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1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Ištrem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2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usižudė lageryje Olžease (Kamerovo) srityj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2CE-932F-4CC6-868E-D107D021DC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. Graičiūno nuopelnai vadybos moks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92936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eorija apie pavaldinių veiklos koordinavimą, analizuojant organizacijos vidinius ryši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ovatoriškas požiūris į matematinių modelių taikymą valdy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omumo normos” nustatymo metodinių principų apibrėž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aujų vadybos mokslo teorijų ir idėjų propagavimas Lietuvoj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ymo metodų taikymas praktikoje Lietuvos ūkyj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. Graičiūno veikla Lietuvoje žinoma tik nu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88m.,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išspausdinus jo straipsnį lietuvišk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607-7C83-4463-97DA-A87D39A4526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2251080"/>
            <a:ext cx="808344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ūdinti klasikinės organizacijos (administravimo) teorijos plėtrą Lietu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ristatyti Vytautą Graičiūn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jo nuopelnus vadybos mokslu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984-7469-4F2D-8B1A-A6A7CFBCBC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irmasis pasaulinis darbo mokslinio organizavimo kongresas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, Prah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lyvis iš Lietuvos – Lietuvos universiteto profesorius J. Šimk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raipsnis “Darbo organizacija”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bjektas - pagrindinės F. Taylor ir jo pasekėjų teorijos tezė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C2C7-7E6C-4919-9DCA-2B42F389AB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ės organizacijos (administravimo) teorijų plėtra ik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8960" y="2184120"/>
            <a:ext cx="79311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P. Raulinaiti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Knyga “Administracijos principai”,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26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. Fayol </a:t>
            </a: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teorinės tezės iš veikalo “Bendrasis ir pramoninis valdymas”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16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Knyga “Darbo organizacijos matmenys”,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30m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. Taylor teorijos pagrindai</a:t>
            </a: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, jų pristatymas, polemika, kritik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1CD0-635A-4E63-9221-BA43810AB1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ės organizacijos (administravimo) teorijų plėtra ik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S. Naceviči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s “Teilorizmas ir fajolizmas žemės ūkyje arba žemės ūkio darbams racionalizuoti etiudas”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3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ktas – klasikini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ganizacijos vadybos princip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aikymas žemės ūky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. Galvanausk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s “Darbas administracinėse įstaigose”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4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tarnautojų parinkimo, priėmimo, darbo organizavimo klausim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8D2-89CB-4256-A1B5-584C7DFED3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077320" cy="1239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ytautas Andrius Grai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čiūn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8960" y="2184120"/>
            <a:ext cx="79311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98 – 1952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imė Čikagoje, lietuvio gydytojo šeimo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4 – 1917 studijav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Čikagos universitete, Administracijos ir komercijos fakulte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7 – 1919 tarnavo JAV karo aviacijoj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20 – 1923 studijav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Čikagos technologijos institute ir įgijo bakalauro diplom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23 – 1925 dirb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dybos patarėju keliose Čikagos ir Niujorko kompanij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0E1-5EB9-4AAB-B79A-AF025D9ACA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profesinė veikla Lietuvo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9297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6m. Atvyko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į Lietuvą ir dirbo “Metalo” fabriko technikos vedė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andė organizuoti fabriko bazėje įkurti “Ford” koncerno automobilių surinkimo įmonę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Negavęs paramos savo idėjoms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7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Išvyko iš Lietuvos į Vakarų Europ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D8A-4ADF-458C-9525-2B1CB1D5CB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profesinė ir mokslinė veikla Europo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irbo analitiku, konsultantu įvairiose kompanijose Vokietijoje, Olandijoje, Prancūzijoje, Šveicarijo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nalizavo ir sprendė įmonių ekonomines ir organizacines proble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lyvavo ketvirtame tarptautiniame Vadybos kongrese Paryžiu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raipsnis “Organizacijos vidiniai ryšiai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B8D-367E-46A3-9F2E-75CAB0C063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arengtas artimai bendradarbiaujant su L. Urwick, Tarptautinio valdymo instituto Ženevoje direktoriu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33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traipsnis išspausdintas Ženevos TVI biuletenyje, anglų kalba “Relationship in organization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37m. Straipsnis 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usdintas specialiame straipsn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inkinyje “Administracijos mokslo ap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ga”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(Niujorkas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Rinkinyje žymių to meto mokslininkų darbai:  A. Fayol, E. Mayo ir k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4516-A285-4497-BC80-15EE714DE7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02Z</dcterms:modified>
  <cp:revision>35</cp:revision>
  <dc:subject/>
  <dc:title>Introduction to Management</dc:title>
</cp:coreProperties>
</file>