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828-684B-49CF-9859-6C49A754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729-C333-4A49-9590-BC77EE47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934-AACC-4E02-9588-D4A8E7A4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CD9-0C52-44DD-BCA0-D6562A78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4E80-2EDA-4869-B199-03783F6B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7C8A-78BA-482F-9DC4-E89C03E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D8CC-D50B-44F8-98FC-23F85CE1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783C-A21C-4229-9F73-6D38168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143D-B8F8-4FCD-B42B-EACC4EEF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B931-2CAD-41EE-A5D9-A6486F4A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E747-50CB-41B2-9504-ED37237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841-7BA5-44DB-B4C1-A7CF2041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C626-F320-480E-A81F-287A216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58DE-7E75-45FF-9522-9EB011F7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6752-7929-418F-8365-2B62D771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FAE8-F25F-4292-805B-C0F4B89A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DFBA-5277-43DA-9668-7A4E9824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D83-9DE6-41C6-AAC7-0037F816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841-61F2-454C-991A-4308533A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996-FA65-4569-846B-430BCECE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650-5FE7-4777-9E8E-1261F4F2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A08-EFCD-4908-89BD-549C8A2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925-1E5B-4F73-85AF-B244E51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8CE-6EEF-4890-BE39-892DBD1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EE3F-86C1-4972-B2D4-5B338725C9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F04-B1D9-4BCD-AD77-2D1C5EBA90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Mokslinio valdymo mokykla: F. Taylor vadybos principai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14B0-3079-4980-9B6B-2EB68D3C649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Funkcinio valdymo ištak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93116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ybinio darbo pasidali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ienas tiesioginis vadov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Aštuoni funkciniai vadova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administracijos (operacijų maršrutizavimo, planavimo, apskaitos – ekonomikos, normuotojas, gamybinės drausmės prižiūrėtoj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gamybos cecho (brigadininkas, darbų tempo, įrengimų remonto, inspektoriu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484-491B-466E-8C52-61D1404689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Mokslinio valdymo mokykl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ai darbo užduočių atlikimo metodai -konvejerinės gamybos linijos pirmtak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iferencinė darbo užmokesčio sistema – darbininkų motyvavimo metoda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ECE-1843-4598-9AAA-E71D29F501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Darbo užduočių suskaidymas į operacijas – linijos prielai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Darbininkų judesių analizė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Užduočių atlikimo laiko matavim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Greičiausių ir geriausių darbo operacijų atlikimo metodų projektav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Optimalus turimų įrengimų ir medžiagų panaudoj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lanavimo reikšmės išryškin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255-C063-4353-A408-ABED66A6DD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Diferencinė darbo užmokesčio sistem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iau mokėti geriau dirbanti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aikyti “moksliškai pakoreguotą” darbo užmokesčio būd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istemos nauda kompanijai ir darbinink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Bazinis atlyginimas už atliktą darbo norm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apildomas užmokestis – priedai efektyviau dirbantiems už viršytas nor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58A-B46F-4E4C-ACBB-0CD49E4C28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Darbininkų baimė būti dar labiau išnaudojamiems – dirbti sunkiau ir greiči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Per didelis dėmesys darbo atlikimo laiko mažinimui ir pelningumo didinim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Tyrimo objektas – gamybinė veikla ir gamybos rezulta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79F-5FEF-43E7-8FBB-1C46917648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Organizacija analizuojama kaip inžinerinis objektas – autonominių darinių jungin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Žmogus tik vykdytojas, privalantis tiksliai ir laiku atlikti darbo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ovo darbas nukreiptas tik darbininkų darbo organizavimui, kitos vadovo veiklos neanalizuoja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842-F3CF-4F1C-B3C0-DA5DC6D669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mokslinio valdymo teorijos atsiradimo prielaid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į jos atstovą – F. Tay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F. Taylor vadybos princip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Įvertinti F. Taylor nuopelnus vadybos moksl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082-AC69-46CC-A55B-FB8B611514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b9efee"/>
                </a:solidFill>
                <a:latin typeface="Garamond"/>
              </a:rPr>
              <a:t>Mokslinio valdymo mokykla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279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5B1-212A-4816-BDE2-93E8F35FD3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90F-6259-4E14-B62E-64054A0238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FREDERICK W. TAYLOR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Amerikiečių mokslinink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56 - 19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irmas bandymas kompleksiškai nagrinėti organizavimo klausim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erminas “Fabriko vadyba” – “Shop management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Mokslinės vadybos principai” (The Principles of Scientific Management”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2A7-B58C-472B-B632-92ABD34FAE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Tikro vadybos mokslo sukūr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ptimalių darbo metodų sukūr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suskaidymas į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užduočių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likimo b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ustaty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atematinių skaičiavimų naudo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aš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75C-902B-43AD-AA9C-89D93244A4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arbininkų parinkimas moksliniais pagrinda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uotojų specializ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atitikimo darbo vietai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vietų racional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808-C058-4F8A-874F-73688A86F8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s darbininkų lavinimas ir tobulin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kymas darbo viet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o judesių optim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eisingas apmokėjimas už darb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orm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143-202B-4DF1-9F5B-CF9640A8DB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Glaudūs ir draugiški ryšiai tarp administracijos ir darbinink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isiška minties revoliucija” – bendras darbo našumo siek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otyvacinė darbo apmokėjimo sistema – už viršytas normas mokėti pried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3E1-A562-4CB9-8AC5-6D4B871337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56Z</dcterms:modified>
  <cp:revision>24</cp:revision>
  <dc:subject/>
  <dc:title>Introduction to Management</dc:title>
</cp:coreProperties>
</file>