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BAA9-0FF2-4F84-9B83-548B30F9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3DE2-D5C6-499D-8AD9-81596840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1562-4103-4C97-9D37-F4C5EA18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6CDA-CD9A-46EA-802C-A67EB3A4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9442-3F54-47F1-B0C0-AB342BD0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CD75-9E3D-49B4-A704-B9454ADF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6987-F4BE-4BB6-B71D-49436EC9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4026-99BB-44E8-BF22-BF5B8261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719A-2F01-4E8D-83A4-8F02271E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EAC0-604F-4178-AAAA-DDCCE6B7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E817-4BF4-43E1-B25B-02C52288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9DBF-748F-497C-90A9-028A45EE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88A0-8A6A-49D9-9768-DBC3DFED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E9AB-28F8-490B-81FA-77F0FCDE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08A7-A387-4699-A174-D7028933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6278-C93E-4B30-B05D-FEB80550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43F4-271A-4004-BDA0-17E60CE5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BB03-EE7E-4DE1-A3A9-E478B4DF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4D5F-1D23-4F8E-B400-F51DB530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50DD-A819-45A6-A4D9-19E1E567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C5FB-A7F6-4BA6-B4F7-5220FEC3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1976-E044-4A75-89D8-CBC0B3D3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A9BF-D1F5-4704-91EB-BE6BEC86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2175-7E31-4F67-B284-CB4AB3A4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81CA-129D-4BC1-A38A-90811D125D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5EC5-C483-4C3D-9F28-CB5A4859C4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dfdef6"/>
                </a:solidFill>
                <a:latin typeface="Arial"/>
              </a:rPr>
              <a:t>Klasikinės organizacijų valdymo teorijos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3670-C3EB-440C-82AA-53CE5C01669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ių vadybos teorijų trūku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Idėjos - pagrįstos patirtim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ffffff"/>
                </a:solidFill>
                <a:latin typeface="Arial"/>
              </a:rPr>
              <a:t>Patirtis apribota daugiausiai gamybinių organizacijų veik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Nepatikrintos ir nepagrįstos prielaid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ffffff"/>
                </a:solidFill>
                <a:latin typeface="Arial"/>
              </a:rPr>
              <a:t>Prielaidos pagrįstos vertybiniu vertinimu ir moralinėmis nuostatomis, bet ne moksliniais tyrim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Neformalių santykių organizacijose neįvert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ffffff"/>
                </a:solidFill>
                <a:latin typeface="Arial"/>
              </a:rPr>
              <a:t>Svarbu tik formalūs org. ryšiai, taigi darbuotojų dalyvavimas neanalizuoja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259A-5431-4A04-AAE7-1ECB85CA126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ių vadybos teorijų trūku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Nenumatytos ir neapibrėžtos pasekmė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ffffff"/>
                </a:solidFill>
                <a:latin typeface="Arial"/>
              </a:rPr>
              <a:t>Neįvertintas veiklos formalizavimo poveikis darbuotojų veiklos efektyvumui ir racionalum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Mašinistinė organiz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ffffff"/>
                </a:solidFill>
                <a:latin typeface="Arial"/>
              </a:rPr>
              <a:t>Žmogus tik priedas prie mašinų (įrengim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Statinės sąly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ffffff"/>
                </a:solidFill>
                <a:latin typeface="Arial"/>
              </a:rPr>
              <a:t>Neįvertinta aplinkos sąlygų ka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612A-F4D6-4A3E-9BFB-E1DDE0672B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Objektyvi klasikinių vadybos teorijų kūrimo aplink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Darbininkai buvo mažai kvalifikuoti, karjeros samprata buvo nesuvoki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Pagrindiniai darbininkų poreikiai koncentravosi fiziologinių lygmeny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Technologijos keitėsi gana sparčiai ir efektyvus jų panaudojimas buvo svarbiau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Vadybos teorinė mintis tik rutuliojosi, taigi autorių požiūris buvo nenuoseklus ir siau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DC23-F39E-4466-8CEA-3AAD47DC6D6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ių vadybos teorijų privalu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Į valdymą pažvelgta, kaip į mokslinių tyrimų objekt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Valdymo veikla atskirta nuo darbinės veik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Išryškinta valdymo veiklos įtaka organizacijos veiklos rezultatyvum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Suformuluoti organizacijos ir darbinės veiklos valdymo princip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Į organizaciją pažvelgta, kaip sudėtingą, formalizuotą struktūr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22EA-A060-4AAF-B97A-B4C5B19441B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ibūdinti klasikinių teorijų atsiradimo priela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žvelgti klasikines vadybos teorij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žvelgti klasikinių teorijų autori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Įvertinti klasikinių vadybos teorijų privalumus ir trūku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E414-6B3C-45D0-9D09-C9A874ACE0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parti verslo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rinkų atsiradimas ir plėtra         (ypač JA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erslo infrastruktūros plėtra (keliai, geležinkeliai, ryšiai – telegraf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technologijų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5545-AEE8-4674-8B6F-259688FEDF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Valdymo metodų poreiki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Būtinybė naujų valdymo metodų, </a:t>
            </a:r>
            <a:r>
              <a:rPr b="0" i="1" lang="lt-LT" sz="3600" spc="-1" strike="noStrike">
                <a:solidFill>
                  <a:srgbClr val="ffffff"/>
                </a:solidFill>
                <a:latin typeface="Arial"/>
              </a:rPr>
              <a:t>integruojančių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technologijas, medžiagas ir darbo jėg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Poreikis spręsti prekių ir paslaugų gamybos </a:t>
            </a:r>
            <a:r>
              <a:rPr b="0" i="1" lang="lt-LT" sz="3600" spc="-1" strike="noStrike">
                <a:solidFill>
                  <a:srgbClr val="ffffff"/>
                </a:solidFill>
                <a:latin typeface="Arial"/>
              </a:rPr>
              <a:t>produktyvumo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proble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Siekis didinti organizacinės veiklos </a:t>
            </a:r>
            <a:r>
              <a:rPr b="0" i="1" lang="lt-LT" sz="3600" spc="-1" strike="noStrike">
                <a:solidFill>
                  <a:srgbClr val="ffffff"/>
                </a:solidFill>
                <a:latin typeface="Arial"/>
              </a:rPr>
              <a:t>efektyvum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9110-8071-4105-8D65-71B5F15CE3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lasikinių vadybos teorijų vystymo krypty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Mokslinio valdymo mokyk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Klasikinės organizacijos (administravimo) teorijų mokyk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855E-FBFB-4E23-8A7A-899FBB93F1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dfdef6"/>
                </a:solidFill>
                <a:latin typeface="Arial"/>
              </a:rPr>
              <a:t>Mokslinio valdymo mokykla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701360"/>
            <a:ext cx="7929720" cy="442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usiformavo JA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iciatoriai – mokslininkai ir organizacijų vadov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bjektas – darbo organizavimas ir darbininkų veiklos produktyvumo did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59C1-C29B-4B77-A9F7-51FAEAB515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Mokslinio valdymo mokyklos atstov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ederick W. Tay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an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Lillian Gilbre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Gan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Em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5185-04C1-4F8C-BB46-DFBE7473F5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ų mokykl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siformavo JAV ir Europoj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Iniciatoriai – mokslininkai ir organizacijų vadova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Objektas – organizacijos, kaip visumos, veikla ir jos valdy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842FF-4E10-4D39-AD79-C417BCEA270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o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dministravimo teo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Henri Fay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Chester Bern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L. Gulic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L. Urw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Idealaus biurokratinio valdymo teo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Max We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27B09-1BDF-4A40-9DF1-69CC823099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7:27Z</dcterms:modified>
  <cp:revision>22</cp:revision>
  <dc:subject/>
  <dc:title>Introduction to Management</dc:title>
</cp:coreProperties>
</file>