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WHOOSH.WAV" ContentType="audio/x-wav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A6412-717E-4396-8A3D-8AA6496D7C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9BE8C-096E-498D-80D7-723D850606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DB67-8F47-49DE-AB37-9AD4A747C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3FC0-3473-4643-9790-B6CCBACE8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B432-86A9-4382-BF8D-8453AE082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8353-8DCF-4196-8DC2-E2B601EEE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086E9-88A0-4883-9B88-0E8F01FDC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5DE35-D22D-4428-96D4-31A12E60F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424B8-DD07-493A-ADBB-1C5F95EDE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BF49F-6E3F-4C16-913B-7851E6639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85EFC-41B2-4311-B238-E49B394CA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48100-FDE6-43AF-A70C-18FC2AE83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5A236-AF5D-4097-96AE-D0B42D87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C2A1-3464-446B-8BA4-073F1AFAF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E3D54-149B-4B42-BEFB-AA73FED5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798C1-1528-4F95-AA39-C8FA7DAD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CB195-DEA0-4927-A706-0645DD89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EF5DE-7869-4BB5-B165-2B904D867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13535-5902-4461-8626-E9878ACA7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85E4-5E30-4044-A488-D923B62C0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3EC2-6066-4A59-91FC-CEB6B3466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10EE-846C-448B-8DBB-C1CE6C4FC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C55E-3723-475C-BB39-D202283ED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5804-D771-4239-BC12-79C9CAF0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2F54-5B46-45D4-9FF6-622C7E71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3EAC-027A-4E95-AF31-2A743C37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19044-92B8-4EDF-92EE-BB285E4835B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5E778-2EB7-42B9-ADFF-9618D1CDC1B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slideLayout" Target="../slideLayouts/slideLayout5.xml"/><Relationship Id="rId1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26560" y="2349000"/>
            <a:ext cx="6409080" cy="29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5400" spc="-1" strike="noStrike">
                <a:solidFill>
                  <a:srgbClr val="ffffcc"/>
                </a:solidFill>
                <a:latin typeface="Tahoma"/>
              </a:rPr>
              <a:t>Vadybos mokslo ištakos: ankstyvieji strategai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F6DA1-3452-4DAE-84FA-074A7A1F0DBC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cc"/>
                </a:solidFill>
                <a:latin typeface="Tahoma"/>
              </a:rPr>
              <a:t>Ma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k</a:t>
            </a:r>
            <a:r>
              <a:rPr b="0" lang="lt-LT" sz="4400" spc="-1" strike="noStrike">
                <a:solidFill>
                  <a:srgbClr val="ffffcc"/>
                </a:solidFill>
                <a:latin typeface="Tahoma"/>
              </a:rPr>
              <a:t>iavelis,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1531m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33520" y="1909800"/>
            <a:ext cx="8229600" cy="418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Pokalbiai” (Discours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Valstybės (respublikos) valdymo principai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Valstybė stabili, jei jos nariai turi teisę reikšti skirtingas nuomones bei spręsti jos vidaus konflikt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Respublika gyvuos ilgai, jei ja rūpinsis daugelis ir daugelis trokš ją išlaikyt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Silpnas vadovas gali sekti stipriu, bet ne kitu silpnu, ir išlaikyti autoritet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Vadovas, siekiantis keisti valstybę, turėtų išlaikyti bent senųjų papročių šešėl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10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7902-3D28-49D3-9598-12060A7E977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cc"/>
                </a:solidFill>
                <a:latin typeface="Tahoma"/>
              </a:rPr>
              <a:t>Industrinė revoliucij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33520" y="1909800"/>
            <a:ext cx="8229600" cy="418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Garo variklio sukūrim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Naujų gamybos priemonių ir būdų atsiradim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Gamybos produktyvumo augim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Gamybos kaštų kritim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Masto ekonomijos reikšmė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Organizacijų augimas – monopolizac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Infrastruktūros plėtra – geležinkelių, sausumos ir vandens kelių plėt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Rinkų augim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Organizacijų valdymo problem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2D5D-0E1E-4C11-9AF3-D461C126FA8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4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cc"/>
                </a:solidFill>
                <a:latin typeface="Tahoma"/>
              </a:rPr>
              <a:t>Pirmieji industrinės eros vadybos teoretika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229600" cy="41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ffffff"/>
                </a:solidFill>
                <a:latin typeface="Tahoma"/>
              </a:rPr>
              <a:t>Robert Owen (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1771-1858)</a:t>
            </a:r>
            <a:r>
              <a:rPr b="1" lang="lt-LT" sz="2600" spc="-1" strike="noStrike">
                <a:solidFill>
                  <a:srgbClr val="ffffff"/>
                </a:solidFill>
                <a:latin typeface="Tahoma"/>
              </a:rPr>
              <a:t>, škota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Žmogiškųjų išteklių reikšmės išryškinim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Motyvavimo premijuojant, bet ne baudžian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Motyvavimo technikų kūrim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Siekė “radikalaus” darbo sąlygų pagerinim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ffffff"/>
                </a:solidFill>
                <a:latin typeface="Tahoma"/>
              </a:rPr>
              <a:t>minimalaus amžiaus vaikui – darbininkui nustatymo – nuo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1" lang="lt-LT" sz="2000" spc="-1" strike="noStrike">
                <a:solidFill>
                  <a:srgbClr val="ffffff"/>
                </a:solidFill>
                <a:latin typeface="Tahoma"/>
              </a:rPr>
              <a:t> m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ffffff"/>
                </a:solidFill>
                <a:latin typeface="Tahoma"/>
              </a:rPr>
              <a:t>maksimalios darbo dienos vaikui nustatymo –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0,5 </a:t>
            </a:r>
            <a:r>
              <a:rPr b="1" lang="lt-LT" sz="2000" spc="-1" strike="noStrike">
                <a:solidFill>
                  <a:srgbClr val="ffffff"/>
                </a:solidFill>
                <a:latin typeface="Tahoma"/>
              </a:rPr>
              <a:t>val. dirbant tik dien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ffffff"/>
                </a:solidFill>
                <a:latin typeface="Tahoma"/>
              </a:rPr>
              <a:t>privalomų maitinimosi pertraukų įvedim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Žmogiškųjų išteklių valdymo idėjos tapo pagrindu Bihevioristinės mokyklos teorijų plėtra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C900-F67D-40CA-B622-65584461224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4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4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4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cc"/>
                </a:solidFill>
                <a:latin typeface="Tahoma"/>
              </a:rPr>
              <a:t>Pirmieji industrinės eros vadybos teoretika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ffffff"/>
                </a:solidFill>
                <a:latin typeface="Tahoma"/>
              </a:rPr>
              <a:t>Charles Babbage (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1792-1871)</a:t>
            </a:r>
            <a:r>
              <a:rPr b="1" lang="lt-LT" sz="2600" spc="-1" strike="noStrike">
                <a:solidFill>
                  <a:srgbClr val="ffffff"/>
                </a:solidFill>
                <a:latin typeface="Tahoma"/>
              </a:rPr>
              <a:t>, angla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Matematinių valdymo principų kūrim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Mašinų ir gamintojų ekonomikoje” (On the Economy of Machinery and Manufactur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Matematikos taikyma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Tahoma"/>
              </a:rPr>
              <a:t>medžiagų ir gamybos priemonių neefektyvaus naudojimo problemoms spręsti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Tahoma"/>
              </a:rPr>
              <a:t>pelno paskirstymui ir darbuotojų skatinimui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Analitinio variklio” idėjos iškėlimas (šiuolaikinio PC veikimo idėjo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Matematinio valdymo idėjos tapo pagrindu Kiekybinės valdymo teorijos plėtra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2680-45D6-4A0C-A942-2BDD67FFE3B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4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4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4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cc"/>
                </a:solidFill>
                <a:latin typeface="Tahoma"/>
              </a:rPr>
              <a:t>Pirmųjų vadybos teorinių minčių ribotuma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Owen ir Babbage idėjos buvo per daug “radikalios” savo laikmečiui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Iki pat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19</a:t>
            </a: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a. pab. Įmonių savininkams ir vadovams medžiagų ir žmogiškųjų išteklių valdymo problemos nebuvo aktualios ir suvoktos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Rinkos sparčiai augo, o konkurencija – silpna, kad būtų išryškėjęs efektyvaus ir efektingo valdymo poreikis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Tik išryškėjęs kaštų mažinimo ir veiklos efektyvumo poreikis, paskatino vadybos teoretikų aktyvumą ir klasikinės vadybos teorijų kūrimą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1A3C-3977-4932-B6D7-8F391C50221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cc"/>
                </a:solidFill>
                <a:latin typeface="Tahoma"/>
              </a:rPr>
              <a:t>Paskaitos tiksla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79440" y="1977840"/>
            <a:ext cx="8385120" cy="409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Apibrėžti teorijos samprat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Aptarti ankstyvąsias vadybos mokslo mintis ir teorija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Apžvelgti ankstyvuosius strategus ir teoretik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DE4E-95D0-4200-AC3C-B3AD8475F15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cc"/>
                </a:solidFill>
                <a:latin typeface="Bauhaus 93"/>
              </a:rPr>
              <a:t>Kodėl reikia studijuoti vadybos teorijos istoriją</a:t>
            </a:r>
            <a:r>
              <a:rPr b="0" lang="en-US" sz="4400" spc="-1" strike="noStrike">
                <a:solidFill>
                  <a:srgbClr val="ffffcc"/>
                </a:solidFill>
                <a:latin typeface="Bauhaus 93"/>
              </a:rPr>
              <a:t>?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2971800" y="3048120"/>
            <a:ext cx="3025800" cy="3252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3AED-2CA2-410C-8969-DEC43FCEDAE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cc"/>
                </a:solidFill>
                <a:latin typeface="Brush Script MT"/>
              </a:rPr>
              <a:t>Teorija</a:t>
            </a:r>
            <a:r>
              <a:rPr b="0" lang="en-US" sz="4400" spc="-1" strike="noStrike">
                <a:solidFill>
                  <a:srgbClr val="ffffcc"/>
                </a:solidFill>
                <a:latin typeface="Brush Script MT"/>
              </a:rPr>
              <a:t> -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Nuosekliai išdėstytų teiginių visu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Paaiškina ryšius tarp tiriamų fakt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Pateikia pagrindą ateitiems įvykiams prognozuo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Suteikia žinias – “nematomas galias” teorijų panaudojimu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Apibrėžia būdus, leidžiančius pažinti ir suprasti pasaul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388F-8E40-4F0A-B688-59B19AD5F6D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cc"/>
                </a:solidFill>
                <a:latin typeface="Brush Script MT"/>
              </a:rPr>
              <a:t>Teorija</a:t>
            </a:r>
            <a:r>
              <a:rPr b="0" lang="en-US" sz="4400" spc="-1" strike="noStrike">
                <a:solidFill>
                  <a:srgbClr val="ffffcc"/>
                </a:solidFill>
                <a:latin typeface="Brush Script MT"/>
              </a:rPr>
              <a:t> -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Tahoma"/>
              </a:rPr>
              <a:t>Suteikia stabilumo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 -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patirties suvokimu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svarbos kriterijų nustatymu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Tahoma"/>
              </a:rPr>
              <a:t>Įgalina veiksmingai bendrauti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 -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vienodai suvokiant samprat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analizuojant reiškinius ir situacij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Tahoma"/>
              </a:rPr>
              <a:t>Motyvuoja nuolat mokytis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 -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siekiant pažinti pasaul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sistemiškai analizuoti skirtingas sfe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3C6A-1A03-4BF7-95C1-24876AE243D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cc"/>
                </a:solidFill>
                <a:latin typeface="Tahoma"/>
              </a:rPr>
              <a:t>Ankstyvosios valdymo prielaido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1909800"/>
            <a:ext cx="8229600" cy="418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4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Pirmosios formaliosios organizacijos – graikų ir romėnų armijos bei Romos katalikų bažnyč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4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Pirmieji stambūs “projektai” – karai, statybos objektai ir p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4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Pirmieji autoriai, analizavę galimybes, kaip organizacijas padaryti geriau veikiančias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443F-AF39-4D65-B20D-B60209A4628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6856560" y="1766880"/>
            <a:ext cx="866520" cy="115560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4189320" y="1843200"/>
            <a:ext cx="866880" cy="115560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3"/>
          <a:stretch/>
        </p:blipFill>
        <p:spPr>
          <a:xfrm>
            <a:off x="1446120" y="1766880"/>
            <a:ext cx="866880" cy="1155600"/>
          </a:xfrm>
          <a:prstGeom prst="rect">
            <a:avLst/>
          </a:prstGeom>
          <a:ln w="0">
            <a:noFill/>
          </a:ln>
        </p:spPr>
      </p:pic>
      <p:grpSp>
        <p:nvGrpSpPr>
          <p:cNvPr id="406" name=""/>
          <p:cNvGrpSpPr/>
          <p:nvPr/>
        </p:nvGrpSpPr>
        <p:grpSpPr>
          <a:xfrm>
            <a:off x="684360" y="2452680"/>
            <a:ext cx="7800840" cy="3670200"/>
            <a:chOff x="684360" y="2452680"/>
            <a:chExt cx="7800840" cy="3670200"/>
          </a:xfrm>
        </p:grpSpPr>
        <p:grpSp>
          <p:nvGrpSpPr>
            <p:cNvPr id="407" name=""/>
            <p:cNvGrpSpPr/>
            <p:nvPr/>
          </p:nvGrpSpPr>
          <p:grpSpPr>
            <a:xfrm>
              <a:off x="6018120" y="3672000"/>
              <a:ext cx="2467080" cy="2450880"/>
              <a:chOff x="6018120" y="3672000"/>
              <a:chExt cx="2467080" cy="2450880"/>
            </a:xfrm>
          </p:grpSpPr>
          <p:pic>
            <p:nvPicPr>
              <p:cNvPr id="40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018120" y="3672000"/>
                <a:ext cx="2467080" cy="245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9" name=""/>
              <p:cNvSpPr/>
              <p:nvPr/>
            </p:nvSpPr>
            <p:spPr>
              <a:xfrm>
                <a:off x="6111720" y="3780000"/>
                <a:ext cx="2254320" cy="226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800" spc="-1" strike="noStrike">
                    <a:solidFill>
                      <a:srgbClr val="ffffff"/>
                    </a:solidFill>
                    <a:latin typeface="Arial"/>
                  </a:rPr>
                  <a:t>Mašinų 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800" spc="-1" strike="noStrike">
                    <a:solidFill>
                      <a:srgbClr val="ffffff"/>
                    </a:solidFill>
                    <a:latin typeface="Arial"/>
                  </a:rPr>
                  <a:t>naudojimas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800" spc="-1" strike="noStrike">
                    <a:solidFill>
                      <a:srgbClr val="ffffff"/>
                    </a:solidFill>
                    <a:latin typeface="Arial"/>
                  </a:rPr>
                  <a:t>Masinė 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800" spc="-1" strike="noStrike">
                    <a:solidFill>
                      <a:srgbClr val="ffffff"/>
                    </a:solidFill>
                    <a:latin typeface="Arial"/>
                  </a:rPr>
                  <a:t>gamyba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3351240" y="3672000"/>
              <a:ext cx="2467080" cy="2450880"/>
              <a:chOff x="3351240" y="3672000"/>
              <a:chExt cx="2467080" cy="2450880"/>
            </a:xfrm>
          </p:grpSpPr>
          <p:pic>
            <p:nvPicPr>
              <p:cNvPr id="41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351240" y="3672000"/>
                <a:ext cx="2467080" cy="245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2" name=""/>
              <p:cNvSpPr/>
              <p:nvPr/>
            </p:nvSpPr>
            <p:spPr>
              <a:xfrm>
                <a:off x="3444840" y="3780000"/>
                <a:ext cx="2254320" cy="226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800" spc="-1" strike="noStrike">
                    <a:solidFill>
                      <a:srgbClr val="ffffff"/>
                    </a:solidFill>
                    <a:latin typeface="Arial"/>
                  </a:rPr>
                  <a:t>Tautų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800" spc="-1" strike="noStrike">
                    <a:solidFill>
                      <a:srgbClr val="ffffff"/>
                    </a:solidFill>
                    <a:latin typeface="Arial"/>
                  </a:rPr>
                  <a:t>turtas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800" spc="-1" strike="noStrike">
                    <a:solidFill>
                      <a:srgbClr val="ffffff"/>
                    </a:solidFill>
                    <a:latin typeface="Arial"/>
                  </a:rPr>
                  <a:t>Verslų 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800" spc="-1" strike="noStrike">
                    <a:solidFill>
                      <a:srgbClr val="ffffff"/>
                    </a:solidFill>
                    <a:latin typeface="Arial"/>
                  </a:rPr>
                  <a:t>plėtra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684360" y="3672000"/>
              <a:ext cx="2466720" cy="2450880"/>
              <a:chOff x="684360" y="3672000"/>
              <a:chExt cx="2466720" cy="2450880"/>
            </a:xfrm>
          </p:grpSpPr>
          <p:pic>
            <p:nvPicPr>
              <p:cNvPr id="41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84360" y="3672000"/>
                <a:ext cx="2466720" cy="245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5" name=""/>
              <p:cNvSpPr/>
              <p:nvPr/>
            </p:nvSpPr>
            <p:spPr>
              <a:xfrm>
                <a:off x="777960" y="3780000"/>
                <a:ext cx="2254320" cy="226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800" spc="-1" strike="noStrike">
                    <a:solidFill>
                      <a:srgbClr val="ffffff"/>
                    </a:solidFill>
                    <a:latin typeface="Arial"/>
                  </a:rPr>
                  <a:t>Egipto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lt-LT" sz="2800" spc="-1" strike="noStrike">
                    <a:solidFill>
                      <a:srgbClr val="ffffff"/>
                    </a:solidFill>
                    <a:latin typeface="Arial"/>
                  </a:rPr>
                  <a:t>piramidės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800" spc="-1" strike="noStrike">
                    <a:solidFill>
                      <a:srgbClr val="ffffff"/>
                    </a:solidFill>
                    <a:latin typeface="Arial"/>
                  </a:rPr>
                  <a:t>Didžioji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800" spc="-1" strike="noStrike">
                    <a:solidFill>
                      <a:srgbClr val="ffffff"/>
                    </a:solidFill>
                    <a:latin typeface="Arial"/>
                  </a:rPr>
                  <a:t>Kinų siena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684360" y="2452680"/>
              <a:ext cx="2466720" cy="1308240"/>
              <a:chOff x="684360" y="2452680"/>
              <a:chExt cx="2466720" cy="1308240"/>
            </a:xfrm>
          </p:grpSpPr>
          <p:pic>
            <p:nvPicPr>
              <p:cNvPr id="4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684360" y="2452680"/>
                <a:ext cx="2466720" cy="1308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>
                <a:off x="777960" y="2560680"/>
                <a:ext cx="2254320" cy="11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3200" spc="-1" strike="noStrike">
                    <a:solidFill>
                      <a:srgbClr val="ffffff"/>
                    </a:solidFill>
                    <a:latin typeface="Arial"/>
                  </a:rPr>
                  <a:t>Ankstyvieji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3200" spc="-1" strike="noStrike" u="sng">
                    <a:solidFill>
                      <a:srgbClr val="ffffff"/>
                    </a:solidFill>
                    <a:uFillTx/>
                    <a:latin typeface="Arial"/>
                  </a:rPr>
                  <a:t>pavyzdžiai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3351240" y="2452680"/>
              <a:ext cx="2467080" cy="1308240"/>
              <a:chOff x="3351240" y="2452680"/>
              <a:chExt cx="2467080" cy="1308240"/>
            </a:xfrm>
          </p:grpSpPr>
          <p:pic>
            <p:nvPicPr>
              <p:cNvPr id="42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3351240" y="2452680"/>
                <a:ext cx="2467080" cy="1308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1" name=""/>
              <p:cNvSpPr/>
              <p:nvPr/>
            </p:nvSpPr>
            <p:spPr>
              <a:xfrm>
                <a:off x="3444840" y="2560680"/>
                <a:ext cx="2254320" cy="11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Adam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 u="sng">
                    <a:solidFill>
                      <a:srgbClr val="ffffff"/>
                    </a:solidFill>
                    <a:uFillTx/>
                    <a:latin typeface="Arial"/>
                  </a:rPr>
                  <a:t>Smith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6018120" y="2452680"/>
              <a:ext cx="2467080" cy="1308240"/>
              <a:chOff x="6018120" y="2452680"/>
              <a:chExt cx="2467080" cy="1308240"/>
            </a:xfrm>
          </p:grpSpPr>
          <p:pic>
            <p:nvPicPr>
              <p:cNvPr id="423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6018120" y="2452680"/>
                <a:ext cx="2467080" cy="1308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" name=""/>
              <p:cNvSpPr/>
              <p:nvPr/>
            </p:nvSpPr>
            <p:spPr>
              <a:xfrm>
                <a:off x="6111720" y="2560680"/>
                <a:ext cx="2254320" cy="11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3200" spc="-1" strike="noStrike">
                    <a:solidFill>
                      <a:srgbClr val="ffffff"/>
                    </a:solidFill>
                    <a:latin typeface="Arial"/>
                  </a:rPr>
                  <a:t>Industrinė 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3200" spc="-1" strike="noStrike" u="sng">
                    <a:solidFill>
                      <a:srgbClr val="ffffff"/>
                    </a:solidFill>
                    <a:uFillTx/>
                    <a:latin typeface="Arial"/>
                  </a:rPr>
                  <a:t>revoliucij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5" name=""/>
          <p:cNvGrpSpPr/>
          <p:nvPr/>
        </p:nvGrpSpPr>
        <p:grpSpPr>
          <a:xfrm>
            <a:off x="684360" y="547560"/>
            <a:ext cx="7800840" cy="1765440"/>
            <a:chOff x="684360" y="547560"/>
            <a:chExt cx="7800840" cy="1765440"/>
          </a:xfrm>
        </p:grpSpPr>
        <p:pic>
          <p:nvPicPr>
            <p:cNvPr id="426" name="" descr=""/>
            <p:cNvPicPr/>
            <p:nvPr/>
          </p:nvPicPr>
          <p:blipFill>
            <a:blip r:embed="rId10"/>
            <a:stretch/>
          </p:blipFill>
          <p:spPr>
            <a:xfrm>
              <a:off x="684360" y="547560"/>
              <a:ext cx="7800840" cy="17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777960" y="655560"/>
              <a:ext cx="75880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4400" spc="-1" strike="noStrike">
                  <a:solidFill>
                    <a:srgbClr val="ffffff"/>
                  </a:solidFill>
                  <a:latin typeface="Arial"/>
                </a:rPr>
                <a:t>Istorinis pagrindas vadybos teorijoms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28" name="" descr=""/>
          <p:cNvPicPr/>
          <p:nvPr/>
        </p:nvPicPr>
        <p:blipFill>
          <a:blip r:embed="rId11"/>
          <a:stretch/>
        </p:blipFill>
        <p:spPr>
          <a:xfrm>
            <a:off x="609480" y="6248520"/>
            <a:ext cx="135000" cy="139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176B-9CAD-4D69-AA9E-94389AE97D94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cc"/>
                </a:solidFill>
                <a:latin typeface="Tahoma"/>
              </a:rPr>
              <a:t>Sun Tzu, m.e.pr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4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Kinų filosof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4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Karo menas” (The Art of the War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4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Valdymas – karo strategij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4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Kai priešas puola, mes traukiamė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4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Kai priešas sustoja, mes neduodam ramybė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4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Kai priešas mūšio stengiasi išvengti, mes puola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4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Kai priešas traukiasi, mes persekiojame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252B-2137-477A-853C-5716CAE94C7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cc"/>
                </a:solidFill>
                <a:latin typeface="Tahoma"/>
              </a:rPr>
              <a:t>Karinės armijos valdymo principa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Įsakymų grandis – vertikali valdžios ir atsakomybės lin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Valdžios delegavimas –sprendimų priėmimo ir įgyvendinimo grandinė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Valdymo personalas – karininkai, užtikrinantys valdymo veiklos pasidalijim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Sprendimų vieningumas – kiekvienas individas neturi daugiau negu vieną vadov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1B32-2F75-4C43-B994-33DDC329112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2-02T06:25:45Z</dcterms:modified>
  <cp:revision>21</cp:revision>
  <dc:subject/>
  <dc:title>Introduction to Management</dc:title>
</cp:coreProperties>
</file>