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9A82-2B52-4958-8B43-6C4D0462A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E235-2302-4770-93AE-9B8A6129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5726-6C42-4AB2-A312-BABECA011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4632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73740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5524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4632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73740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B1B6-AF92-4FE1-8277-D38DFB117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D630-FCDA-4E7C-8197-A3308BE9B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21D5-83FF-4D78-8FCE-A33CFD78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6ABB-C31B-4AA7-9EE6-9B07B737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5D25-6036-4305-A252-F5701710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D4AB-EB78-4497-8241-5068FF4A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55240" y="380520"/>
            <a:ext cx="825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9264-2EDB-4A35-AF1F-1B7A58DC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EDFA-3BF3-4236-AD7A-3670C25A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1386-8DA5-414E-A11B-2B7C0F9D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F137-C759-4F83-8EDE-C4C8E71F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9C20-F28D-4715-85B0-6C576C26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BEDD-406A-4118-81ED-60D99387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8550-10E0-43E0-8BE4-23AEA1C61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4632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73740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5524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4632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73740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2D13-2631-4B85-94E7-90676072C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D00B-27D0-4F3B-8A77-9B4AAE27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4A85-114F-4EAD-943E-5DEF8017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AED6-B508-40FD-8794-963DA976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55240" y="380520"/>
            <a:ext cx="825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4C15-DE10-4CFA-B2D8-9E910547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2C5A-780C-45A4-AC97-851D9CF0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8C67-728D-41F1-BBF6-51ED5A0D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D211-A875-4665-8DC8-5755EFC0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0240" y="228600"/>
            <a:ext cx="892656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100160" y="1600200"/>
            <a:ext cx="831060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27944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27944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98720" y="610704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740040" y="610704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454520" y="610704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A15E-A3AC-48EA-8697-3D33A0987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73120" y="201600"/>
            <a:ext cx="909792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27944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46200" y="4130640"/>
            <a:ext cx="11286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27944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20570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174320" y="60958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816360" y="609588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531200" y="60958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637E-D174-4C71-BACD-86051C56F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vakarai.lt/klientam/tinklai/teorija/111.htm" TargetMode="External"/><Relationship Id="rId2" Type="http://schemas.openxmlformats.org/officeDocument/2006/relationships/hyperlink" Target="http://www.vakarai.lt/klientam/tinklai/teorija/111.htm" TargetMode="External"/><Relationship Id="rId3" Type="http://schemas.openxmlformats.org/officeDocument/2006/relationships/hyperlink" Target="http://www.vakarai.lt/klientam/tinklai/teorija/112.htm" TargetMode="External"/><Relationship Id="rId4" Type="http://schemas.openxmlformats.org/officeDocument/2006/relationships/hyperlink" Target="http://www.vakarai.lt/klientam/tinklai/teorija/112.htm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1371600"/>
            <a:ext cx="84200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DUOMEN</a:t>
            </a:r>
            <a:r>
              <a:rPr b="1" lang="lt-LT" sz="4000" spc="-1" strike="noStrike">
                <a:solidFill>
                  <a:srgbClr val="221304"/>
                </a:solidFill>
                <a:latin typeface="Times New Roman"/>
              </a:rPr>
              <a:t>Ų</a:t>
            </a: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 BAZ</a:t>
            </a:r>
            <a:r>
              <a:rPr b="1" lang="lt-LT" sz="4000" spc="-1" strike="noStrike">
                <a:solidFill>
                  <a:srgbClr val="221304"/>
                </a:solidFill>
                <a:latin typeface="Times New Roman"/>
              </a:rPr>
              <a:t>Ė</a:t>
            </a: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S IR </a:t>
            </a:r>
            <a:r>
              <a:rPr b="1" lang="lt-LT" sz="4000" spc="-1" strike="noStrike">
                <a:solidFill>
                  <a:srgbClr val="221304"/>
                </a:solidFill>
                <a:latin typeface="Times New Roman"/>
              </a:rPr>
              <a:t>INFORMACIJOS SISTEMOS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1 </a:t>
            </a:r>
            <a:r>
              <a:rPr b="0" lang="lt-LT" sz="2800" spc="-1" strike="noStrike">
                <a:solidFill>
                  <a:srgbClr val="221304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askaita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320" y="5040000"/>
            <a:ext cx="81536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oc. Saulius Gu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825516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nformacijos sistem</a:t>
            </a:r>
            <a:r>
              <a:rPr b="1" lang="lt-LT" sz="2800" spc="-1" strike="noStrike">
                <a:solidFill>
                  <a:srgbClr val="221304"/>
                </a:solidFill>
                <a:latin typeface="Times New Roman"/>
              </a:rPr>
              <a:t>ų</a:t>
            </a:r>
            <a:r>
              <a:rPr b="1" lang="en-US" sz="2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in</a:t>
            </a:r>
            <a:r>
              <a:rPr b="1" lang="lt-LT" sz="2800" spc="-1" strike="noStrike">
                <a:solidFill>
                  <a:srgbClr val="221304"/>
                </a:solidFill>
                <a:latin typeface="Times New Roman"/>
              </a:rPr>
              <a:t>žinerijos</a:t>
            </a:r>
            <a:r>
              <a:rPr b="1" lang="lt-LT" sz="2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lt-LT" sz="2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sąsajos su kitomis mokslo sritimis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66840" y="14810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66840" y="14810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17760" y="2133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52480" y="1523880"/>
          <a:ext cx="7543800" cy="459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523880"/>
                    <a:ext cx="7543800" cy="45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326D-0D5B-445B-9C5D-FB0EE0EDF0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38400" y="294840"/>
            <a:ext cx="8462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nformacijos sistemų</a:t>
            </a: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 inžinerijos</a:t>
            </a:r>
            <a:r>
              <a:rPr b="1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sąsajos su kitomis mokslo sritimis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268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niu požiūriu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echnical approaches)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vystymuisi turi įtakos informatika (computer science), operacijų tyrimas, vadybos moks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gsenos požiūr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havioral approaches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grinėja IS kūrimo ir IS eksploatavimo (palaikymo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us. Svarbiausios problemos yra strateginis veiklos integravimas,  veiklos kompiuterizavimo IS projektavimas ir realizavimas, kompiuterizuoti vadybos procesai. Šių veiklos sričių modelių kompiuterizavimas  grindžiamas techninio požiūrio modeliais ir metodais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trečias požiūris į IS vietą organizacijos veikloje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sociotechnologinis požiūris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B274-7F56-42C3-BD96-041115BE8A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55600" y="380880"/>
            <a:ext cx="8255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rganizacijos dal</a:t>
            </a: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ių sąsaja su IT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55600" y="1371600"/>
            <a:ext cx="82551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5 pagr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ndinė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ganizacijos daly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lemi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cij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eiklą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formuoja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akymus į aplinkos poveiki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ganizacijos struktūra ir bendroji kultūr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ganizacijos strategij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ybos ir biznio (verslo) proces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dividai ir jų rolė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nformacinė technologija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57800" y="3886200"/>
            <a:ext cx="4038480" cy="2133720"/>
            <a:chOff x="5257800" y="3886200"/>
            <a:chExt cx="4038480" cy="2133720"/>
          </a:xfrm>
        </p:grpSpPr>
        <p:sp>
          <p:nvSpPr>
            <p:cNvPr id="119" name=""/>
            <p:cNvSpPr/>
            <p:nvPr/>
          </p:nvSpPr>
          <p:spPr>
            <a:xfrm>
              <a:off x="5257800" y="4739760"/>
              <a:ext cx="384480" cy="42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719200" y="4739760"/>
              <a:ext cx="576720" cy="42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11600" y="4739760"/>
              <a:ext cx="576720" cy="42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65400" y="4739760"/>
              <a:ext cx="576720" cy="42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42280" y="4099320"/>
              <a:ext cx="34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42280" y="4099320"/>
              <a:ext cx="0" cy="64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88320" y="4099320"/>
              <a:ext cx="0" cy="64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142480" y="4099320"/>
              <a:ext cx="0" cy="64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104040" y="4099320"/>
              <a:ext cx="0" cy="64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449680" y="3886200"/>
              <a:ext cx="34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49680" y="3886200"/>
              <a:ext cx="0" cy="85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03840" y="3886200"/>
              <a:ext cx="0" cy="85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57640" y="3886200"/>
              <a:ext cx="0" cy="85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911800" y="3886200"/>
              <a:ext cx="0" cy="85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42280" y="4953240"/>
              <a:ext cx="76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88320" y="4953240"/>
              <a:ext cx="57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142480" y="4953240"/>
              <a:ext cx="5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57800" y="5593320"/>
              <a:ext cx="4038480" cy="42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49680" y="5166360"/>
              <a:ext cx="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03840" y="5166360"/>
              <a:ext cx="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949880" y="5166360"/>
              <a:ext cx="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104040" y="5166360"/>
              <a:ext cx="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EA81-DCE7-4304-82D0-146F590FB0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55600" y="380880"/>
            <a:ext cx="825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IT apibūdin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5560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aur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ąja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asme 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inf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ormacini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ste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ch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ė dalis: techninė įranga, DB valdymo sistema, kompiuterinis tinklas, sisteminė programinė įrang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r kiti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rengini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čiąja prasme 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rganizacijos techninė, komunikacin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r programin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rang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turi atitikti veiklos sričių poreikius. Atsiradus naujoms veiklos problemoms ar pasikeitus veiklos pobūdžiui, seni IT sprendimai turi būti modifiku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a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3D08-D942-4DA0-906F-5BDF751A17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55600" y="380880"/>
            <a:ext cx="825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221304"/>
                </a:solidFill>
                <a:latin typeface="Times New Roman"/>
              </a:rPr>
              <a:t>IT dal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55600" y="1752480"/>
            <a:ext cx="82551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uo metu organizacijos IT skirstoma į dal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teginės sistemos,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rtos pirmavimui konkurencinėje kovoje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olatinio veiklos tobulinimo darb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ų sist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Verslo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so reinžinerij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PR)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sist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Verslo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nerystė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s sist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 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ktroni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ė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ercij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os sistem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yra viena iš organizacijos IT sudedamųjų dalių. Efektyvus veiklos sričių tvarkymas gali būti tik įdiegus atitinkamos paskirties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89BD-8BB1-4835-ACD2-B0E1A96558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90720" y="1998720"/>
            <a:ext cx="891540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S KOMPONENTA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Įeig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– tai veiklos problemos, duomenys, nurodymai, galimybė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pdorojim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tai programos, įranga (technika), žmonės, D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šeig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ataskaitos, grafikai, skaičiavimo rezultatai, sprendim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aldym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dalyvauja sprendimą priimantys asmen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990720" y="1219320"/>
            <a:ext cx="8048160" cy="2412360"/>
            <a:chOff x="990720" y="1219320"/>
            <a:chExt cx="8048160" cy="2412360"/>
          </a:xfrm>
        </p:grpSpPr>
        <p:sp>
          <p:nvSpPr>
            <p:cNvPr id="147" name=""/>
            <p:cNvSpPr/>
            <p:nvPr/>
          </p:nvSpPr>
          <p:spPr>
            <a:xfrm>
              <a:off x="990720" y="1219320"/>
              <a:ext cx="1005840" cy="68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įeig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60240" y="2942640"/>
              <a:ext cx="1508760" cy="68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valdym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81400" y="1219320"/>
              <a:ext cx="1257480" cy="68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išeig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57320" y="1219320"/>
              <a:ext cx="2012040" cy="68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apdorojim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96560" y="1563840"/>
              <a:ext cx="176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69360" y="1563840"/>
              <a:ext cx="201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5769000" y="1908720"/>
              <a:ext cx="2515320" cy="137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5014800" y="1908720"/>
              <a:ext cx="0" cy="10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1493280" y="1908360"/>
              <a:ext cx="2766600" cy="137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3138480" y="380880"/>
            <a:ext cx="49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s yra IS funkciniu požiūri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B4B0-6FC6-40B4-823A-49243E00BB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5240" y="380880"/>
            <a:ext cx="8255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 </a:t>
            </a:r>
            <a:br>
              <a:rPr sz="3600"/>
            </a:b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Naujų</a:t>
            </a:r>
            <a:r>
              <a:rPr b="1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IT vystymosi kryptys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1371600"/>
            <a:ext cx="8915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a tendenci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ertinant kainos efektyvumo p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i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kompiuteriai vis labiau pirmaus prieš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ogaus darb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is labiau dominuos draugiški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ogui interfeisai (kalba, vaizdas ir k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augojimo įrengin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talpa labai iša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ome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augyk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at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rehou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 Jose bus saugoja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 visi veiklos duomenys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erabait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abai išaugs daugialypių ter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(multimedijos) panaudoji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us diegiam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ntelektualios sistem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7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yra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objektiškai orientuotas (OO) programavimas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8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atys kompiuteriai bus dar labiau kompaktišk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4DFB-057F-47E6-9C07-A3D4680400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73160" y="0"/>
            <a:ext cx="8255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 </a:t>
            </a:r>
            <a:br>
              <a:rPr sz="3600"/>
            </a:b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Naujų</a:t>
            </a:r>
            <a:r>
              <a:rPr b="0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IT vystymosi kryptys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73160" y="1447920"/>
            <a:ext cx="8528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stosi skaičiavima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ompiuterių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kle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 pagrįstos sistemos, kurių technologinis pagrindas -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lien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/server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o sistem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Ta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yraujan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rchitek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labiau įsiga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 pernešami kom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uteri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rbas namuose su kom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uteri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– perspektyvi srit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terneto reikš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naudojimas išaugs. Bus sukurtas informacijos supergreitkel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tranetas taps vyraujančia tinklo sistema organizacijo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ystysis elektroninė komercija iš es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 keisdama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organizacijų veiklos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izni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pob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telektua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 programiniai agentai (so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are agent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 naršys duome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bazes taupydami 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lai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EC4C-1708-4E50-8424-199E19DF17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Kompiuteriniai tinklai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r informaci</a:t>
            </a: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jos sistemos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arbus IS vaidmuo organizacijos veikloje yra paaiškinamas išaugusiu skaičiavimo technikos (techninės ir programinės įrangų) galingu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 kainos mažėjim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piuterinių sistemų pajėgu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 išaug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siradus kompiuterių tinklams.  Jie susiejo skirtingas darbo vietas, įgalino bendrai naudotis vieninga duomenų baze, paskirstyti informaciją pagal darbo vietų poreikiu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 turėjo įtakos organizacijų struktūrų pokyčiams, veiklos formoms ir metodam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57E1-DE23-414D-BDC1-F5EAF6FA33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Kompiuterinių tinklų topologij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ompiuterinių tinklų topologijų tip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1"/>
              </a:rPr>
              <a:t>Bendros magistralės</a:t>
            </a:r>
            <a:r>
              <a:rPr b="0" lang="en-GB" sz="28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2"/>
              </a:rPr>
              <a:t> (Bus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3"/>
              </a:rPr>
              <a:t>Žvaigždės</a:t>
            </a:r>
            <a:r>
              <a:rPr b="0" lang="en-GB" sz="28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4"/>
              </a:rPr>
              <a:t> (Star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iedo (Ring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žio (Tree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ekvienas su kiekvienu (Mesh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B9F4-AF13-40D9-9637-555ECDE899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4160" y="580680"/>
            <a:ext cx="935676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Kas yra informaci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jos</a:t>
            </a:r>
            <a:r>
              <a:rPr b="1" lang="lt-LT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sistema?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nformac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os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 sistema (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enka, apdoroja, saugo, analizuoja ir paskirsto informaciją, turinčią konkrečią paskirt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organizacijos veikloj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stemos a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oroj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eig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uomenis) ir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uformuoja išeig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taskaitas, 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vestine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iuos nusiunčia vartotojui arba kitai sistem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ormac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stemos veikia tam tikroje aplinkoj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: organizacinėje aplinkoje, technologinėje aplinko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formacijos sistemos yra informacinės technologijos, įdiegtos organizacijoje, dali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9C07-8E1A-418A-A283-3ACC127F66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Magistral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ė</a:t>
            </a: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s topologij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05240" y="30481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111a" descr=""/>
          <p:cNvPicPr/>
          <p:nvPr/>
        </p:nvPicPr>
        <p:blipFill>
          <a:blip r:embed="rId1"/>
          <a:stretch/>
        </p:blipFill>
        <p:spPr>
          <a:xfrm>
            <a:off x="2063880" y="1371600"/>
            <a:ext cx="5448240" cy="1341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921120" y="24764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111b" descr=""/>
          <p:cNvPicPr/>
          <p:nvPr/>
        </p:nvPicPr>
        <p:blipFill>
          <a:blip r:embed="rId2"/>
          <a:stretch/>
        </p:blipFill>
        <p:spPr>
          <a:xfrm>
            <a:off x="1219320" y="2819520"/>
            <a:ext cx="3467160" cy="32004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921120" y="24764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111c" descr=""/>
          <p:cNvPicPr/>
          <p:nvPr/>
        </p:nvPicPr>
        <p:blipFill>
          <a:blip r:embed="rId3"/>
          <a:stretch/>
        </p:blipFill>
        <p:spPr>
          <a:xfrm>
            <a:off x="5410080" y="2895480"/>
            <a:ext cx="3549600" cy="32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5E01-DB43-4649-988B-91518B996D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Žvaigždės topologij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38560" y="26766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112a" descr="star topology picture"/>
          <p:cNvPicPr/>
          <p:nvPr/>
        </p:nvPicPr>
        <p:blipFill>
          <a:blip r:embed="rId1"/>
          <a:stretch/>
        </p:blipFill>
        <p:spPr>
          <a:xfrm>
            <a:off x="1238400" y="1752480"/>
            <a:ext cx="3714480" cy="3429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921120" y="24764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112b" descr=""/>
          <p:cNvPicPr/>
          <p:nvPr/>
        </p:nvPicPr>
        <p:blipFill>
          <a:blip r:embed="rId2"/>
          <a:stretch/>
        </p:blipFill>
        <p:spPr>
          <a:xfrm>
            <a:off x="5448240" y="1600200"/>
            <a:ext cx="3880080" cy="358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EE69-5520-48E7-83C1-40715EC817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Žiedo topologij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06880" y="27241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590920" y="1828800"/>
          <a:ext cx="4724280" cy="42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828800"/>
                    <a:ext cx="472428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FA01-431D-494D-843E-CDD1CAA158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221304"/>
                </a:solidFill>
                <a:latin typeface="Times New Roman"/>
              </a:rPr>
              <a:t>Mesh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 topologij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86360" y="270972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989440" y="2133720"/>
          <a:ext cx="4381200" cy="39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9440" y="2133720"/>
                    <a:ext cx="4381200" cy="39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831A-6C19-4C3B-A2F0-6BBA3DD7712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221304"/>
                </a:solidFill>
                <a:latin typeface="Times New Roman"/>
              </a:rPr>
              <a:t>IS klasifikavima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IS gali būti klasifikuojama pag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Organizacinės struktūros lygmen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Funkcines veiklos sr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ompiuterizuojamo proceso (pagalbos) pobūd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istemos architektūr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eiklos, kuri kompiuterizuojama, valdymo lygmen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3884-044D-401B-A601-5C6950E957B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38040" y="685440"/>
            <a:ext cx="8057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IS klasifikacija pagal organizacinės struktūros lygmenis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dalini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Šio tipo IS dažniausiai būna skirta tik konkrečią funkciją atliekančiam padaliniui, pvz., žmogiškųjų išteklių valdymo IS skirta personalo skyriu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ganizacijos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Šio tipo IS skirta kelių arba visų organizacijos padalinių funkcijų kompiuterizavim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porganizacinės IS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ai sudėtingos IS, kompiuterizuojanti kelių organizacijų veiklos procesus ar funkcijas, pvz.: pasaulinė aviabilietų rezervavimo sistem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E9D9-562D-4C04-BF66-A009FC4E1C8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Klasifikacija pagal veiklos </a:t>
            </a: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f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unkcines sriti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82551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skaitos I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kompiuterizuoja organizacijos apskaitos procesu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ans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kompiuterizuoja organizacijos finansų valdym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mybos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kompiuterizuoja gamybos procesus, jų valdymą ir kontrolę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rketingo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ompiuterizuoja veiklos marketingo procesu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sonalo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kompiuterizuoja organizacijos personalo valdymo funkcij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883D-32B6-4534-AC8D-A4D4867FD80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Klasifikacija pagal pagalbos pob</a:t>
            </a: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ū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d</a:t>
            </a: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į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55240" y="144792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PS – transakcij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iekviena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unkcin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veiklos sr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či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I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adybos informacijos sistema (Management IS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AS - rašt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fiso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S - grupinio darbo informacijos sistemos (group suport system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SS - sprendimo pr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imo I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IS – vadovo IS (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xecutive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7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S – intelektualios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kspert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 sistemos (ES), neuronin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tink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istemos (AN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1277-8636-49B3-A86B-3E493BFE1A7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IS klasifikacija pagal architektūrą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d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jų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ka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čiavim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maši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pagrindu veikiančios IS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infram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istemo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skir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personalin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kompiuter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pagrindu sudaryto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I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kirstytos informacijos sistemos (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istributed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331E-FC43-49F4-8B20-C5D6CE974ED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Klasifikacija pagal veiklos valdymo lygmenį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peratyv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us valdym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rba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amybos 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perational 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adybos IS (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nagerial 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trateginės IS (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rategic 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E1E2-EB78-45AB-A5A2-A3F1B57A047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Kas yra informaci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jos</a:t>
            </a:r>
            <a:r>
              <a:rPr b="1" lang="lt-LT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sistema?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aprastai organizacijos informacijos sistema (dar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u informacija ir priemonių visuma) yra dalinai kompiuterizuota, skirstoma į nekompiuterizuo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dalį ir kompiuterizuo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dalį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austumo dėlei, mes sąvoką “kompiuterizuota informacijos sistema” toliau pakeisime terminu “informacijos sistema (IS)”, kadangi nekompiuterizuotų darbų su informacija nenagrinėsi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96CE-1321-4F2A-9A27-0F1622BE4D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5240" y="704880"/>
            <a:ext cx="82551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nformaci</a:t>
            </a:r>
            <a:r>
              <a:rPr b="0" lang="lt-LT" sz="3200" spc="-1" strike="noStrike">
                <a:solidFill>
                  <a:srgbClr val="221304"/>
                </a:solidFill>
                <a:latin typeface="Times New Roman"/>
              </a:rPr>
              <a:t>jos</a:t>
            </a:r>
            <a:r>
              <a:rPr b="0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sistemos sudėtis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55240" y="1371240"/>
            <a:ext cx="8255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rindiniai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kiekvienos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i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jo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sistemos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mponentai yra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echninė įranga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įrenginių rinkinys tokių kaip procesorius, monitorius, klaviatūra ir spausdintuvas, kurie priima duomenis, apdoroja ir išveda ju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graminė įranga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programų rinkinys, kuris įgalina techninę įrangą apdoroti duomen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uomenų bazė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susijusių failų, lentelių, ryšių ir t.t. rinkinys, kuriame saugomi duomenys ir asociacijos tarp j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nkla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omunikacijų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stema, kuri leidžia resursų pasidalijimą tarp skirtingų kompiuteri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cedūros</a:t>
            </a:r>
            <a:r>
              <a:rPr b="0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instrukcijų rinkinys apie tai, kaip apjungti aukščiau išvardintus komponentus tam, kad būtų galima apdoroti informaciją ir sugeneruoti pageidaujamą rezultat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Žmonės</a:t>
            </a:r>
            <a:r>
              <a:rPr b="0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tokie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organizacijos darbuotoja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e naudojasi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ba naudoja j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o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zultatu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, taip pat informatikos specialistai, kurie užtikrina IS funkcionavim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DF3C-FEE6-4055-B7EA-F9035D42FA5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20840" y="304920"/>
            <a:ext cx="784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nformacinės sistemos </a:t>
            </a:r>
            <a:r>
              <a:rPr b="1" lang="lt-LT" sz="2600" spc="-1" strike="noStrike">
                <a:solidFill>
                  <a:srgbClr val="221304"/>
                </a:solidFill>
                <a:latin typeface="Times New Roman"/>
              </a:rPr>
              <a:t>sudėtis ir sąsaja su organizacija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0" y="1981080"/>
          <a:ext cx="8420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8420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2600280" y="20383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218592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38080" y="1523880"/>
          <a:ext cx="8585280" cy="451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523880"/>
                    <a:ext cx="8585280" cy="45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45B3-7F25-4ABE-B9C8-D074CF56621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</a:t>
            </a: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S PROGRAMINĖS ĮRANGOS TIPAI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24120" y="2166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62120" y="1143000"/>
          <a:ext cx="8832600" cy="50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43000"/>
                    <a:ext cx="883260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638A-06CB-4E71-8772-8AE5FA56044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Organizacijos veiklos efektyvumui svarbios informacinės technologijos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 (1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8172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 klasifikacija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 yr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tarptautinės mokslininkų grupės darbo rezulta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T srities pavadinimas,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arbos įvert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Adekvačios biznio procesui IT infrastruktūros sukūrimas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9,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Biznio proceso perprojektavimo kompiuterizavimas                     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7,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Paskirstytų IS kūrimas ir tvarkymas.                                                       7,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Organizacijos informacinės architektūros kūrimas ir realizavimas.        7,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Komunikacinių tinklų planavimas ir tvarkymas.                                     7,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IS kūrimo efektyvumo didinimas.                                                            7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Duomenų šaltinio tikslinio naudojimo užtikrinimas.                               7,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IS personalo kvalifikacijos kėlimas.                                                         7,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IS organizavimas atsižvelgiant į organizacijos struktūros vystymąsi.     7,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IS strateginio planavimo įvertinimas.                                                     6,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84F2-FB27-480C-B044-AECA5EF90F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Organizacijos veiklos efektyvumui svarbios informacinės technologijos</a:t>
            </a: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 (2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A.Kolektyvinio darbo sistemų kūrimas ir valdymas.                               6,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B.IS efektyvumo ir našumo matavimas.                                                   6,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Supratimo apie IS vaidmenį ir įtaką organizacijai didinimas.                 6,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Organizacijos personalo apmokymo kompiuterizavimas.                       6,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Esamos IS valdymas.                                                                                6,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Galutiniam vartotojui skirtų IS kūrimas ir tvarkymas.                             6,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IS panaudojimas konkurenciniam pirmavimui.                                        6,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Atvirų sistemų planavimas ir integravimas (skirtingų IS integravimas)  6,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Elektroninių duomenų mainų (EDI) kūrimas ir tvarkymas.                     5,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.Atskirų informacinių paslaugų nuomavimas (outsourcing).                     5,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7C4F-2324-47D9-9AF5-D545C05D6A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73160" y="456840"/>
            <a:ext cx="8089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nformacinių technologijų </a:t>
            </a: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įtaka veiklai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38040" y="15235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ima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liktas 1997 metų pabaigoje, nustat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kia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arbiausias I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įtako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ganizacija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rit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Našumo didinimas (improving productivity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Savikainos mažinimas (reducing cost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Priimamų sprendimų gerinimas (improving decision making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Ryšio su vartotojais tobulinimas (enhancing customer relation­ships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Naujų st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ginės paskirties IS kūrimas (developing new strategic application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ED5B-CEA4-4D38-A9FB-1ECBF273FF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Kodėl reikia IS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240" y="1676160"/>
            <a:ext cx="8255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uolaikinio biznio aplinkos savybė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, kurios reikalauja kompiuterizuotų 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izavim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dyba ir kontrolė globalioje rinko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kurencija pasaulio rink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inės darbo grupė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inės produkto paskirstymo siste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DB69-CF50-4E64-9C7B-8879F9CABA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Kodėl reikia IS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55240" y="1371600"/>
            <a:ext cx="8255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uolaikinio biznio aplinkos savybė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, kurios reikalauja kompiuterizuotų 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 u="sng">
                <a:solidFill>
                  <a:srgbClr val="000000"/>
                </a:solidFill>
                <a:uFillTx/>
                <a:latin typeface="Times New Roman"/>
              </a:rPr>
              <a:t>2.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dustrinės ekonomikos pokyči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iniomis ir informacija grindžiama ekonom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ktyvu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ji produktai ir paslau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inios: pagrindinis gamybos ir strateginis tur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kurencija, kurioje svarbus laiko faktorius (time-based compet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mpesnis produkto gyvavimo laik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bulentinė aplin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botas darbuotojų žinių bagaž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67D2-EA32-480B-90DC-03E4770BF4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Kodėl reikia IS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uolaikinio biznio aplinkos savybė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, kurios reikalauja kompiuterizuotų 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 u="sng">
                <a:solidFill>
                  <a:srgbClr val="000000"/>
                </a:solidFill>
                <a:uFillTx/>
                <a:latin typeface="Times New Roman"/>
              </a:rPr>
              <a:t>3.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eiklos pokyči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cinės struktūros plokštėjimas (flatten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aldymo d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entraliz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eiklos slanku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 (flexi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ietumas nuo geografinės padėties (location independ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emos transakcijų ir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eikl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ordinavimo kai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buotojo teisių didėjimas (empower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lektyvinis darbas ir grupinis darb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AFBA-4C93-4E80-B258-C06E57253B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47:31Z</dcterms:created>
  <dc:creator>Rasa</dc:creator>
  <dc:description/>
  <dc:language>en-US</dc:language>
  <cp:lastModifiedBy>isd</cp:lastModifiedBy>
  <cp:lastPrinted>2002-08-27T15:34:20Z</cp:lastPrinted>
  <dcterms:modified xsi:type="dcterms:W3CDTF">2002-09-11T14:42:15Z</dcterms:modified>
  <cp:revision>86</cp:revision>
  <dc:subject/>
  <dc:title>Informacinės sistemos gamybos valdymui  IT apibrėžimas ir klasifikacija</dc:title>
</cp:coreProperties>
</file>