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12D-15B9-4191-B852-35590DAA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05F-432D-4ED4-90CE-36F597E1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F30-05D7-4654-9C8E-E600D092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AFC-8D08-4883-AF1B-97290AEA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D4D5-4EA2-406E-88E9-42966FF0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A176-F169-4C25-B3E4-E24E0CAE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38AD-0950-4E63-B809-515145D4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9B3A-B049-4832-9866-49F1FA6B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5767-7E3F-4D78-AC6A-084B31AB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4DA9-873A-408C-B8CC-A2D84494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2C7E-457E-474B-8F74-B717492A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0AD-AE14-44EB-AFA3-FC487011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F14E-C492-4FB3-B87C-D72BF01B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67F9-8724-41FF-990E-8503478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AB60-2FA5-470C-94EC-F342F055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EF37-5ECC-4C28-955F-EA556EA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0B08-ECB5-4E79-AA48-901976B6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9EE-A289-4B86-8433-42546D62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99F-1E8C-4472-91D0-4EEC1F3D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4F3-2DC6-48B4-ADC6-7652D1E2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AE7-9E9B-4527-A633-3CA9E437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1A2-F8DA-466D-9A5F-123B7F14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B8F-E727-4165-8188-DA33389E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2B8-4F08-4366-9E1B-D2D9927A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6AD4-28F0-4A68-B35A-F1549E6FCD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93C8-6F8E-40B2-8203-954D257686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000000"/>
                </a:solidFill>
                <a:latin typeface="Verdana"/>
              </a:rPr>
              <a:t>Vadybos teori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92CC-0776-4933-9841-E8064CA281C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Teorija „Z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technikos: sprendimų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Dinamiškų santykių požiūris į vadybos moksl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otinės kokybės vadybos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6D6-BF96-45C6-906A-3B8FBD63DF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okyčių ir inovacijų valdy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Naujos sąlygos valdymui: vadybos mokslo ateiti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574-8F7C-4D51-BE7A-7988FB0C40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EGZAMINAS (13-26 temo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Egzamin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akartotinas atsiskaitymas skiriamas pagal numatytą egzaminų perlaikymo savaitės tvarkaraštį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5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C1D-2166-4F60-99F0-B783F39678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</a:rPr>
              <a:t>Individualūs užduočių pristatymai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liekami pasirinktomis temomis, suderintomis su dalyko dėstytoj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PowerPoint formate, pateikiant pristatymo skaidres, atspausdintas po dvi A4 formato lapuos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auditorijoje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o trukmė 10-15 mi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įtaka galutiniam pažymiui - 10 pro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CF2-D0D6-46F1-A3F4-09F6A20964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ų darbas (grupinė užduoti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omas pasirinktinai pagal dėstytojo pateiktas temas, suderinus jas su dėstytoj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tinio pobūdžio studija, kurioje turi dominuoti analitinis stilius, išreiškiantis autorių nuomonę į tyrinėjamą tematiką bei kitų autorių atliktus pastebėjimus ir tyrim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grupėse po 3-4 student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mas raštu iki 14 studijų savaitės (iki gegužės 07d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16 savaitę vyks namų darbų pristatymai, parengti PowerPoint formate. Pristatymo trukmė 10-15m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atliekamas tokiu būdu: (50 proc. darbas pateiktas raštu ir 50 proc. – pristatymas. Konsultacijos teikiamos pratybų met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658-BF35-4C42-937B-C78F30D54E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Atsiskaity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2057400"/>
            <a:ext cx="8762760" cy="3987720"/>
            <a:chOff x="228600" y="2057400"/>
            <a:chExt cx="8762760" cy="3987720"/>
          </a:xfrm>
        </p:grpSpPr>
        <p:grpSp>
          <p:nvGrpSpPr>
            <p:cNvPr id="114" name=""/>
            <p:cNvGrpSpPr/>
            <p:nvPr/>
          </p:nvGrpSpPr>
          <p:grpSpPr>
            <a:xfrm>
              <a:off x="236520" y="2062080"/>
              <a:ext cx="8745840" cy="3978360"/>
              <a:chOff x="236520" y="2062080"/>
              <a:chExt cx="8745840" cy="3978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36520" y="2062080"/>
                <a:ext cx="4754880" cy="914400"/>
                <a:chOff x="236520" y="2062080"/>
                <a:chExt cx="4754880" cy="914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52440" y="2062080"/>
                  <a:ext cx="4523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siskaitymo (užduoties) tip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6520" y="2062080"/>
                  <a:ext cx="47548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991760" y="2062080"/>
                <a:ext cx="1242720" cy="914400"/>
                <a:chOff x="4991760" y="2062080"/>
                <a:chExt cx="1242720" cy="914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107680" y="2062080"/>
                  <a:ext cx="1011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91760" y="2062080"/>
                  <a:ext cx="12427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34840" y="2062080"/>
                <a:ext cx="1189080" cy="914400"/>
                <a:chOff x="6234840" y="2062080"/>
                <a:chExt cx="1189080" cy="914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50760" y="2062080"/>
                  <a:ext cx="9576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 valandų, val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234840" y="2062080"/>
                  <a:ext cx="1189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424280" y="2062080"/>
                <a:ext cx="1558080" cy="914400"/>
                <a:chOff x="7424280" y="2062080"/>
                <a:chExt cx="1558080" cy="914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539840" y="2062080"/>
                  <a:ext cx="1326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Įtaka pažymiui, proc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24280" y="2062080"/>
                  <a:ext cx="1558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6520" y="2976480"/>
                <a:ext cx="4754880" cy="609480"/>
                <a:chOff x="236520" y="2976480"/>
                <a:chExt cx="4754880" cy="609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2440" y="29764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ividualūs užduočių pristatym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6520" y="29764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991760" y="2976480"/>
                <a:ext cx="1242720" cy="609480"/>
                <a:chOff x="4991760" y="2976480"/>
                <a:chExt cx="1242720" cy="609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107680" y="29764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991760" y="29764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234840" y="2976480"/>
                <a:ext cx="1189080" cy="609480"/>
                <a:chOff x="6234840" y="2976480"/>
                <a:chExt cx="1189080" cy="609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350760" y="29764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34840" y="29764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424280" y="2976480"/>
                <a:ext cx="1558080" cy="609480"/>
                <a:chOff x="7424280" y="2976480"/>
                <a:chExt cx="1558080" cy="609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539840" y="29764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424280" y="29764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6520" y="3585960"/>
                <a:ext cx="4754880" cy="609840"/>
                <a:chOff x="236520" y="3585960"/>
                <a:chExt cx="4754880" cy="609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2440" y="3585960"/>
                  <a:ext cx="45230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ų darbai (grupinės užduoty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6520" y="3585960"/>
                  <a:ext cx="47548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991760" y="3585960"/>
                <a:ext cx="1242720" cy="609840"/>
                <a:chOff x="4991760" y="3585960"/>
                <a:chExt cx="1242720" cy="609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7680" y="3585960"/>
                  <a:ext cx="1011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991760" y="3585960"/>
                  <a:ext cx="12427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234840" y="3585960"/>
                <a:ext cx="1189080" cy="609840"/>
                <a:chOff x="6234840" y="3585960"/>
                <a:chExt cx="1189080" cy="609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50760" y="3585960"/>
                  <a:ext cx="957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34840" y="3585960"/>
                  <a:ext cx="1189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424280" y="3585960"/>
                <a:ext cx="1558080" cy="609840"/>
                <a:chOff x="7424280" y="3585960"/>
                <a:chExt cx="1558080" cy="609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39840" y="3585960"/>
                  <a:ext cx="1326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24280" y="3585960"/>
                  <a:ext cx="1558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36520" y="4195800"/>
                <a:ext cx="4754880" cy="609480"/>
                <a:chOff x="236520" y="4195800"/>
                <a:chExt cx="4754880" cy="609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2440" y="419580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rpinis egzam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6520" y="419580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91760" y="4195800"/>
                <a:ext cx="1242720" cy="609480"/>
                <a:chOff x="4991760" y="4195800"/>
                <a:chExt cx="1242720" cy="6094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107680" y="419580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91760" y="419580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234840" y="4195800"/>
                <a:ext cx="1189080" cy="609480"/>
                <a:chOff x="6234840" y="4195800"/>
                <a:chExt cx="1189080" cy="609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50760" y="419580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34840" y="419580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424280" y="4195800"/>
                <a:ext cx="1558080" cy="609480"/>
                <a:chOff x="7424280" y="4195800"/>
                <a:chExt cx="1558080" cy="609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539840" y="419580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24280" y="419580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36520" y="4805280"/>
                <a:ext cx="4754880" cy="609480"/>
                <a:chOff x="236520" y="4805280"/>
                <a:chExt cx="475488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52440" y="48052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alutinis egzaminas</a:t>
                  </a:r>
                  <a:r>
                    <a:rPr b="0" lang="lt-LT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6520" y="48052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91760" y="4805280"/>
                <a:ext cx="1242720" cy="609480"/>
                <a:chOff x="4991760" y="4805280"/>
                <a:chExt cx="1242720" cy="609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107680" y="48052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91760" y="48052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234840" y="4805280"/>
                <a:ext cx="1189080" cy="609480"/>
                <a:chOff x="6234840" y="4805280"/>
                <a:chExt cx="118908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350760" y="48052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4840" y="48052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424280" y="4805280"/>
                <a:ext cx="1558080" cy="609480"/>
                <a:chOff x="7424280" y="4805280"/>
                <a:chExt cx="15580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539840" y="48052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424280" y="48052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6520" y="5414760"/>
                <a:ext cx="4754880" cy="625680"/>
                <a:chOff x="236520" y="5414760"/>
                <a:chExt cx="4754880" cy="6256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2440" y="5414760"/>
                  <a:ext cx="45230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6520" y="5414760"/>
                  <a:ext cx="47548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91760" y="5414760"/>
                <a:ext cx="1242720" cy="625680"/>
                <a:chOff x="4991760" y="5414760"/>
                <a:chExt cx="1242720" cy="625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07680" y="5414760"/>
                  <a:ext cx="1011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91760" y="5414760"/>
                  <a:ext cx="1242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34840" y="5414760"/>
                <a:ext cx="1189080" cy="625680"/>
                <a:chOff x="6234840" y="5414760"/>
                <a:chExt cx="1189080" cy="6256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350760" y="5414760"/>
                  <a:ext cx="9576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234840" y="5414760"/>
                  <a:ext cx="1189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7424280" y="5414760"/>
                <a:ext cx="1558080" cy="625680"/>
                <a:chOff x="7424280" y="5414760"/>
                <a:chExt cx="1558080" cy="6256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539840" y="5414760"/>
                  <a:ext cx="1326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24280" y="5414760"/>
                  <a:ext cx="1558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228600" y="2057400"/>
              <a:ext cx="8762760" cy="3987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74C-BCAE-46E7-8539-9131E630E1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grindinė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es A.F. Stoner, R.Edward Freman, Daniel R. Gilbert, Jr. Vadyba. Kaunas, Poligrafija ir informatika, 1999. 660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vilas Zakarevičius, Vadyba: genezė, dabartis, tendencijos. Kaunas, Vytauto Didžiojo universiteta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. 225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raim Turban, Jack Meredith, Fundamentals of management science. Irwin, 1991. 1010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ius Neverauskas, Jonas Rastenis, Vadybos pagrindai. Kaunas, Technologija, 2001. 143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A. Wren, The Evolution of Management Thought, John Wiley &amp; Sons, Inc. 1994. 466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23F-760B-47F0-8D83-9BF59CDC43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pildom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Ramon J. Aldag,Timothy M. Stearns, Management. Cincinati, South-Western Publishing, 1991. 800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G.A. Cole, Management: Theory and Practice. London, Letts, 1996. 462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Fabijonas Saulius Butkus. Organizacijos ir vadyba. Vilnius, Alma Litera, 1996. 158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Jonas Kvedaravičius. Graičiūno vieta ir reikšmė vadybos raidoje. Kn.: Organizacijų vadyba: sisteminiai tyrimai, Nr.8. Kaunas, VDU. 1998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Michael H. Mescon, Michale Albert, Franklin Khedouri. Management. New York, Harper and Row Publishers, 1992. 700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FAA-CC09-4161-90A2-B7102405C6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2111040"/>
            <a:ext cx="785160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pažindinti su vadybos moks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teikti teorines žinias apie vadybos mokslo raid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ugdyti įgūdžius, įgalinančius analizuoti vadybos mokslo raidos tendenci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207-638B-4EBF-A486-785E689DA0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ažinti ir vertinti vadybos įtaką organizacijų ir pasaulio ekonomikos plėt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ritaikant vadybos mokslinės minties istorinę patirtį, formuoti vadybos mokslo principų vieningą suvokim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D6D-B9D2-46CD-A61A-6F7241BBEE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ištakos: ankstyvieji strateg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ų 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mokykla: F. Taylor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teorijos raida ir reikšmė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134-561E-49C1-9070-8245E3EB37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os teorijos mokykla: H. Fayol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as Lietuvoje: V. Graičiūno indėlis į klasikinės organizacijos teorijos raid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. Weber idealaus biurokrat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sociopsichologinė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1A5-B9F5-4296-A08A-32DC69BF76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Žmogiškųjų santykių teorija: Hawthorne eksperimenta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Bihevioristinė mokykla: veiklos ir elgsenos motyv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Lyderi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Grupių elgsen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708-632E-4D50-AEA1-A043B52ED7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Tarpinis egzaminas (1-12 tem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,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siskaitym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3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08E-812E-47C3-9097-9356C61E0C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isuotinis dalyvavimas valdyme: partisipatyvinė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mokykla: kiekybinės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Integratyvaus valdymo mokyk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rofesionalaus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5C1-7C2A-4BBF-90B6-BD83952C78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derniosios vadyb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stem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tuatyv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trateginio valdymo teorij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DAC-E207-431F-8968-A90E843339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4:06Z</dcterms:modified>
  <cp:revision>17</cp:revision>
  <dc:subject/>
  <dc:title>Introduction to Management</dc:title>
</cp:coreProperties>
</file>