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10B-00F3-460D-9431-5EF8E048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51C-1490-4510-BFA5-79742861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019-00BB-42B8-A5F9-41CEDF89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A1E-BCAE-42B3-9B7D-9136991E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7331-B510-47EF-9B35-D7974523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10CD-7F3A-49C8-8984-12C399E1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36E7-C545-4C8B-B015-860C2409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392B-6C19-4B33-B5D1-67642AB9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3C7E-8811-4773-B865-226CFE7C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2BC8-6D56-440E-B772-8B0F019C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415A-C9E3-4C10-A5BF-22ED4AD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31F-9272-418F-B4B7-12F77B86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968D-085C-4658-A2F2-CE15571C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A601-1756-49D9-8892-42D912B4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C38B-9E93-4633-A8A3-7870079A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D1D1-85A5-4390-8EBC-15C87366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AB55-2768-438D-A786-06EC551B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97B-EC6D-4524-9466-35D945B8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520-DFA9-4C43-BF38-ECBD009A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BFF-7B8B-410B-903B-FAE2567F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387-6EDF-4CDE-A92B-9150F79D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904-E7AB-44EA-80D5-462835E2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F49-B669-4234-9DC8-63D48E3D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117-3095-48EB-9ECD-6D3A6DD5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D830-C7DA-4CAE-B873-00DAAF0748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EF9F-8D1E-4BB7-8DD2-CE630584B5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samprata ir kateg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E52D-5827-4CF1-92F7-24C3E184D853}" type="slidenum">
              <a:t>1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rezulta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PRINCIPAI IR METODAI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64C-7695-4896-8164-7CF8B67E8F20}" type="slidenum">
              <a:t>10</a:t>
            </a:fld>
          </a:p>
        </p:txBody>
      </p:sp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rindinės taisyklės, elgesio normos, teiginiai, kuriais(iomis) remiantis reiktų atlikti valdymo veiklą organizacijose (efektyviai ir efektinga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15A-93F7-43CE-8C9A-A5FA4DC92124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Ų KLASIFIKAVI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formuluojamų taisyklių pobūdį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rašomieji (rekomendac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rodomieji (normatyv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apimamų (vadybos) sričių platum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ndrie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nkretū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D3B-0FAA-4572-A17D-7DFE19185A41}" type="slidenum">
              <a:t>12</a:t>
            </a:fld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8BA-59EA-4684-AD00-1D3750934930}" type="slidenum">
              <a:t>13</a:t>
            </a:fld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finė darbinės veiklos rūš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rocesas, apimantis konkrečias stadij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Tikslinė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pagrįsta išteklia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orientuota į rezultat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ikliška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C7D-EFFB-4BF1-9A8B-E1785A679DD4}" type="slidenum">
              <a:t>14</a:t>
            </a:fld>
          </a:p>
        </p:txBody>
      </p:sp>
    </p:spTree>
  </p:cSld>
  <p:transition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 ORGANIZ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truktūrizuota žmonių grupė, siekianti bendrų tiksl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rielaid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tvira sistema: vidinė ir išorinė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usideda iš valdymo ir valdomosios posistemi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254-7D44-46D8-A89E-3B4235CBECE8}" type="slidenum">
              <a:t>15</a:t>
            </a:fld>
          </a:p>
        </p:txBody>
      </p:sp>
    </p:spTree>
  </p:cSld>
  <p:transition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S ORGANIZACIJOS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Išor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NE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A09-D2C1-465B-BF50-F49520F239F8}" type="slidenum">
              <a:t>16</a:t>
            </a:fld>
          </a:p>
        </p:txBody>
      </p:sp>
    </p:spTree>
  </p:cSld>
  <p:transition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os turiny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Darbo pasidalijimo valdyme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avarankiškos valdymo veiklos daly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Objektyvios, specializuotos valdymo veiklo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ų atlikimas valdymo srityse sudaro valdymo veiklos turin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FE3-C3D6-458E-A5EC-814C1DE5AAF1}" type="slidenum">
              <a:t>17</a:t>
            </a:fld>
          </a:p>
        </p:txBody>
      </p:sp>
    </p:spTree>
  </p:cSld>
  <p:transition>
    <p:split dir="out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veiklos subjekta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Žmonės, atliekantys valdymo veikl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9E1-319D-46DB-B2EB-7913873D5B83}" type="slidenum">
              <a:t>18</a:t>
            </a:fld>
          </a:p>
        </p:txBody>
      </p:sp>
    </p:spTree>
  </p:cSld>
  <p:transition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OVAI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ALIST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PTARNAUJANTIS PERSONALA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396-5CA3-4848-BC37-2EE3D8572643}" type="slidenum">
              <a:t>19</a:t>
            </a:fld>
          </a:p>
        </p:txBody>
      </p:sp>
    </p:spTree>
  </p:cSld>
  <p:transition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3880" y="2363400"/>
            <a:ext cx="7629480" cy="374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samprat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mokslo tikslus, objektą ir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rėžti vadybos mokslo terminij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04F-511A-4B26-B9D3-B94FFEF5E9D2}" type="slidenum">
              <a:t>2</a:t>
            </a:fld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METO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bū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agrįsti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sr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avimo stilia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ybos mokslo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471-F464-4399-8F39-D280A71FCBCD}" type="slidenum">
              <a:t>20</a:t>
            </a:fld>
          </a:p>
        </p:txBody>
      </p:sp>
    </p:spTree>
  </p:cSld>
  <p:transition>
    <p:split dir="out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NĖ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DYMO </a:t>
            </a: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TRUKTŪRA (OV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for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antykinai savarankiški elementa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ų pasidalij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Formalių ryšių visum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grandžių ir lygių visu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jos veiklų koordinav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3BC-FB1C-4878-895F-755B334875FD}" type="slidenum">
              <a:t>21</a:t>
            </a:fld>
          </a:p>
        </p:txBody>
      </p:sp>
    </p:spTree>
  </p:cSld>
  <p:transition>
    <p:split dir="out" orient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lausimai diskusij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760" y="2017440"/>
            <a:ext cx="38098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uo skiriasi “vadyba” nuo “valdymo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a mokslas ar men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BD04924_" descr=""/>
          <p:cNvPicPr/>
          <p:nvPr/>
        </p:nvPicPr>
        <p:blipFill>
          <a:blip r:embed="rId1"/>
          <a:stretch/>
        </p:blipFill>
        <p:spPr>
          <a:xfrm>
            <a:off x="1562040" y="2017800"/>
            <a:ext cx="3051360" cy="377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6A5-8656-4963-B569-800D0412AA61}" type="slidenum">
              <a:t>22</a:t>
            </a:fld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 mokslas ar mena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omasi iš vadovėlių, mokytojų ir aplinkos (IŠSILAVINIM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ritaikomas mokslas kintant sąlygoms (PATIRT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o ir meno vertė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inių ir patirties sintezė įgalinanti prognozuoti ateities įvyk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01E-E46A-49A1-AEC7-9865FDFBE166}" type="slidenum">
              <a:t>23</a:t>
            </a:fld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Arial"/>
              </a:rPr>
              <a:t>Kodėl studijuoti vadybą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prasti kaip organizacijos valdom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irengti valdyti arba būti valdom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BD06663_" descr=""/>
          <p:cNvPicPr/>
          <p:nvPr/>
        </p:nvPicPr>
        <p:blipFill>
          <a:blip r:embed="rId1"/>
          <a:stretch/>
        </p:blipFill>
        <p:spPr>
          <a:xfrm>
            <a:off x="1182600" y="2422440"/>
            <a:ext cx="381024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9F8-FFB6-49CC-9AFB-9653B29A247A}" type="slidenum">
              <a:t>24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A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 –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.A. Graičiūnas, 1935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.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mokslinė vadybos ir visuminė valdymo veiklos sampr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5DF-71C7-4C52-8676-6D0B66EC4733}" type="slidenum">
              <a:t>3</a:t>
            </a:fld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nariai, kurie priima esminius sprendimus susijusius su organizacijos veikla. (Šiuo atveju priimtina tik Amerikos vadybinėje kalboj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inios, sukauptos mokslinių tyrimų ir praktinių stebėjimų me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79F-0C92-475B-A5B2-E8F2D9959590}" type="slidenum">
              <a:t>4</a:t>
            </a:fld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aktinis mokslinių studijų taikymas specifinių vadybinių problemų sprendimu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os veiklų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lanavimo, organizavimo, vadovavimo ir kontrol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procesas sisteminiu būdu siekiant organizacijos tikslų. 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Ramon J. Aldag, Timothy M. Stearns, Management, 1991 South Western Publishing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i klasikinė samprata reiškianti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minę organizacijos valdymo veiklą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562-4755-4FF7-9D5D-F0DBD91A7DE9}" type="slidenum">
              <a:t>5</a:t>
            </a:fld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029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vi 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“VADYBOS”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ampratos pu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ė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psmas vadovu priklauso nuo vadybinių žinių ir praktinių įgūdžių. …šiuo atveju galima kalbėti apie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kaip apie mokslą (discipliną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adovo veikla gali būti sistemiškai analizuojama ir klasifikuojama. …aišku, kad reikia iškirti profesinius ir mokslinius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aspekt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Peter F. Druker An Introductory View of Management, 197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25E-2457-49EA-93DB-34F77E38ABE1}" type="slidenum">
              <a:t>6</a:t>
            </a:fld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Mokslas apie socialinių organizacijų, sistemų valdym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raktinių valdymo metodų ir tradicijų, būdingų kokiam nors istoriniam laikotarpiui ar šaliai, visuma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65D-DE08-4C0D-AE89-4F17172F3838}" type="slidenum">
              <a:t>7</a:t>
            </a:fld>
          </a:p>
        </p:txBody>
      </p:sp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Suformuoti efektyvius valdymo metodu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Nurodyti efektingas organizacijos plėtros krypti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adėti organizacijoms prisitaikyti prie dinamiškai kintančios aplinkos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D58-BAC1-4A62-8FC6-48D0E12D1624}" type="slidenum">
              <a:t>8</a:t>
            </a:fld>
          </a:p>
        </p:txBody>
      </p:sp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objekt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VEIKLA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A0A-1AE5-4AD2-B16A-5F16A1B354B3}" type="slidenum">
              <a:t>9</a:t>
            </a:fld>
          </a:p>
        </p:txBody>
      </p:sp>
    </p:spTree>
  </p:cSld>
  <p:transition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3:40Z</dcterms:modified>
  <cp:revision>22</cp:revision>
  <dc:subject/>
  <dc:title>Introduction to Management</dc:title>
</cp:coreProperties>
</file>