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11F-5556-4D74-BED2-1A228243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20D-F29B-46FB-8D0C-B4CC80E3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A3E-B4D0-47B9-8731-5392D662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857-10D5-4DD1-804C-A4A3F6D5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FAFF-F87E-424F-9AA0-73676726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9BFC-673E-41C9-BAED-2DB3D43D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4682-38B3-4083-A527-D916DEEF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5708-F716-45CA-8570-7EA20F03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CBCE-485C-4406-B346-55555C94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E914-5B0E-4464-B239-6BBC6DDF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8A91-020C-4C8F-A955-DAABAECE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041-D41B-478A-A039-1B75778A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D945-2EBD-4B12-881A-84EF8BF9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8DDF-A4CB-4F6C-9AEA-1010FCEE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3DDC-3BCA-44AF-A61C-5217549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DF90-0ED3-47E9-BD49-8C26E9B4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EBB5-69C1-47BF-954C-EF55AD19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444-8FB9-40F7-ACF1-B1DA9B8A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752-AA9C-4684-889F-43CDA272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E57-17DA-4230-BC99-C24ECA29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E6D-9271-44AA-BC8C-C2CB4F8E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A2C-C051-40E7-B420-810E4DC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9E6-97F7-4700-898F-329370F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F28-F37A-4078-8D06-F8709B83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C9D4-4CE6-4238-A760-BADB1093CE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8326-15D2-4ECF-AA15-1722792E08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oderniosios vadybos te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D825-8A83-48AE-8422-79AD9DEAD46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ėkmingų organizacijų teorijo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 valdymas kompleksinis, integruotas daugybės vadybos sudėtinių elementų realizavimas, siekiant organizacijos tikslų ir sėkmingos veik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543-372F-4FD4-8FB6-CDEE066094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os klasikinės vadybos teorijos ir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s kompleksinio valdymo metodų taikymas, taigi ir vadybos teorijų studijavimo, poreiki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okslas tapo svarbia, būtina, objektyviai neišvengiama socialinių mokslų visumos dalim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B42-59D8-44E1-BEF2-04404597A1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2D5-2230-4DBC-B10C-B4840C8E14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10B-7091-4938-8D4D-72F7790E7A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eorijo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239920"/>
            <a:ext cx="749124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tuatyv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ikslinio valdymo teorij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stem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Organizacinio vystymo ir strateginio valdymo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ėkmingų organizacijų teorijo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131-5673-474C-81FA-FA16D6B9C2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1A3-A360-434B-B772-0B19347863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140-4AA7-49FC-BB58-9CA7A79DBA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01E-3CDF-4568-AAF7-B0736CB743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nio vystymo ir strateginio valdymo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veikia nuolat besikeičiančioje aplinkoje. Tokios sąlygos verčia keisti požiūrį į valdymą, kad tai nėra periodinių ar vienkartinių veiksmų seka, tačiau nuolatinis, tęstinis procesas, orientuotas į ilgalaikę perspektyv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AE1-2427-4CBB-8C3E-7F6E347A4C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Strateg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6553080" cy="29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Organizacijos veiklos ir gyvavimo tolimesnėje ateityje perspektyvinis mode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2D6-AE25-48F3-8E08-607B17FDC3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21Z</dcterms:modified>
  <cp:revision>47</cp:revision>
  <dc:subject/>
  <dc:title>Introduction to Management</dc:title>
</cp:coreProperties>
</file>