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D8DE-88F3-4AAB-934C-0313D1358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C801-4DE6-4CEA-A46F-B1E781F8B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16000" y="650880"/>
            <a:ext cx="4632480" cy="3473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5480" y="4341960"/>
            <a:ext cx="5032440" cy="41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FA3-2D7E-4637-9B13-4D578EB5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7A8-E60B-4896-BEE7-271FF6CA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F59-3F3C-474D-97EE-4FC27EDE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714-D3A9-4FF1-AD73-42EA86D9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3AD8-DF56-49F2-A7C8-C442B8C6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F055-6F0A-4BAF-BAE3-13966D15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DC26-8D4F-4F2E-9B0F-639FA3BB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4ACA-D171-40AB-BF41-8F38856F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3852-DCAE-4E84-9410-A350766B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87A6-8743-4BA2-8356-32341151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BFDF-5E86-4451-9F40-9F50516F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1D9-E507-4187-A7C7-155F5C6E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5BD3-0CAE-4B42-A8B9-47655ABA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F199-1F91-47A9-8BED-8CFDFC85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2A68-6652-4515-8FC0-48F8669C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BB6B-B874-4077-9205-598A696A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F1F2-D763-4FB0-88B3-F071D184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FD7-47B1-4E78-BD29-86640414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5919-670C-49E7-97EA-6B9B56DE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AAD-A15D-4E09-9310-643CE1F3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DB0-F916-4362-B980-925E5553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E27C-7E3D-4B68-AD28-BE8DF92B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CC3-C689-4C60-9F2C-64417AAC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8976-1333-450E-BB12-2B28D212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CC80-A9A0-47CC-9AF3-DD2B01F845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2A27-F4AF-491B-BC7A-7DC15E1990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3767-08DA-4C72-B537-FA3A3CF3C3D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O proble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adekvati top valdymo lygmens par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profesionaliai suformuluot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adekvatus pažangos monitorin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daug popierinio darb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aikui imlus darb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431B-C658-4AB5-AC6F-3D9BEF8658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lanavimo efektyvu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9948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Efektyvinti kompanijoje naudojamus metodus, technikas, priemones ir sistemas. Pokyčiai ir nauji būdai didina klaidos tikimyb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katinti dalyvavimą planavime. Kuo daugiau organizacijos žmonių dalyvauja tuo didesnis lojalumas ir pasitikėjimas užtikrina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Efektyvinti komunikaciją ir didinti informuotumą. Tikslų ir veiklų sąveikos suvokimas svarbus planavimo sėkme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FA2-EEAE-4AB1-A70E-BADA8896C5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ntegruoti individualių ir organizacijos tikslų derinimo požiūriai bei pritaikyti šiuolaikinėms organizacijų veiklos sąlygo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 darbuotojų dalyvavimo planavime ir tikslų nustatyme svarb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plėtota “tikslo nuosavybės” koncepcij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formuota MBO samprata bei nustatyti tikslinio valdymo organizacijose princip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5E70-43E4-4D76-ACA6-CCAE4BC44A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kslinio valdymo teorijos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C0F7-9324-4B09-8E4D-EB4AA120B8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augo organizacijų įvairovė, o tuo pačiu daugėjo ir valdymo problem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parčiai keičiasi žmonių poreikiai, taigi ir motyvavimo veiksniai, kas reikalauja naujų motyvavimo metod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ų veikla tampa ypač priklausoma nuo žinių ir informacij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ovavimas žmonėms ir įtraukimas į valdymą tampa vis svarbesniu vadybos ob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76E-585A-4EDD-AF7E-F82848C9AA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br>
              <a:rPr sz="3600"/>
            </a:b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(Management by Objectives MB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Sudaryti tikslų medį kiekvienam valdymo lygiui, kuriame aiškiai atsispindėtų kiekvieno padalinio ir darbuotojo tikslai, kurių įgyvendinimas leis pasiekti organizacijos tikslų. Tik tuomet organizacija veiks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882B-A5DE-468E-9682-AB32AE3B5E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H. Tos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. Carro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J. Odior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BD3-FAF2-4745-AB74-99808B4C82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ini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valdym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MBO)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 žing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tarti darbo reikalavim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šplėtoti potencialius tiksl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tarti tiksl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statyti kontrolės srit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įvertinti rezul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77C-B54C-42BF-B4B9-F589795CED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ų formulavimo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nkos poveik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kuren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oper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iniai veiksni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pildoma motyv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šankstiniai susitarim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iniai ištekli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cijos vertybė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A36-D4FD-441D-874F-7DB7F3BD54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ų formulavimo subjekt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ija - strateg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kščiaus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t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kščiausio lygmens funkciniai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urin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yv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urin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žemiaus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14CB-BC74-4503-AB6D-7DCECEEFD9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O nau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 horizontali komunik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s išteklių panaudoji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 vertikali komunik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obulinami pažangos vertinimo kriterij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s planavimo proce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D81-0633-4FD1-A015-72AFCF6449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2:11Z</dcterms:modified>
  <cp:revision>48</cp:revision>
  <dc:subject/>
  <dc:title>Introduction to Management</dc:title>
</cp:coreProperties>
</file>