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AE6-E3CF-4CE9-BB06-894A5AA1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34C-9460-4037-922B-B98892F8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73D-4F26-412F-B2AD-194E5AE6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3A9-0379-4862-909B-AD23C8BA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C6FE-CC94-49D0-9A0F-82F8C945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B884-13C3-4A39-9F01-CD706BCB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72A2-7AE8-4A6E-A3A0-C807EFAB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9F6B-F6C8-4D5A-8133-3DEAB5D6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15E9-AEA4-4AEC-9612-D93CB6C8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0EF0-8FE6-4543-AB7A-36A764AF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4918-EAD0-410D-8C8E-1F2CE9FD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9EBF-5085-4D69-AAB0-C66CFBA8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36FD-F2DE-4622-A56B-4A98EDBA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70FC-8EF4-40AB-9F5A-225A0A59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6B8B-B5F0-456C-83F5-E4966654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4EEF-EA04-49C6-A591-D4A79373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9D17-20E9-4194-ACD3-DC648869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167-12E8-485E-9581-825E8809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F32-3D95-4B12-B479-6E24DF4A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048-A753-4778-8F6F-B678F90A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C56-5DA3-42A4-AE91-5E0BF3F9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B02-6F1A-4B56-81D3-F3855535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A30-47A7-44E2-A2CF-1765D2A1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589-13D2-4870-9E4C-51A15E49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48E3-9F79-431E-905B-752DE23FDD7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E040-BF23-4687-AB0F-E148F2B470C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700" spc="-1" strike="noStrike">
                <a:solidFill>
                  <a:srgbClr val="ffffcc"/>
                </a:solidFill>
                <a:latin typeface="Arial"/>
              </a:rPr>
              <a:t>Visuotinio dalyvavimo valdyme (partisipatyvinė) teorij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BC19-0A2E-4893-A602-71609259392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Nuopelnai vadybos mokslu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agrįsta, kad organizacijos žmonės, dalyvaudami valdymo procese labiau motyvuojami geriau atlikti savo funkcija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Išryškinta, kad kiekvienas žmogus kupinas kūrybingų minčių, taigi yra neišsenkantis naujų idėjų šaltini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agrįsta, kad derinant organizacijos narių ir organizacijos interesus, derinami ir visuomeniniai interesai, kas leidžia organizacijai įsitvirtint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5DF-3CF0-4467-819F-229774AA97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Apibūdinti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</a:t>
            </a: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isuotinio dalyvavimo valdyme teorij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s</a:t>
            </a: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 susiformavimo prielaida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statyti pagrindinius autori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Apžvelgti jų nuopelnus vadybos mokslu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D1D-C4C2-4A32-8ED3-954D67A321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Valdymo ir 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ndim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ų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ri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ė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mo centralizacija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augant organizacijoms darėsi vis sudėtingesnė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Augo darbuotojų nepasitenkinimas motyvacine sistema ir valdymo neefektyvumu organizacijos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Naujų idėjų trūkumas skatino įtraukti vis daugiau žmonių į valdymo proces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CA7E-344E-4CCD-9767-BF7E928BF9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C. Ker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W. Gellerm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. Perro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T. Pars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R. Liker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bjektas – 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organizacijos darbuotojų dalyvavimas užduočių formavime ir sprendimų priėmim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C764-FDD6-4E5A-AFAA-BFC901E1E9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Dalyvavimo valdyme galimybės 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C. Kerr,  W. Gellerman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imant sprendimus organizacijos lygmenyje, į jų rengimo ir priėmimo grupes įtraukiami organizacijos padalinių (grupių) atstovai, turintys atstovavimo teisę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imant sprendimus padalinio lygmenyje, į jų rengimo ir priėmimo procesą vadovas įtraukia padalinio darbuotojus, su kuriais konsultuojamas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E06-872B-4CBA-9EC6-56FCB98B78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Institucionalizm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a veikia visuomeninėje aplinkoje, taigi yra visuomenės dalis arba visuomenės institucija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ai svarbu įsitvirtinti visuomenėje ir būti pripažintai, kaip reikalingai institucijai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Visuotinis dalyvavimas padeda geriau įsitvirtinti visuomenėje, nes atspindi platesnius žmonių ir grupių, t.y. visuomenės interesus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os ir visuomenės interesai turi būti suderinti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D4D-090B-4003-A927-C88F052D43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nstitucinis valdymas 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K. Perrow, T. Parsons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Gamybinis valdyma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gamybinio – techninio objekto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Socialinis valdyma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socialinio objekto (žmonių)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Institucini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institucinio objekto santykyje su kitais, visuomenėje funkcionuojančiais objektais,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EA50-D0EB-41D7-8629-E77EBC6721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dealios organizacijos modelis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R. Likert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Organizacijos tikslai nustatomi grupinių svarstymų būdu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Organizacija yra atviras objektas, palaikantis ryšius su kitomis organizacijomi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Sprendimai visuose organizacijos lygiuose priimami, įtraukiant jos narius. Informacijos srautai organizacijoje turi būti subalansuoti – pasiekti organizacijos narius ir išorės institucijas laiku ir tiksliai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0A4-9BF5-405C-85AA-F6F5EA52E2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dealios organizacijos modelis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R. Likert), tęsiny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Darbuotojai motyvuojami įvairiais būdais, ypač naudojant grupinio skatinimo metodus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Visų lygių vadovai pasitiki organizacijos nariais, svarsto ir panaudoja jų teikiamus pasiūlymus ir idėj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ontrolės funkcijos organizacijoje decentralizuotos, ji vykdoma keliais lygiai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E41-BE4F-4482-8E92-BEF2708D338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8:52Z</dcterms:modified>
  <cp:revision>41</cp:revision>
  <dc:subject/>
  <dc:title>Introduction to Management</dc:title>
</cp:coreProperties>
</file>