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FCEC-CEAC-4C72-9350-DC166FC4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C8E6-528E-4555-9AFA-D759A16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537D-6904-45B3-9BC1-D4A1A90B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6C64-BB6E-40EE-97BE-46884C40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985-0A39-496F-948A-B96BD917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FFF2-12CF-4530-B61B-14CE2A5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2A83-3D6B-488E-8FAE-1DC942A7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4E21-E81B-4209-BC37-8D39F0AA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838E-2DA1-4B78-8191-BFDC9FB9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91ED-DD6A-4A36-8C1E-C15002A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6F5F-6DD2-476A-AF30-42B65BE2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44E5-0B21-49A8-AB53-A9596006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909-6A2A-475F-849B-D0129DD4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9C76-094D-4C85-9342-BEEB4588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7B3C-96D0-470E-866A-841B1F4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7E87-ED39-4BFB-AB92-2CCD6C5F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E01-E768-49E7-8CD3-2F47ECEA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5A2F-1BF8-4467-9DBF-438E0A54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01B8-0A77-4192-AFB4-362240DD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767B-F0D1-4AF4-835F-97C2D87C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5B08-C1BA-4209-9A4B-C03B5CE8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452B-E15C-4D6C-BB02-F5B9B5C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2BF6-B90E-4D13-B48B-D061E2B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C87B-A97A-4E03-B08D-315D2CF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4E5A-BAA7-4CBA-83B8-85B8F10E7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4A09-B0C3-4FB1-9302-B24981E765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5622-E5D2-4415-81BE-41DC5D6D8F4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elgsena ir vaidmu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up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elgsenos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ategorijos (Rack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Morgan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77)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a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(koncepcija, veik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ystymas (kitų pasiūlymų teiki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Rėmimas (narių ir jų idėj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sut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ynyba / puol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73C7-DA84-4F83-86FD-8E0F88DE02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up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ė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 elgsenos 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ategorijos (Rackham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&amp;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 Morgan,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7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blok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viras elge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vokimo tik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end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sie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tei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erėm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arėmimas (nario įtraukim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6F4B-A9BE-4BB3-9DDC-FE1CD9FAC4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grupėje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i ryšiai tarp nar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bo klimato pokyč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tokratinis 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iežtas grupės struktūr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idelis akcentas lojalum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2A3E-28E8-489D-AD5A-B324791466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tarp grupių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itos grupės traktavimas kaip priešinin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a komunikacija, pasitikėjimo st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igiami stereoti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zoliuotas požiū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1EF9-D890-41DA-9EE3-8A9E85E6D3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fliktų tarp grupių sprend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grupes už jų indėlį į visos organizacijos veiklą, o ne vien už individualius grupės rezultat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tarpgrupinę komunikaciją ir bendradarbiav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Įgalinti grupės narius pažinti problemas už grupės ribų ir skatinti organizacijos visumos suvok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ekti išvengti konkurencinių tarpgrupinių situacijų (laimi-pralaimi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katinti 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tuacijas (laimi – lai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0949-C872-49A8-93F8-BB1F900A17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mandos ir jų formav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3500" spc="-1" strike="noStrike">
                <a:solidFill>
                  <a:srgbClr val="ffffff"/>
                </a:solidFill>
                <a:latin typeface="Arial"/>
              </a:rPr>
              <a:t>Gera (efektyvi) komanda – kada jos nariai gali dirbti kaip komanda, veikdami atskirai ir orientuodamiesi į veiklų papildomumą ir nuoseklumą nei į bendrą užduotį, reikalaujančią tikslumo vietos ir laiko prasme</a:t>
            </a: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... (Adair,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986m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13D9-D73B-4CEC-A0AC-80024BBD2F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irm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ntroliuojantis ir koordinuojantis, tačiau nekurian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rchitekt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sprendimų ir situacijos modeli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novatoriu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ūrybiškas mąstymas ir pozityvus požiūris į kitų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Vert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analizuoja ir objektyviai vertina siūlymus ir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9346-D811-435C-BD50-06FCC9F4F5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panijos darb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dėjų ir kompanijos bendrų planų įgyven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andos nary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mandos poreikių identifikavimas ir ten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šteklių ieško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šteklių ir idėjų paieška komandos išorėje siekiant komandos tiksl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Įgyvend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orientuojasi į sėkmingą užduoties įgyvendinimą laiku ir kokybiš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5C4A-E86A-4570-9847-4DAFEFD392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0280" y="1980720"/>
            <a:ext cx="808344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grupių elgsenos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es grupių elgsenos formavimo ir valdymo kryptis ir pžiū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201E-3861-4928-8FE4-5AC0F706DF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gaus poreikio priklausyti grupei išryšk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įtakos individo elgesiui svarbos suvok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veiklos svarbos organizacijos veiklai išryš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osi ir elgsenos priežasčių paieška ir principų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9602-D0FC-4908-BA21-89535F9DAF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grupių formavimas ir elgsenos motyvav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efektyv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apriboji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elgsena ir vaidm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a tarp grup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mandos ir j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24F8-F419-43CF-BA1C-607F79D38C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veik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yderi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n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rių motyv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nor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ividualūs vaidmen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2BF8-4F9E-491D-AE50-021F1B508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formavimas (B. Tuckman,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1965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Form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forming), užduoties, taisyklių, išteklių, struktūros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Konflikt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storming), emocionalus pasipriešinimas grupės taisyklė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Normaliz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norming), konfliktų sureguliavimas ir naujų taisyklų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Veik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performing), užduočių atlikimas, sprendimų įgyvendin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baig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adjourning), grupės iširimas, atlikus užduot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BC4D-7805-4123-AC18-55EC8B0E48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darnumo veiksni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panaš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izinis artimumas darbo viet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struktū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šorės pavo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lygio perspekty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našūs socialiniai faktor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BE1C-A628-4B86-A6B4-C2E888684F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Grupių efektyvumo veiksni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eformali, laisva apli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lačios diskusijos aktyviai dalyvauj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s užduoties suvokimas ir įsipareig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riai klauso vienas k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fliktai sprendžiami konstruktyv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prendimai priimami kolegia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ėjos reiškiamos laisvai ir atvir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yderiavimas paskirs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 analizuoja savo pažangą ir elges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6530-67D1-4910-A95E-1DFD36DFD9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ių apriboji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7487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Grupės dyd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mažos grupės darnesnės, užtikrina dalyvavimą, didelės grupės užtikrina didesnę talentų diversifikacij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techninės užduotys reikalauja homogeniškų, specifinių grupių, problemų sprendimas, kūrybiškumas reikalauja įvairialypės grupės sudė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Narystė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grupės daugialypiškumas, talentų įvairovė užtikrin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Aplinkos veiksniai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darbo aplinka, fizinis artumas ir kiti artimos aplinkos veiksniai, sąlygoj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74B3-D56A-4533-BB01-B0DDC75D2F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18Z</dcterms:modified>
  <cp:revision>45</cp:revision>
  <dc:subject/>
  <dc:title>Introduction to Management</dc:title>
</cp:coreProperties>
</file>