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623-1891-412C-AC5A-F9CEE4B3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B48-404A-4369-A0B7-CF0929F5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735-19F0-4634-AA60-DB19066E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820-FF99-4F55-AF02-85695BCD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EE0C-2A88-4FFA-BC50-AB8773AD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CD99-3837-441C-B252-6A3F6B21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6182-5BF1-45BA-A532-1241E9B6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08BB-2457-464E-A6A3-DF963652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1EDA-14EF-4E15-A71B-CD86117F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0EE4-9A2A-4A28-A3A4-F28BE468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1B67-2E78-424E-9E25-949A4E91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7C8-968E-4D7D-A98D-F5219B3C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FA39-F330-4532-85DE-7C5F0EC6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CAC1-EC8B-4C85-92CD-149F852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4B2C-823A-4D39-B453-AE011652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886B-96C2-46EB-AC7F-32676391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FF54-5691-44A4-A6C9-1DE3B75D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FF3-AB83-4AFA-BC8C-86361CC0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D5F-CD89-450F-8FA8-0F4B37DA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33D-9EF9-4BA5-BCFE-C969980C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E22-53F2-41FA-9549-4DE60194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75E-B455-4708-91A7-DB17C847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A82-1DD0-420A-AA75-04128B64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760-0BDA-4B56-92D0-881AF09A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CC2F-02A8-4A0A-9BE2-AAE8F7B173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743A-E845-4AE4-B935-01AFE44048E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Žmogiškųjų santykių teorija: Howthorne eksperimentai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B8B2-A499-4D78-BBC2-613766DC459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: išvados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1392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Individas negali būti aktyvinamas izoliuotai- bet tik kaip grupės nar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oreikis priklausyti grupei ir būti svarbiam joje yra netgi svarbesnis nei atlygis už darbą bei fizinės darbo sąlyg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Neformalios grupės turi didžiulę įtaką darbuotojo elgesiui darbo viet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Meistrai ir vadovai turi kreipti dėmesį į socialinius poreikius ir siekti juos pakreipti formalios organizacijos labu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9E1-4B48-42D0-9DD6-74D6218B84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ayo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ŽMOGUS – socialinis gyvūnas tiek darbe tiek gyvenime, todėl individo priklausomybė grupei yra ypatingai svarbi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647-09C6-4D1F-84D0-BDB685E58B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ary Parker Foll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68-193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yrimų objektas – žmonių santykiai ir organizacinė struktūr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Valdymas – menas kurti daiktus per kitus žmon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799-6CE1-4DB3-87FD-4F3B2F7DAE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Tyrimų objekta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aldžios ir autoriteto sąvokų analizė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Valdžia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 – objektyvi valdymo sudėtinė dal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utoritet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įgyjamas teisingai naudojantis valdž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o atsakomybės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“už ką atsakau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Grupinė 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atsakomybė už darbų derinimą su kitais, tuo pačiu atsakant už grupės darbo rezultat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FAE-EB1F-42AE-AADC-AB39FF5B72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Vidiniai konfliktai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onfliktų sprendimo tipa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Domin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viena pusė sugeba įveikti kit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Kompromis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daro nuolaidas ir susita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Integr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ieško konflikto priežasčių ir būdų joms pašalint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iš konfliktų priežasčių – vadovavimo būd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Grubus komandavimo būdas iššaukia psichologinį pasipriešinim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2E8-0D19-4463-8413-7759B3FA55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Organizacijos reikšmė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rupės svarba – sujungiant asmeninius gabumus į kažką didesnio (sinergij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linkos veiksnių įtaka organizacijai: politika, ekonomika, biologija ir t.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ldymo objektas ne tik organizacija bet ir organizacijos aplin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elio šiuolaikinių vadybos teorijų ir požiūrių pagrin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CA8-A0D1-42D4-8B3D-1D8DE208DE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. P. Follet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Darbininkai, apgalvodami, kaip vykdyti sprendimus, dalyvauja valdyme – sprendimų realizavime. Todėl svarbu juo įtraukti ir į sprendimo priėmimo proces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C57-4138-4182-B55E-FD023C50D2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Žmogiškųjų santykių teorij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771200"/>
            <a:ext cx="7929360" cy="42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socialinių veiksnių įtaka darbuotojų elgsenai ir darbo našumui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neformalių santykių organizacijoje svarb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žmogaus priklausomybės grupei svarba – grupių valdy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Motyvavimo aktyviai veiklai veiksnių analizė – motyvavi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vadovų asmeninė įtaka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su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ais ir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tarp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ų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289-CF78-43E9-821A-A1CEE21F58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77840"/>
            <a:ext cx="808344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žmogiškųjų santykių teorijos susiformavimo prielaid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5F4-3FCA-411F-B54A-3E8A49260A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proble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62D-4D82-4878-8BC6-50512F7593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Elton Mayo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8960" y="1904760"/>
            <a:ext cx="7931160" cy="41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880 – 1949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Harvard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dybos mokyklos p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ichologijos profesoriu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Žymiausiais žmogiškųjų santykių problemų tyrinėtojas XX amžiuj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927 – 1932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karų elektrotechniko kompanijos Howthorne gamykloje Čikago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tlik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tyrimus, tapusius vadybos mokslo klasik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Objektas – žmonių socialiniai santykiai darb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98B-F815-4752-B7DB-2E12439F5F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3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Pirm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4 – 192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apšvietimo darbo vietoje įtaka darbo našum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vi darbuotojų grupės atskirtos viena nuo kitos ir nuo kitų gamyklos darbuotoj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– kontrolinė grupė – turėjo pakankamų, pastovų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ita- -eksperimentinė grupė – kintamą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biejų grupių darbo našumas padidėjo, net ir stipriai sumažinus apšvietimą eksperimentinei grupe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097-AC0F-4644-B61E-94F69C0ADF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ntroji stadij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1927 – 1929)</a:t>
            </a: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 – Rėlių surinkimo bandymų kambar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Objektas – fizinių darbo sąlygų įtakos darbo našumui tyrim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Šešios darbininkės atskirtos nuo kitų darbuotoj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Buvo atliekama fizinių darbo sąlygų kaita: įvestos poilsio pertraukėlės ir keičiama jų trukmė, pietų pertraukos laikas ir trukmės keičiami ir p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Darbo našumas auga, nepaisant darbo sąlygos gerėjo ar blogėj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Išvada – Howthorne efektas – darbininkės reagavo ne tiek į pokyčius, kiek į joms rodomą dėmesį – objektas peraugo į požiūrių ir vertybių tyrim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563-5DF4-43B6-A766-FFEAD405E8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Treči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8 – 1930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uotojų požiūrių į darbo sąlygas, jų priežiūrą ir jų darbą tyrim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pklaust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000 darbuotoj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asėkoje - pagerintos darbo sąlygos, patobulinti darbo priežiūros metoda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apo aišku, kad darbuotojų santykiai bei vadovų santykis su darbuotojai yra labai svarbus veiksnys, formuojant darbuotojų požiūr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1C0-323F-467A-A1DC-29664F5430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Ketvirt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32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elektros instaliacijos 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gamybos priežiūros kambar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ininkų darbo našumo tyrimas įprastomis sąlygomis, tačiau izoliuotai nuo kit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vyrų buvo perkelti dirbti į atskirą patalp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o sąlygos buvo daugiau mažiau tos pači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yrimas truko šešis mėnes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uotojai gana greitai nustatė savo bendravimo taisykles, požiūrius bei suformavo neformalią grupę, kuri siekė apsisaugoti nuo išorinės įtakos, tuo pačiu kontroliuodama vidaus tvark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1AD-6858-4785-83BC-B02EB8D3F9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ffffff"/>
                </a:solidFill>
                <a:latin typeface="Garamond"/>
              </a:rPr>
              <a:t>Baigiamoji stadija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(1936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rim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zultat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yrimas ir i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dos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profesinio orientavimo porei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nalizuotas darbininko – meistro, ir darbininko – vadovo santy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meistro vaidmuo, analizuojant darbininkų darbo problemas ir ieškant būdų jas sprę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7D2-C1F7-4F81-AAF5-4051627F56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29Z</dcterms:modified>
  <cp:revision>44</cp:revision>
  <dc:subject/>
  <dc:title>Introduction to Management</dc:title>
</cp:coreProperties>
</file>