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B6F-3E06-4B22-BB3B-6727EA0D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2F7-0DB3-4B22-BEE4-58FDC8E9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6F8-B3B8-4B42-8FB9-5316EFCC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57EF-B910-48B8-9C14-216FA865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FA2B-6B30-4B8B-9779-88D351D6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7B77-CB41-4D8E-854D-567B8FF3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7E63-2520-4490-946A-232E773B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3795-D3A9-4AAD-BA58-97EFE97D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5A68-BF10-4210-BBDD-51410FB9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5D27-E88A-40A4-A3D6-79AC47CF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4B48-32EA-4FAA-A782-0C8E1BC3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55A-D052-43D3-B176-8C992096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69BB-0998-4F9F-9710-F3EE5B5A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9D65-91D1-4430-9BF8-6A07000D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783B-886F-499E-852C-B655BD0D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ECB4-CF68-4F48-B78B-B6FB6B11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35DD-71F9-4806-B280-5554499C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647-8CA1-4827-87FE-EFD075E6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ECC-9A01-402B-9E7D-78782709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3D1-7D8F-4878-86F4-752DA865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6FD-F7A1-476B-A3DB-33859872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027-CE0B-4C54-915A-3B958144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A96-67A6-4EF4-9615-B7CD9143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D49-C618-4974-9DBF-D253FFB7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5A3B-B5B0-48CC-9E46-3838ED8032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1B0E-5B27-413B-9F3F-9139866690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bbd71"/>
                </a:solidFill>
                <a:latin typeface="Arial"/>
              </a:rPr>
              <a:t>Klasikinės sociopsichologinės teorijos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93F9-AAC1-4E9D-9683-051B256C7E4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Lyderiavimo teorij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avybių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iliaus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tsitiktinumų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rganizacijos vadovų vadovavimo žmonėms gebėjimų ir būdų analizė ir formavi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934-4F94-4113-A51E-7326A6E546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elgsenos teor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formavi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efektyvu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apribojim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ės elgsena ir vaidmu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onkurencija tarp grupi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omandos ir jų formavi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žmonių grupių formavimas ir elgsenos motyvav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13E-8FC0-426D-9303-86F5EE6EBB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isuotinio dalyvavimo valdyme (partisipatyvinė) teor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C. Ker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W. Geller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. Pe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. Pars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darbuotojų dalyvavimas užduočių formavime ir sprendimų priėm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BFF-9933-491C-BE32-9E7B9138F1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Sociopsichologinių teorijų nuopeln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šryškintas žmogaus vaidmuo organizacijoj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arengti darbuotojų tarpusavio santykių pagrindai, išryškinant vadovų ir pavaldinių santyki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Suformuoti darbuotojų motyvavimo aktyviai veiklai metodai ir principa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radėti spręsti organizacijos ir visuomenės santykių klausima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Apjungtos klasikinių teorijų nuostatos su socialiniais ir psichologiniais principa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šryškinta vadovų asmeninė įtaka organizacijos veiklai ir santykiams su darbuotoja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250-6C44-4B17-A90E-87D44DDF03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Sociopsichologinių teorijų ribotum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er didelis akcentas darbuotojų tarpusavio santykiams, psichologiniams veiklos motyvams iškreipia kompleksinį vadybos objekt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Žmonių motyvuotos elgsenos ir pasitenkinimo siekis nukreiptas savotiškos laimės kūrimui yra nenatūraliai pabrėžtas. Organizacijos funkcija – nėra kurti laimę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Organizacijos funkcija – sudaryti sąlygas žmogui siekti savo laimė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2C0-F392-4ECB-9BEA-60A44D4794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opsichologini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ų teorijų susiformavimo prielaid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ED0-B5AB-45A9-ACE9-6146DA1E1A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bbd71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rganizacijų vadovų didelis dėmesys darbo organizavimui ir produktyvumo didinimui, tačiau mažas darbuotojų darbo sąlygų gerinim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rbuotojų nepasitenkinimas darbo sąlygomis ir motyvacine sistema organizacij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107-E7BA-4C30-963A-A5AB0D163E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bbd71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eitėsi žmonių darbo ir vadovamo jiems princip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parti ekonominė plėtra ir žmonių koncentravimasis miestuose (ypač JAV) lėmė poreikio pramogoms ir laisvalaikiui augim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Gamybos kompanijos išgyveno krizę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m. Akcij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ir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gimas)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 ir klasikinių metodų ribotum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79F-84E5-4328-AEDF-AD31129FA2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Sociopsichologinių teorijų esmė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8960" y="1908000"/>
            <a:ext cx="7931160" cy="42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Žmonių elgesio organizacijose tyrimas ir formavim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Žmogiškojo faktoriaus svarbos išryškinim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žmonių motyvavimas, grupių santykiai ir lyderiavima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33E-4561-4FD0-9A93-B832983A0D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Sociopsichologinės teorijo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mogiškųjų santykių teo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Lyderiavimo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Grupių elgsenos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isuotinio dalyvavimo valdyme (partisipatyvinė) teo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B26-9FCC-48D8-AFED-87823B7EDF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Žmogiškųjų santykių teor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Elton May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Mary Parker Fol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monių tarpusavio santykiai, psichologinių ir socialinių veiksnių įtaka organizacijos veiklos efektyvum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169-7C64-4D0D-B054-84FC4E539A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0840" indent="-4208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 (ankstyvesnė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braham Mas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ouglas McGregor (X ir Y teorij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Chris Argy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F. Herzberg (Motyvavimo – higienos teor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Rensis Lik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743-26BA-480F-9CC9-F65C5B6EB7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 (vėlyvesnė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. H. Vroom (Vilči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Robbins (Turto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Lock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Lathman (Tiksl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elley (Požymi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B. F. Skinner (Gebėjimų stiprinimo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darbuotojų veiklos aktyvinimo motyvų analizė ir skatin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CDC-33B9-44A7-98C1-177F26BA2E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14Z</dcterms:modified>
  <cp:revision>41</cp:revision>
  <dc:subject/>
  <dc:title>Introduction to Management</dc:title>
</cp:coreProperties>
</file>