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7C03-86B2-4E92-8AD4-4E7386AB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3713-3773-4C6E-9E5D-75032753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D78A-A163-4F2D-AE47-731F8F0F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F627-1532-45F5-98E8-6CCA8EFD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DE4B-660A-4373-9CE4-A5AD3946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1624-10F9-484B-A549-0D853B76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0A3B-EDF6-4E6B-9DF0-7C50A07B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CB00-C999-4BFF-A472-A94C2DD5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3BAF-5262-4B9C-94C6-2A3CC771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653C-6E49-4CFA-8A43-9607A7CD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7E7F-DFF6-4886-A92C-1EDEADF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91DC-4D98-4AE4-8654-9A74EFB4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2333-FCA1-4825-A39C-F1670C19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DD7D-6737-4573-8535-6AB3B984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F699-43C7-4A2C-A9C9-5838F46C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AEC6-5CCD-450B-AA06-CFDA3E81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64AB-AEBA-4AEF-95C3-EEE33AA3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B77F-1C2F-4EAC-998C-5782E284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6E24-2541-4234-838E-7989FD8D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B7F9-A184-4622-B8A7-648EDF1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BC90-F555-48D4-8738-6DA12CD1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1749-FB4A-4330-9ED4-DC7C5A8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175F-AFC9-4C29-8FC3-4B67C354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6EE7-A20C-4172-8A7D-F3A00C59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E353-2ADB-4739-8C31-98C859A1F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B0EE-C9D7-4D6F-B258-4C01C21A14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Klasikinės organizacijos teorijos mokykla: H. Fayol vadybos principai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7716-C596-4020-B96F-E5D0B2267B3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Valdymas – bendrųjų valdymo funkcijų cikl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m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Organ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er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6626-CB79-452F-B988-372503F0F5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Fayol principų vertin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Fayol išryškino organizacijos formaliosios, centralizuotos ir biurokratinės struktūros požym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škelta darbuotojų ir įmonės interesų derinimo bei valstybės vaidmens svar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griovė mechanistinės organizacijos suvokimą – žmogus tampa svarbia organizacijos dalimi su savo poreikiais ir būtinybe gerai jaustis organizac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asis suformulavo originalius, nuosekliai išdėstytus organizacijos valdymo principus, kurių dauguma tinka ir šiuolaikinėms organiz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3BDD-E6AE-4860-944A-62B6CE7B8A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Chester Bern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86-19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mpanijos Bell prezid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ų objektas – organizacijos ir individualių tikslų suderinamum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Organizacijos priklausomybės nuo asmeninių ir neformalių grupių sieki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D199-C376-4A0C-9781-A9158A7E87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Abejingumo zo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ldžios deleg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uo daugiau veiklų pakliūva į abejingumo zoną, tuo tolygesnė ir vieningesnė organiz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užduotis – ugdyti darbuotojų moralinius tiks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uotojas – pagrindinis organizacijos strateginis veiksn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ja – kooperatyvi grupėmis dirbančių individų fo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3BB8-E211-4C8D-8556-3673B5EDB2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. Gu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POSDCORB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as (plan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vimas (organiz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ersonalo formavimas (staff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as (direc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ordinavimas (coord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kaitomybė (Repor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Biudžeto sudarymas (budge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643A-694B-4BB5-B42D-479C60E342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yndall F. Urw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he Elemts of Administrat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947m.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oliduoti valdymo principa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ks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rdin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d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tsakomyb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areigybės apibrėžt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elegav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alan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ęstin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E72F-1732-4B48-A37A-92DDAEE778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E.F.L.Br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as – socialinis proces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monės operacijoms reguliu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nė struktūra – esminis formalusis veiksn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o, priežiūros ir specialistų personalo atsakomybės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delegavimo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paskirstymo koordin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kštos moralės palaik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D06A-3D43-40CB-A774-7E60428DD3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L. Gulick, L.F. Urwick, E.F.L.Brech nuopeln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– formaliosios organizacijos dalies svarbos akcent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ir kontrolės paskirstymo tarp pavaldinių principo sureikšm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reigų, teisių ir atsakomybės delegavimo kategorijų suformul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formavimo principų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0277-79A5-4A1A-A17D-CE309E087A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ibūdinti klasikinės organizacijos (administravimo) teorijos atsiradimo priela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istatyti Henri Fay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jo nuopelnus vadybos mokslu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kitu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klasikinės organizacijos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B456-EADC-4369-A105-E483B37155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BDDE-0DEE-4762-ACFB-FB99EF8D06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88BA-FEA1-4185-8297-5B1F3E1846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41 - 19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n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ūzų inžinierius – kompanijos vadova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m. patir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Administration industrelle et generale”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16m. (General and Industrial Management 1949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organizacijos valdymo princip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BDD9-9F59-4F24-BAEF-93FD260A24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arbo pasidalij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Valdž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rausm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ų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rypties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Individualių tikslų pajungimas bendrai gerov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lyg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ECB4-1828-4B6E-9BC3-B15013FAE2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Centralizac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erarch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 Tvar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 Teising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 Personalo stabil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iciatyva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 Esprit de Corps (kolektyvo dvasia)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EB66-2B53-4CF1-A48F-63D99C79AD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yol nuopeln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skyrė kategorijas “valdymo veiklos - sritys” ir “valdymo (administravimo) funkcijo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yrinėjo organizaciją kaip visum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vadovų kvalifikacijos svarbą ir paneigė teiginį, kad vadovais gimstama, o ne tamp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organizacijos struktūravimo svarb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8BE1-DA50-461C-BB0E-D09783B3F1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Įmonės valdymo srity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echninė ir technolo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erc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Finans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psau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Buhalter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aldymas - administr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5701-019C-4D73-85F9-1F1222A8C6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42Z</dcterms:modified>
  <cp:revision>30</cp:revision>
  <dc:subject/>
  <dc:title>Introduction to Management</dc:title>
</cp:coreProperties>
</file>