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DF2F-7388-434C-A35D-43490F8E7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A35-C3F5-47BD-B2C5-FFC1B668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B30-37C6-41DD-855E-E38AFF6D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07BA-5EAE-4BFC-BC47-F212C3C0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0307-6F7A-4B8D-907D-515DDC00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DAAD-6C6E-4D7E-B654-C35E7F47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CA39-F968-45A9-B0A9-3E44002D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574F-7DE0-4859-BE1A-88086E73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80E1-7254-4EC2-BE6C-6A12A86B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FA02-EA6D-4352-93A8-97E4D590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B734-AE82-41B7-8A59-C6CF6D19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484C-578E-44CF-AD8A-E4363D19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B10-A8B4-4A22-A0CA-8F42A9E2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DF78-306E-4188-8DAF-5D63F588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4225-7449-4B1E-967A-65DDD6AA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7AE6-4D23-4CDE-B26D-440836F4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82A9-09E3-44D2-BCAD-EFF8CCE6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B9DF-8824-4CDF-8610-B2321715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99F08-8D4C-42DD-9E09-4F9C6539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78730-18A3-4A41-A68E-D7C21CF7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6AC95-E0A3-4D44-A377-25F7F8A2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C0EFA-200E-43FF-9497-9F75602E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19718-F19D-4BFA-A865-F1F5B657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D41-8B22-46F1-86A3-A0E66C41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7E975-21E7-410A-AF4C-A59BD45A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8F41D-F077-4A4B-B034-D9D9BC24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6BA7B-92DC-4EE8-80BC-9777AE4D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6DFC5-7647-4E18-8890-19C1716E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8B5DE-0240-458A-9F96-EE7609FE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FFABC-7B04-44A9-AEF7-6209F2C0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52206-86F2-4E53-B585-EE54A9F8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EF537-962B-4E70-8A57-42FADA55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D9FFF-59F6-48FF-BBE6-F4372493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56131-9E2D-4FB6-A50B-6BC2E959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98E-BEBC-4DD0-9677-9079B5BC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45F20-2E4A-4362-A1D4-63DCB23B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AD980-E882-4FA5-B04A-C97D4B15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AFEA4-FC36-476C-8253-77B7A05C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68BCC-5376-430F-8BBD-FB17CF76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36ADD-B2A0-4690-9069-61757607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B89DD-3957-465F-B32B-1D3FEDDD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205C6-E2A1-4AA3-A1D3-A80980A3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A029B-F211-4919-96E3-12345CCE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C6BB9-0277-4A23-B8FC-41B68365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304F-E7CB-4B52-A9F3-1F7E5B76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4AB-9D1E-44FF-8A2B-6C7F45FB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CAB1-96F9-4D83-851B-D7F3DF75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5F2-1368-4D33-95B6-0F7C52E8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87AE-4A24-40F4-8D25-28A17975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CFD0-83C3-4AFB-ACD7-97671C29B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62D6-845C-489A-AA39-99BB9BAAF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58CE-89E8-4697-AB13-4DE743F1737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997F-913B-4D9E-AA2F-F1035B9B53E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okslinio valdymo teorijos raida ir reikšmė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D711-D08E-4052-B160-29BE5CB646E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atavimo technik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Therblig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Judesių analizės standartizavimas: simbolis, operacija, spal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peracijos: tyrimas, suradimas, suvokimas, apibūdinimas, inspekt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idutiniška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žingsnių, lydimų simbolių ir spalvų, operacij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684-12C9-4D67-B78C-98C71916F07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atavimo technik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roceso dia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tandartizuota proceso operacijų fiksavimo metod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rocesų analizės simbolių sistema: Gamyba, Transportavimas, Inspektavimas, Prastovos ir Sandėliav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2303-876D-4E34-AC3B-24BC0C59DA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Henry L. Gant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1861-1919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Taylor bendražyg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Pramonės įmonių konsultan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Tyrimo objektas – darbininkų skatinimo sist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Naujovė – užduoties – premijos atlygio sist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D96-39DB-4895-903A-B1A0F38442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Užduoties – premijos atlygio sistem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irminė motyvacija – darbininko skatinimas, įvykdžius užduot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ieniem įvykdžius, stengiasi ir ki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ntrinė motyvacija – dvigubas brigadininko skatinimas, įvykdžius užduotį kiekvienam ir visiems darbinink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ininkų darbo našumas priklauso nuo vadovų veik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8582-3945-44DA-8C5B-DDE232E3D29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Veiklos optimizavimas, skatina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7920" cy="40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05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Skirtingai nei pirmtakai, sureikšmino darbininkų iniciatyvą ir atsakomybę, atlyginant už tai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Išryškino vadovų vaidmenį darbininkų veiklos efektyvumui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Darbininkų veiklos rezultatų viešinimas – svarbi motyvacinė priemonė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4985-3CD2-4982-877E-36D9B3CD8F4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Ganto diagram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laiko grafinis planav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rezultatų grafinis vaizd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Įrengimų ir medžiagų panaudojimo laike vaizd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amybos rezultatų kontrol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amybos kalendorinio planavimo ištak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8DFC-D7F8-4DE3-87C6-C569C02ED03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7400" y="328680"/>
            <a:ext cx="8685720" cy="5905800"/>
            <a:chOff x="77400" y="328680"/>
            <a:chExt cx="8685720" cy="5905800"/>
          </a:xfrm>
        </p:grpSpPr>
        <p:sp>
          <p:nvSpPr>
            <p:cNvPr id="210" name=""/>
            <p:cNvSpPr/>
            <p:nvPr/>
          </p:nvSpPr>
          <p:spPr>
            <a:xfrm>
              <a:off x="228600" y="1066680"/>
              <a:ext cx="8534520" cy="3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8000" y="1066680"/>
              <a:ext cx="110196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Activ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14080" y="1066680"/>
              <a:ext cx="94500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Mon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080" y="1878120"/>
              <a:ext cx="2824200" cy="34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Edit Manuscri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Design Sample Pag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Draw Art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Print Galley Proof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Print Page Proof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Design Co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812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9568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4360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9152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81280" y="1533600"/>
              <a:ext cx="38124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48720" y="1533600"/>
              <a:ext cx="38088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23760" y="1508040"/>
              <a:ext cx="32328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91200" y="1488960"/>
              <a:ext cx="32328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29200" y="1533600"/>
              <a:ext cx="38088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00800" y="1533600"/>
              <a:ext cx="38088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1922400"/>
              <a:ext cx="137160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90760" y="1508040"/>
              <a:ext cx="32328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48120" y="2000160"/>
              <a:ext cx="129528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9880" y="2544840"/>
              <a:ext cx="20574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09880" y="2584440"/>
              <a:ext cx="194328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9880" y="3168720"/>
              <a:ext cx="152424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09880" y="3206880"/>
              <a:ext cx="14400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95680" y="3713040"/>
              <a:ext cx="281952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95680" y="3751200"/>
              <a:ext cx="266220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3600" y="5035680"/>
              <a:ext cx="20574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3600" y="5075280"/>
              <a:ext cx="194328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91520" y="4413240"/>
              <a:ext cx="13716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81440" y="5557680"/>
              <a:ext cx="18198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Arial"/>
                </a:rPr>
                <a:t>Reporting D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45360" y="5430960"/>
              <a:ext cx="216000" cy="142920"/>
            </a:xfrm>
            <a:prstGeom prst="triangle">
              <a:avLst>
                <a:gd name="adj" fmla="val 49977"/>
              </a:avLst>
            </a:prstGeom>
            <a:solidFill>
              <a:srgbClr val="ffffff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98040" y="5535720"/>
              <a:ext cx="2133720" cy="69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Actual Progre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Go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09680" y="5891040"/>
              <a:ext cx="22860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9680" y="5580000"/>
              <a:ext cx="22860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400" y="328680"/>
              <a:ext cx="5959080" cy="75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66"/>
                  </a:solidFill>
                  <a:latin typeface="Arial"/>
                </a:rPr>
                <a:t>A Sample Gantt Char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09480" y="6248520"/>
            <a:ext cx="1981440" cy="457200"/>
            <a:chOff x="609480" y="6248520"/>
            <a:chExt cx="1981440" cy="457200"/>
          </a:xfrm>
        </p:grpSpPr>
        <p:sp>
          <p:nvSpPr>
            <p:cNvPr id="24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609480" y="6248520"/>
              <a:ext cx="1350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E3AF2-B491-4816-AF00-5F0CCFB7965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Henry Emers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vylika našumo principų “The twelve principles of Efficiency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kslinio valdymo teorijos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nuostatų sistematizavimas ir kompleksiškas pateik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ED0-6FB3-4C26-AFDA-E7471082FC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7e7ff"/>
                </a:solidFill>
                <a:latin typeface="Arial"/>
              </a:rPr>
              <a:t>Dvylika našumo principų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dealiai ir preciziškai suformuluoti tikslai – racionalaus veiklos valdymo pagrin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rganizacinių sprendimų pagrįstumas ir optimalu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ptimalus gerų ir techniškai tobulų įrengimų naudojimas – našumo pagrin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Naujausių pasiekimų ir žinių naudojimas visose organizacijos valdymo srity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Darbo drausm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FF98-E335-4688-932C-01FD24D27B4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7e7ff"/>
                </a:solidFill>
                <a:latin typeface="Arial"/>
              </a:rPr>
              <a:t>Dvylika našumo princip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atlikimo standartiz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norm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Darbininkų kvalifikacinis atitikimas ir teisingas žmonių parink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9. Darbo saugu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Teisingas atlygis už darb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rezultatų apskaita ir įvert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dispečerizavimas – kontrolė ir koordin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F64B-7E9B-4698-BAD2-CFA288D9DD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1720" y="1977840"/>
            <a:ext cx="8080560" cy="43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žvelgti mokslinio valdymo teorijos autor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skirtumus tarp skirtingų autorių teorinių apibendrinim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Nustatyti pagrindines mokslinio valdymo teorijos vystymosi tendencij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mokslinio valdymo teorijos privalumus ir trūku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mokslinio valdymo mokyklos indėlį vadybos moksl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C53-40DD-40F7-B110-DA00ECAE8C4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Henry Ford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irio imigranto sūnu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63 – 194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03m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Įkūrė kompaniją “Ford Motor Compan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08m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Sukonstruotas pirmasis T model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B4FC-F016-422A-9210-B4E40350CDB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7e7ff"/>
                </a:solidFill>
                <a:latin typeface="Arial"/>
              </a:rPr>
              <a:t>Automobilis visie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vajonė – sukurti automobilį prieinamą daugeli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Būdas – didelės gamybos apimtys ir žema ka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Gamybos pajėgų efektyvus panaudoj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mechanizavimas ir skaidymas į atskiras užduo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ininkų specializ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2088-8442-47D3-9FBF-E7CF6442E6C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1896 Sukonstruoja savo pirmąjį automobilį Kvadraciklą ir važinėjasi juo po Detroito gat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1899 Vedantysis inžinierius – konstruktorius ir vienas iš savininkų naujai įkurtoje Detroito automobilių kompanijoje. Kompanija pagamino tik keletą automobili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1901 Bandoma organizuoti Henry Ford Company, bet neišėjus susitarti su galimais investuotojais kompanija neįkuri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4038840" cy="27640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403236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99A-9AE6-48C6-99B3-8A94920B167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1903 Oficialiai įkuriama Ford Motor Company. Pirmasis Fordo modelis A pateikiamas pirkėjams Detro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1908 Fordas pradeda gaminti savo įžymųjį  modelį 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1910 Pradeda veikti Highland Park gamykla Michigano valstij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435640" y="333360"/>
            <a:ext cx="310176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048C-485E-4E95-92F6-C021C7516AD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Gamybos mechanizavima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mybos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rganizavimas linijos – konvejerio princip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irmoji modernaus konvejerio dalis – magneto vijos surinkim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913m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nksčiau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darbininkas gamindav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-40vnt. per darbo dien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Konvejeris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9 operacij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inkimo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laikas sutrumpėjo nu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0 iki 13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vejerio pritaikymas visoms operacij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2AC-4C82-443F-92BB-200183C923A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7e7ff"/>
                </a:solidFill>
                <a:latin typeface="Arial"/>
              </a:rPr>
              <a:t>Modelis 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irmasis modelis p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,5 v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20m. Automobilis kas 1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25m. T modelis kas 5 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3 min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utomobiliui surink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ina 780 USD – 1910-11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50 USD – 1914-15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0 USD – 1918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30 041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už šią kainą parduoti automobil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FC5-AE85-49F3-B09D-E2940A05621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1926 sukuriamas trimotoris lėktuv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1927 Baigiamas gaminti modelis T ir atnaujinus konvejerinę liniją  pradedamas gaminti naujas modelis 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809880" cy="30290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788000" y="3860640"/>
            <a:ext cx="3887640" cy="25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F869-B1C2-4696-9CBC-8BF3AF5971D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5280" y="333360"/>
            <a:ext cx="856944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1932 sukuriamas pirmasis automobilis su V-8 varikli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1933 sėkmingai numalšinamas streikas kurį organizavo visuotinė automobilių gamintojų darbininkų profsąjun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619280" y="2997360"/>
            <a:ext cx="5267160" cy="357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F49-EC02-4170-9912-CA8A629A3735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asinės gamybos stebukla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Masinė gamyba eina masinio vartojimo priekyje ir įgalina, sumažinus kainas, gaminti patogesnius dalykus prieinamesnėmis kainomi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H. For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FD5C-3732-42FC-97D4-FF6E632E326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okslinio valdymo mokyklos nuopelna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Racionalus požiūris į darbo organizavimą, tiksliai įvertinant užduotis ir proces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užduočių matavimo informacija įgalino tobulinti darbo metodus, veiklos planavim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metodų tobulinimas leido didinti darbo našumą ir produktyvum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apmokėjimas susietas su darbo rezultata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42E-FEEC-489F-A8EA-9DFF2F09C15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b7e7ff"/>
                </a:solidFill>
                <a:latin typeface="Arial"/>
              </a:rPr>
              <a:t>Mokslinio valdymo mokykla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7840" y="1774440"/>
            <a:ext cx="8227800" cy="431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usiformavo JA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iciatoriai – mokslininkai ir organizacijų vadov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bjektas – darbo organizavimas ir darbininkų veiklos produktyvumo did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331-2D5F-49F5-BB72-9F10E0867E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okslinio valdymo mokyklos nuopelna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dovų (žem. Lygmens) sureikšminimas ir motyvav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Motyvavimas taip pat buvo nukreiptas į fizinių darbo sąlygų pagerinimą darbininka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adėjo pamatus moderniems darbo proceso analizės metodams ir kiekybinėms valdymo technik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2FD-ABED-423F-B73E-E751AFEE50D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okslinio valdymo mokyklos trūkuma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arbininko vaidmens sumažinimas iki primityvaus, rutininio simplifikuotų operacijų atlik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Sąlygojo darbo fragmentaciją ir pilno proceso suvokimo praradim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arbininkų motyvacija tapo siaurai piniginė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arbo proceso ir vietos planavimas tapo išimtinai vadovų užduotim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rarastas darbo užmokesčio realus vertinimas, nes tapo “moksliškai” apskaičiuotas, priklausomai nuo įkainių ir laik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96FE-B566-4704-8A74-5B480B50035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b7e7ff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amybos įmonių aug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organizavimo efektyvumo proble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šumo ir produktyvumo proble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valifikuotos darbo jėgos trūk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ininkų motyvavimo klausim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organizavimo mokslinių metodų nebu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035-C4A3-4512-B7FF-07CF1010E7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okslinio valdymo mokyklos atstova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6400" y="1844280"/>
            <a:ext cx="8229600" cy="400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ederick W. Tay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an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Lillian Gilbre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Gan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Em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03A4-5904-4C4B-B0DB-AC862DC518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Frank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&amp; </a:t>
            </a: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Lillian Gilbreth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ank B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841-192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organizavimo tyrinėtoj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llian M. (1878-197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dymo ir psichologijos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pecialist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Tyrimo objektas – darbininkų nuovargis ir judesi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Žmonių darbo sąlygų gerinimas ir judesių optimiz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5678-5388-40EF-9391-FB93E65177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Judesių optimizavim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Mūrininko darbo efektyvini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Judesių sumažinimas nu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 iki 4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ienai plytai padė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efektyvumo padidinimas nu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0 iki 2700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lytų per darbo dien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ininko darbo tempas išliko toks p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1CC4-F90F-4ADD-A2D8-085053B8F5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Principas: One best wa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Kuo mažiau judesių tuo mažiau pavargstama – tuo daugiau padaro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Judesių tyrimas ir laiko matavi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Geriausių atlikimo būdų nustaty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F89B-0031-4DAC-8AAA-7CCFFF444F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Planavimas / Vykdym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Taisyklių ir procedūrų nustatymas veiklos atlikimo efektyviausiu bū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šumo didin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užmokesčio aug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lanavimo ir vykdymo veiklų atskyr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409-7064-4E22-A295-321BF1AB8B6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17Z</dcterms:modified>
  <cp:revision>26</cp:revision>
  <dc:subject/>
  <dc:title>Introduction to Management</dc:title>
</cp:coreProperties>
</file>