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8A1D-56BC-406E-BE99-E370D9ED2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07CA-E037-42E2-A2DF-955ADEDE0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4A66-0936-4EED-93D7-006FF907C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68CA-A260-42BF-9336-284E8BEFC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8048E-2097-4205-BA20-292EC4E44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249FB-761B-4684-A68F-2AC60551B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0FF64-33CD-4E16-B43A-1DB5898EB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E8BB8-EF46-4754-A97A-A9A72B1F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E7E95-3C0A-44D4-87AB-70D07EA52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4A3E6-D522-4D8D-9EB8-CCFA25B98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630E3-5ED2-4397-A5B8-1B8536BD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8E4C-C721-4E3E-834A-DE7FF97CB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92B5D-EB63-4178-B121-96C38E8D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4B25A-C97C-4D94-AB37-7DBC879D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21115-2BDE-4E57-A2DD-3C3ECD30E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2D062-4FAF-48EA-A590-C57583A26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0D151-DC81-4749-B320-C532BCE58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7961-B617-4579-8279-8E0F0DB6C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3D2D-D4B8-488D-820C-5D59097E1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8CB2-5B86-4C60-B70C-D8EB0A444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D514-B5EA-469B-A355-C61B3192E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9C01-07BB-4EED-9653-C2F7EA3C4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7CF9-7F23-485B-B8D7-F6787D73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AFFA-2C6D-4B17-8367-358210AB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64A79-563C-4DE2-A32F-61C63AA1D6C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819CB-584F-4D4F-8FA7-F9B0BBC31CC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6560" y="2349000"/>
            <a:ext cx="6409080" cy="29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5400" spc="-1" strike="noStrike">
                <a:solidFill>
                  <a:srgbClr val="b9efee"/>
                </a:solidFill>
                <a:latin typeface="Garamond"/>
              </a:rPr>
              <a:t>Mokslinio valdymo mokykla: F. Taylor vadybos principai 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74101-7B83-48D3-AF32-563C5BC38D66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98440"/>
            <a:ext cx="8078760" cy="10238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b9efee"/>
                </a:solidFill>
                <a:latin typeface="Garamond"/>
              </a:rPr>
              <a:t>Funkcinio valdymo ištakos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4000" y="1412640"/>
            <a:ext cx="793116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Garamond"/>
              </a:rPr>
              <a:t>Vadybinio darbo pasidaliji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Garamond"/>
              </a:rPr>
              <a:t>Vienas tiesioginis vadov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Garamond"/>
              </a:rPr>
              <a:t>Aštuoni funkciniai vadovai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00ff99"/>
              </a:buClr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1" lang="lt-LT" sz="3200" spc="-1" strike="noStrike">
                <a:solidFill>
                  <a:srgbClr val="ffffff"/>
                </a:solidFill>
                <a:latin typeface="Garamond"/>
              </a:rPr>
              <a:t> administracijos (operacijų maršrutizavimo, planavimo, apskaitos – ekonomikos, normuotojas, gamybinės drausmės prižiūrėtoja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00ff99"/>
              </a:buClr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1" lang="lt-LT" sz="3200" spc="-1" strike="noStrike">
                <a:solidFill>
                  <a:srgbClr val="ffffff"/>
                </a:solidFill>
                <a:latin typeface="Garamond"/>
              </a:rPr>
              <a:t> gamybos cecho (brigadininkas, darbų tempo, įrengimų remonto, inspektoriu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976A-27C8-443C-8C24-9477BD53FFE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b9efee"/>
                </a:solidFill>
                <a:latin typeface="Garamond"/>
              </a:rPr>
              <a:t>Mokslinio valdymo mokyklos nuopelnai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Garamond"/>
              </a:rPr>
              <a:t>Moksliniai darbo užduočių atlikimo metodai -konvejerinės gamybos linijos pirmtaka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Garamond"/>
              </a:rPr>
              <a:t>Diferencinė darbo užmokesčio sistema – darbininkų motyvavimo metodai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A429-E2F4-47BD-BCA1-13BACADE875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98080"/>
            <a:ext cx="8078760" cy="10810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b9efee"/>
                </a:solidFill>
                <a:latin typeface="Garamond"/>
              </a:rPr>
              <a:t>Darbo užduočių suskaidymas į operacijas – linijos prielaid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927920" cy="406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lnSpc>
                <a:spcPct val="105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Garamond"/>
              </a:rPr>
              <a:t>Darbininkų judesių analizė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105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Garamond"/>
              </a:rPr>
              <a:t>Užduočių atlikimo laiko matavimas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105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Garamond"/>
              </a:rPr>
              <a:t>Greičiausių ir geriausių darbo operacijų atlikimo metodų projektavim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105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Garamond"/>
              </a:rPr>
              <a:t>Optimalus turimų įrengimų ir medžiagų panaudojim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105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Garamond"/>
              </a:rPr>
              <a:t>Planavimo reikšmės išryškinim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6F7B-6C17-4347-9F20-3DAC8AAA997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b9efee"/>
                </a:solidFill>
                <a:latin typeface="Garamond"/>
              </a:rPr>
              <a:t>Diferencinė darbo užmokesčio sistema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78960" y="1909800"/>
            <a:ext cx="7931160" cy="418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Daugiau mokėti geriau dirbantie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Taikyti “moksliškai pakoreguotą” darbo užmokesčio būd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Sistemos nauda kompanijai ir darbininka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Bazinis atlyginimas už atliktą darbo norm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Papildomas užmokestis – priedai efektyviau dirbantiems už viršytas nor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6A25-4620-499B-8767-0EECFEA4DD8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98440"/>
            <a:ext cx="8078760" cy="10238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b9efee"/>
                </a:solidFill>
                <a:latin typeface="Garamond"/>
              </a:rPr>
              <a:t>Ribotumai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8960" y="1909800"/>
            <a:ext cx="7931160" cy="418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Garamond"/>
              </a:rPr>
              <a:t>Darbininkų baimė būti dar labiau išnaudojamiems – dirbti sunkiau ir greičia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Garamond"/>
              </a:rPr>
              <a:t>Per didelis dėmesys darbo atlikimo laiko mažinimui ir pelningumo didinimu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Garamond"/>
              </a:rPr>
              <a:t>Tyrimo objektas – gamybinė veikla ir gamybos rezultat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C201-D0F3-4D1F-BC56-14AB9649AD0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98440"/>
            <a:ext cx="8078760" cy="10238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b9efee"/>
                </a:solidFill>
                <a:latin typeface="Garamond"/>
              </a:rPr>
              <a:t>Ribotumai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78960" y="1909800"/>
            <a:ext cx="7931160" cy="418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Garamond"/>
              </a:rPr>
              <a:t>Organizacija analizuojama kaip inžinerinis objektas – autonominių darinių junginy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Garamond"/>
              </a:rPr>
              <a:t>Žmogus tik vykdytojas, privalantis tiksliai ir laiku atlikti darbo užduot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Garamond"/>
              </a:rPr>
              <a:t>Vadovo darbas nukreiptas tik darbininkų darbo organizavimui, kitos vadovo veiklos neanalizuojam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60D7-A5F7-4A26-8EBC-A51D9375A93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b9efee"/>
                </a:solidFill>
                <a:latin typeface="Garamond"/>
              </a:rPr>
              <a:t>Paskaitos tikslai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1720" y="1977840"/>
            <a:ext cx="8080560" cy="408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Apibūdinti mokslinio valdymo teorijos atsiradimo prielaid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Pristatyti pagrindinį jos atstovą – F. Tayl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Apžvelgti F. Taylor vadybos principu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Įvertinti F. Taylor nuopelnus vadybos mokslu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5C65-4BF9-40EA-8E07-9C90B165E1B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800" spc="-1" strike="noStrike">
                <a:solidFill>
                  <a:srgbClr val="b9efee"/>
                </a:solidFill>
                <a:latin typeface="Garamond"/>
              </a:rPr>
              <a:t>Mokslinio valdymo mokykla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99920"/>
            <a:ext cx="7927920" cy="438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Susiformavo JA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Iniciatoriai – mokslininkai ir organizacijų vadovai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Objektas – darbo organizavimas ir darbininkų veiklos produktyvumo didini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5A22-752C-4A04-9608-1ABCAC3F3CF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b9efee"/>
                </a:solidFill>
                <a:latin typeface="Brush Script MT"/>
              </a:rPr>
              <a:t>Prielaidos</a:t>
            </a:r>
            <a:r>
              <a:rPr b="1" lang="en-US" sz="4400" spc="-1" strike="noStrike">
                <a:solidFill>
                  <a:srgbClr val="b9efee"/>
                </a:solidFill>
                <a:latin typeface="Brush Script MT"/>
              </a:rPr>
              <a:t> 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Industrinė revoliuci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Gamybos įmonių augi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Darbo organizavimo efektyvumo problem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Našumo ir produktyvumo problem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Kvalifikuotos darbo jėgos trūku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Darbininkų motyvavimo klausimai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Darbo organizavimo mokslinių metodų nebuvi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898C-0A6C-4DDA-B078-0160577AB02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b9efee"/>
                </a:solidFill>
                <a:latin typeface="Brush Script MT"/>
              </a:rPr>
              <a:t>FREDERICK W. TAYLOR</a:t>
            </a:r>
            <a:r>
              <a:rPr b="1" lang="en-US" sz="4400" spc="-1" strike="noStrike">
                <a:solidFill>
                  <a:srgbClr val="b9efee"/>
                </a:solidFill>
                <a:latin typeface="Brush Script MT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Garamond"/>
              </a:rPr>
              <a:t>Amerikiečių mokslinink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1856 - 1915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Garamond"/>
              </a:rPr>
              <a:t>Pirmas bandymas kompleksiškai nagrinėti organizavimo klausimu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Garamond"/>
              </a:rPr>
              <a:t>Terminas “Fabriko vadyba” – “Shop management”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lt-LT" sz="3600" spc="-1" strike="noStrike">
                <a:solidFill>
                  <a:srgbClr val="ffffff"/>
                </a:solidFill>
                <a:latin typeface="Garamond"/>
              </a:rPr>
              <a:t>Mokslinės vadybos principai” (The Principles of Scientific Management”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B028-517C-40EB-B075-753F37634E6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98080"/>
            <a:ext cx="8078760" cy="10810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b9efee"/>
                </a:solidFill>
                <a:latin typeface="Garamond"/>
              </a:rPr>
              <a:t>Mokslinio valdymo principai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93116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lnSpc>
                <a:spcPct val="140000"/>
              </a:lnSpc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0" lang="lt-LT" sz="4000" spc="-1" strike="noStrike">
                <a:solidFill>
                  <a:srgbClr val="ffffff"/>
                </a:solidFill>
                <a:latin typeface="Garamond"/>
              </a:rPr>
              <a:t>Tikro vadybos mokslo sukūrima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Optimalių darbo metodų sukūri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Darbo suskaidymas į užduot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Darbo užduočių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tlikimo b</a:t>
            </a: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ū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ų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nustaty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Matematinių skaičiavimų naudoji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Darbo našumo didini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C17F-D282-414C-93A0-3F52A0FA7AE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98080"/>
            <a:ext cx="8078760" cy="10810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b9efee"/>
                </a:solidFill>
                <a:latin typeface="Garamond"/>
              </a:rPr>
              <a:t>Mokslinio valdymo principai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93116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140000"/>
              </a:lnSpc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0" lang="lt-LT" sz="4000" spc="-1" strike="noStrike">
                <a:solidFill>
                  <a:srgbClr val="ffffff"/>
                </a:solidFill>
                <a:latin typeface="Garamond"/>
              </a:rPr>
              <a:t>Darbininkų parinkimas moksliniais pagrindai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Darbuotojų specializaci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Darbininkų atitikimo darbo vietai analizė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Darbo vietų racionalizavi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63FD-845A-43A7-A218-EFDC2F42ACB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98080"/>
            <a:ext cx="8078760" cy="10810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b9efee"/>
                </a:solidFill>
                <a:latin typeface="Garamond"/>
              </a:rPr>
              <a:t>Mokslinio valdymo principai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93116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40000"/>
              </a:lnSpc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0" lang="lt-LT" sz="4000" spc="-1" strike="noStrike">
                <a:solidFill>
                  <a:srgbClr val="ffffff"/>
                </a:solidFill>
                <a:latin typeface="Garamond"/>
              </a:rPr>
              <a:t>Mokslinis darbininkų lavinimas ir tobulinima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Darbininkų mokymas darbo vietoj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Darbininko judesių optimizavi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Teisingas apmokėjimas už darb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Darbo normavi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B410-08D5-4272-9CD0-EAAF6278939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98080"/>
            <a:ext cx="8078760" cy="10810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b9efee"/>
                </a:solidFill>
                <a:latin typeface="Garamond"/>
              </a:rPr>
              <a:t>Mokslinio valdymo principai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93116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lnSpc>
                <a:spcPct val="140000"/>
              </a:lnSpc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0" lang="lt-LT" sz="4000" spc="-1" strike="noStrike">
                <a:solidFill>
                  <a:srgbClr val="ffffff"/>
                </a:solidFill>
                <a:latin typeface="Garamond"/>
              </a:rPr>
              <a:t>Glaudūs ir draugiški ryšiai tarp administracijos ir darbininkų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Visiška minties revoliucija” – bendras darbo našumo sieki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Motyvacinė darbo apmokėjimo sistema – už viršytas normas mokėti pried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7437-0C3B-43FF-8C24-B90638DFF1C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3-08T13:42:56Z</dcterms:modified>
  <cp:revision>24</cp:revision>
  <dc:subject/>
  <dc:title>Introduction to Management</dc:title>
</cp:coreProperties>
</file>