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AC72-04E0-4DBA-86CA-3B557139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3343-68BB-4AEE-AA7D-9728C712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B07B-2851-4302-9064-E8FBA1E6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2C52-A45F-4090-B13A-C1C153C5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9A47-FB56-483F-844B-DDC4D8DC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E672-0928-4A8B-AB95-1B7AF21F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CB6D-CFE4-4BA6-90D7-C38AA9F0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AFCA-1D43-43BB-9B9D-89C61BFD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EB34-9B18-4565-92E3-136F9C7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62AF-AEFE-4843-B860-84ACD726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4A28-59AE-4468-AC55-34DA3B9B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5D78-4EFB-40A4-9EF3-3B2E3550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5B87-8B9B-4E8A-A8A9-F1A1EAB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B6DC-D9B0-4813-AA41-A25E10F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865D-FA4B-4133-9C65-443853B2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CDD8-79EA-4D67-B5D7-90C820CE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F2D9-2F22-4D4D-9E97-3ED04464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5B4B-9A11-49B9-B73F-B341718A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981C-5F0D-4032-88EE-0DD4D523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5BA2-0960-4CF6-A10F-49C51DBC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35A2-CCBB-4733-8B36-176F303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DB35-88B9-4F70-8A9B-B285BD1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2916-0F0A-48D4-8423-AE47AAF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7E80-2FF3-428A-AD78-51B2CE51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6FDD-76ED-48D5-9C82-D1A923BBC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58D5-59E0-4DD9-A1C3-0198D8E0C9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Klasikinės organizacijų valdymo teorijo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1F54-6152-49CD-8421-619BE04802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dėjos - pagrįstos patirti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atirtis apribota daugiausiai gamybinių organizacijų veik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patikrintos ir nepagrįstos priela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rielaidos pagrįstos vertybiniu vertinimu ir moralinėmis nuostatomis, bet ne moksliniais tyrim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formalių santykių organizacijose ne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Svarbu tik formalūs org. ryšiai, taigi darbuotojų dalyvavimas neanaliz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F216-CB76-437E-876E-1239F3F7E5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enumatytos ir neapibrėžtos pasekmė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s veiklos formalizavimo poveikis darbuotojų veiklos efektyvumui ir racional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Mašinistinė organ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Žmogus tik priedas prie mašinų (įrengim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tatinės sąly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 aplinkos sąlygų ka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EAAE-F59E-4FDB-AE7D-6330436533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Objektyvi klasikinių vadybos teorijų kūrimo aplink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Darbininkai buvo mažai kvalifikuoti, karjeros samprata buvo nesuvoki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Pagrindiniai darbininkų poreikiai koncentravosi fiziologinių lygmeny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Technologijos keitėsi gana sparčiai ir efektyvus jų panaudojimas buvo svarbia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dybos teorinė mintis tik rutuliojosi, taigi autorių požiūris buvo nenuoseklus ir sia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D534-14CA-4A8D-9EA4-6AD0EFCB8C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prival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valdymą pažvelgta, kaip į mokslinių tyrimų objekt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ldymo veikla atskirta nuo darbinės veik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šryškinta valdymo veiklos įtaka organizacijos veiklos rezultatyv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Suformuluoti organizacijos ir darbinės veiklos valdymo princip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organizaciją pažvelgta, kaip sudėtingą, formalizuotą struktūr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9073-C427-432B-BDAF-F25594B69C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ūdinti klasikinių teorijų atsiradimo priela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es vadybos teori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ių teorijų auto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Įvertinti klasikinių vadybos teorijų privalumus ir trūk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BEA3-1FF3-4DEB-A264-66C7FA3098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BF35-4629-4616-93FB-FD36DDBA60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Valdymo metodų poreiki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Būtinybė naujų valdymo metodų,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integruojančių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technologijas, medžiagas ir darbo jėg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oreikis spręsti prekių ir paslaugų gamyb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produktyvumo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proble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iekis didinti organizacinės veikl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efektyvum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259F-5DD2-4865-A3C4-905A9458E6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lasikinių vadybos teorijų vystymo krypt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okslinio valdymo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2262-F874-422D-9433-821852D27B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01360"/>
            <a:ext cx="7929720" cy="442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C858-B271-4649-997A-5B3D66D141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31D8-C2C7-42AD-AA11-695E3953A7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E806-D0D7-4200-B94F-9AB40715A5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o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hester Bern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Gulic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Ur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dealaus biurokratinio valdy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26FD-84FF-4B84-BBAE-5BA621B19E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7:27Z</dcterms:modified>
  <cp:revision>22</cp:revision>
  <dc:subject/>
  <dc:title>Introduction to Management</dc:title>
</cp:coreProperties>
</file>