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WHOOSH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C4C7-9AB6-4DA2-A989-9036B6A8E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BAAF-F753-434E-85A0-01B1DABC0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225A-4239-451B-A547-9E17D61AE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63C9-FDCB-44AB-BC24-900F4B95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9285-39B9-442C-B95C-1DBD188DA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FBBA-E89E-44A1-9C86-2B5CAE530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5D07-12F5-4339-9D50-03262CA17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4ECA-47D4-4181-A627-52F73786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AB84-C199-43C6-9B08-3E74EDAF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2148-E110-4C29-908D-B656C2F3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81E5-232F-4A92-97C1-42294E72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7C5A-2895-46D5-B492-62215821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597A-6A47-4446-8AC0-51F25D0E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52BB-050F-4C3B-8753-2F4C9944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F94F-FE80-4452-97F4-FD221980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F922-7A9E-4225-8090-6C8D9D68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498B-0A99-4032-B5C2-E1F97EB6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8E12-10BE-44C1-B727-9E4A441F3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F1B7-2E72-49A7-AE16-B33BCF165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C255-D60B-4566-AD0C-D65DF483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0319-CA53-4C2B-85ED-C27D3338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3B4D-B87E-43D5-A849-81B2B3AC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48E0-59B1-4504-B2B9-51C453C0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8169-ED67-40E1-BB49-BC0ABB17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DA45-E28E-4A87-9136-3EEA56F7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1A23-B034-4846-A46E-10EB8624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06A2-6F21-4FAA-859C-8A2E0EE8080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E050-73BE-478F-BB2E-4EAE8F6984E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5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26560" y="2349000"/>
            <a:ext cx="6409080" cy="29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400" spc="-1" strike="noStrike">
                <a:solidFill>
                  <a:srgbClr val="ffffcc"/>
                </a:solidFill>
                <a:latin typeface="Tahoma"/>
              </a:rPr>
              <a:t>Vadybos mokslo ištakos: ankstyvieji strategai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5CE6-19D4-42B8-BAEE-F69DDE96DE9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Tahoma"/>
              </a:rPr>
              <a:t>Ma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</a:t>
            </a:r>
            <a:r>
              <a:rPr b="0" lang="lt-LT" sz="4400" spc="-1" strike="noStrike">
                <a:solidFill>
                  <a:srgbClr val="ffffcc"/>
                </a:solidFill>
                <a:latin typeface="Tahoma"/>
              </a:rPr>
              <a:t>iavelis,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531m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33520" y="1909800"/>
            <a:ext cx="8229600" cy="418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Pokalbiai” (Discours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Valstybės (respublikos) valdymo principa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Valstybė stabili, jei jos nariai turi teisę reikšti skirtingas nuomones bei spręsti jos vidaus konflikt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Respublika gyvuos ilgai, jei ja rūpinsis daugelis ir daugelis trokš ją išlaiky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Silpnas vadovas gali sekti stipriu, bet ne kitu silpnu, ir išlaikyti autoritet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Vadovas, siekiantis keisti valstybę, turėtų išlaikyti bent senųjų papročių šešėl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ADB6-82FA-4C1F-AB04-3E5A739D2C3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Tahoma"/>
              </a:rPr>
              <a:t>Industrinė revoliucij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520" y="1909800"/>
            <a:ext cx="8229600" cy="418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Garo variklio sukūr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Naujų gamybos priemonių ir būdų atsirad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Gamybos produktyvumo aug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Gamybos kaštų krit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Masto ekonomijos reikšmė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Organizacijų augimas – monopoliza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Infrastruktūros plėtra – geležinkelių, sausumos ir vandens kelių plėt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Rinkų aug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Organizacijų valdymo proble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C871-1CD3-4AA5-9B45-97C2DB48F1F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Tahoma"/>
              </a:rPr>
              <a:t>Pirmieji industrinės eros vadybos teoretika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1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ffffff"/>
                </a:solidFill>
                <a:latin typeface="Tahoma"/>
              </a:rPr>
              <a:t>Robert Owen (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1771-1858)</a:t>
            </a:r>
            <a:r>
              <a:rPr b="1" lang="lt-LT" sz="2600" spc="-1" strike="noStrike">
                <a:solidFill>
                  <a:srgbClr val="ffffff"/>
                </a:solidFill>
                <a:latin typeface="Tahoma"/>
              </a:rPr>
              <a:t>, škota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Žmogiškųjų išteklių reikšmės išryškin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Motyvavimo premijuojant, bet ne baudžian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Motyvavimo technikų kūr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Siekė “radikalaus” darbo sąlygų pagerinim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ffff"/>
                </a:solidFill>
                <a:latin typeface="Tahoma"/>
              </a:rPr>
              <a:t>minimalaus amžiaus vaikui – darbininkui nustatymo – nuo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1" lang="lt-LT" sz="2000" spc="-1" strike="noStrike">
                <a:solidFill>
                  <a:srgbClr val="ffffff"/>
                </a:solidFill>
                <a:latin typeface="Tahoma"/>
              </a:rPr>
              <a:t> 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ffff"/>
                </a:solidFill>
                <a:latin typeface="Tahoma"/>
              </a:rPr>
              <a:t>maksimalios darbo dienos vaikui nustatymo –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0,5 </a:t>
            </a:r>
            <a:r>
              <a:rPr b="1" lang="lt-LT" sz="2000" spc="-1" strike="noStrike">
                <a:solidFill>
                  <a:srgbClr val="ffffff"/>
                </a:solidFill>
                <a:latin typeface="Tahoma"/>
              </a:rPr>
              <a:t>val. dirbant tik dien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ffff"/>
                </a:solidFill>
                <a:latin typeface="Tahoma"/>
              </a:rPr>
              <a:t>privalomų maitinimosi pertraukų įvedim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Žmogiškųjų išteklių valdymo idėjos tapo pagrindu Bihevioristinės mokyklos teorijų plėtra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D37C-4817-4C28-85B9-6FE6157C68F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4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Tahoma"/>
              </a:rPr>
              <a:t>Pirmieji industrinės eros vadybos teoretika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ffffff"/>
                </a:solidFill>
                <a:latin typeface="Tahoma"/>
              </a:rPr>
              <a:t>Charles Babbage (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1792-1871)</a:t>
            </a:r>
            <a:r>
              <a:rPr b="1" lang="lt-LT" sz="2600" spc="-1" strike="noStrike">
                <a:solidFill>
                  <a:srgbClr val="ffffff"/>
                </a:solidFill>
                <a:latin typeface="Tahoma"/>
              </a:rPr>
              <a:t>, angla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Matematinių valdymo principų kūr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Mašinų ir gamintojų ekonomikoje” (On the Economy of Machinery and Manufactur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Matematikos taikyma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ahoma"/>
              </a:rPr>
              <a:t>medžiagų ir gamybos priemonių neefektyvaus naudojimo problemoms spręsti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ahoma"/>
              </a:rPr>
              <a:t>pelno paskirstymui ir darbuotojų skatinimui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Analitinio variklio” idėjos iškėlimas (šiuolaikinio PC veikimo idėjo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Matematinio valdymo idėjos tapo pagrindu Kiekybinės valdymo teorijos plėtra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4541-B073-4834-94F4-4F713674AC5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4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Tahoma"/>
              </a:rPr>
              <a:t>Pirmųjų vadybos teorinių minčių ribotuma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Owen ir Babbage idėjos buvo per daug “radikalios” savo laikmečiui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Iki pat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9</a:t>
            </a: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a. pab. Įmonių savininkams ir vadovams medžiagų ir žmogiškųjų išteklių valdymo problemos nebuvo aktualios ir suvoktos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Rinkos sparčiai augo, o konkurencija – silpna, kad būtų išryškėjęs efektyvaus ir efektingo valdymo poreikis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Tik išryškėjęs kaštų mažinimo ir veiklos efektyvumo poreikis, paskatino vadybos teoretikų aktyvumą ir klasikinės vadybos teorijų kūrimą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9A21-086C-420A-B061-7DBB940717A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79440" y="1977840"/>
            <a:ext cx="8385120" cy="40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ibrėžti teorijos samprat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tarti ankstyvąsias vadybos mokslo mintis ir teorij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žvelgti ankstyvuosius strategus ir teoretik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B6FE-3989-415D-8D2E-A932ECA3609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Bauhaus 93"/>
              </a:rPr>
              <a:t>Kodėl reikia studijuoti vadybos teorijos istoriją</a:t>
            </a:r>
            <a:r>
              <a:rPr b="0" lang="en-US" sz="4400" spc="-1" strike="noStrike">
                <a:solidFill>
                  <a:srgbClr val="ffffcc"/>
                </a:solidFill>
                <a:latin typeface="Bauhaus 93"/>
              </a:rPr>
              <a:t>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2971800" y="3048120"/>
            <a:ext cx="3025800" cy="325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6BE3-D9F2-40EC-85CA-29A0AD1D7F3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Brush Script MT"/>
              </a:rPr>
              <a:t>Teorija</a:t>
            </a:r>
            <a:r>
              <a:rPr b="0" lang="en-US" sz="4400" spc="-1" strike="noStrike">
                <a:solidFill>
                  <a:srgbClr val="ffffcc"/>
                </a:solidFill>
                <a:latin typeface="Brush Script MT"/>
              </a:rPr>
              <a:t> -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Nuosekliai išdėstytų teiginių visu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Paaiškina ryšius tarp tiriamų fakt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Pateikia pagrindą ateitiems įvykiams prognozuo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Suteikia žinias – “nematomas galias” teorijų panaudojimu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ibrėžia būdus, leidžiančius pažinti ir suprasti pasaul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C699-44A3-40BF-BA0F-395D0DEB14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Brush Script MT"/>
              </a:rPr>
              <a:t>Teorija</a:t>
            </a:r>
            <a:r>
              <a:rPr b="0" lang="en-US" sz="4400" spc="-1" strike="noStrike">
                <a:solidFill>
                  <a:srgbClr val="ffffcc"/>
                </a:solidFill>
                <a:latin typeface="Brush Script MT"/>
              </a:rPr>
              <a:t> -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Tahoma"/>
              </a:rPr>
              <a:t>Suteikia stabilumo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patirties suvokimu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svarbos kriterijų nustatymu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Tahoma"/>
              </a:rPr>
              <a:t>Įgalina veiksmingai bendrauti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ienodai suvokiant sampra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analizuojant reiškinius ir situacij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Tahoma"/>
              </a:rPr>
              <a:t>Motyvuoja nuolat mokytis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siekiant pažinti pasaul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sistemiškai analizuoti skirtingas sfe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CF43-F041-4BBF-AC81-1D846A18742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Tahoma"/>
              </a:rPr>
              <a:t>Ankstyvosios valdymo prielaido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1909800"/>
            <a:ext cx="8229600" cy="418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Pirmosios formaliosios organizacijos – graikų ir romėnų armijos bei Romos katalikų bažnyč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Pirmieji stambūs “projektai” – karai, statybos objektai ir p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Pirmieji autoriai, analizavę galimybes, kaip organizacijas padaryti geriau veikiančia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08D7-DC7C-49F3-BCD2-E8F9ABC12F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6856560" y="1766880"/>
            <a:ext cx="866520" cy="11556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4189320" y="1843200"/>
            <a:ext cx="866880" cy="11556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"/>
          <a:stretch/>
        </p:blipFill>
        <p:spPr>
          <a:xfrm>
            <a:off x="1446120" y="1766880"/>
            <a:ext cx="866880" cy="1155600"/>
          </a:xfrm>
          <a:prstGeom prst="rect">
            <a:avLst/>
          </a:prstGeom>
          <a:ln w="0">
            <a:noFill/>
          </a:ln>
        </p:spPr>
      </p:pic>
      <p:grpSp>
        <p:nvGrpSpPr>
          <p:cNvPr id="406" name=""/>
          <p:cNvGrpSpPr/>
          <p:nvPr/>
        </p:nvGrpSpPr>
        <p:grpSpPr>
          <a:xfrm>
            <a:off x="684360" y="2452680"/>
            <a:ext cx="7800840" cy="3670200"/>
            <a:chOff x="684360" y="2452680"/>
            <a:chExt cx="7800840" cy="3670200"/>
          </a:xfrm>
        </p:grpSpPr>
        <p:grpSp>
          <p:nvGrpSpPr>
            <p:cNvPr id="407" name=""/>
            <p:cNvGrpSpPr/>
            <p:nvPr/>
          </p:nvGrpSpPr>
          <p:grpSpPr>
            <a:xfrm>
              <a:off x="6018120" y="3672000"/>
              <a:ext cx="2467080" cy="2450880"/>
              <a:chOff x="6018120" y="3672000"/>
              <a:chExt cx="2467080" cy="2450880"/>
            </a:xfrm>
          </p:grpSpPr>
          <p:pic>
            <p:nvPicPr>
              <p:cNvPr id="40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018120" y="3672000"/>
                <a:ext cx="2467080" cy="24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9" name=""/>
              <p:cNvSpPr/>
              <p:nvPr/>
            </p:nvSpPr>
            <p:spPr>
              <a:xfrm>
                <a:off x="6111720" y="3780000"/>
                <a:ext cx="2254320" cy="22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Mašinų 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naudojimas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Masinė 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gamyba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3351240" y="3672000"/>
              <a:ext cx="2467080" cy="2450880"/>
              <a:chOff x="3351240" y="3672000"/>
              <a:chExt cx="2467080" cy="2450880"/>
            </a:xfrm>
          </p:grpSpPr>
          <p:pic>
            <p:nvPicPr>
              <p:cNvPr id="41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351240" y="3672000"/>
                <a:ext cx="2467080" cy="24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2" name=""/>
              <p:cNvSpPr/>
              <p:nvPr/>
            </p:nvSpPr>
            <p:spPr>
              <a:xfrm>
                <a:off x="3444840" y="3780000"/>
                <a:ext cx="2254320" cy="22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Tautų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turtas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Verslų 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plėtra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684360" y="3672000"/>
              <a:ext cx="2466720" cy="2450880"/>
              <a:chOff x="684360" y="3672000"/>
              <a:chExt cx="2466720" cy="2450880"/>
            </a:xfrm>
          </p:grpSpPr>
          <p:pic>
            <p:nvPicPr>
              <p:cNvPr id="41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84360" y="3672000"/>
                <a:ext cx="2466720" cy="24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5" name=""/>
              <p:cNvSpPr/>
              <p:nvPr/>
            </p:nvSpPr>
            <p:spPr>
              <a:xfrm>
                <a:off x="777960" y="3780000"/>
                <a:ext cx="2254320" cy="22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Egipto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piramidės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Didžioji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Kinų siena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684360" y="2452680"/>
              <a:ext cx="2466720" cy="1308240"/>
              <a:chOff x="684360" y="2452680"/>
              <a:chExt cx="2466720" cy="1308240"/>
            </a:xfrm>
          </p:grpSpPr>
          <p:pic>
            <p:nvPicPr>
              <p:cNvPr id="4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84360" y="2452680"/>
                <a:ext cx="2466720" cy="130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>
                <a:off x="777960" y="2560680"/>
                <a:ext cx="2254320" cy="11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3200" spc="-1" strike="noStrike">
                    <a:solidFill>
                      <a:srgbClr val="ffffff"/>
                    </a:solidFill>
                    <a:latin typeface="Arial"/>
                  </a:rPr>
                  <a:t>Ankstyvieji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32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pavyzdžiai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3351240" y="2452680"/>
              <a:ext cx="2467080" cy="1308240"/>
              <a:chOff x="3351240" y="2452680"/>
              <a:chExt cx="2467080" cy="1308240"/>
            </a:xfrm>
          </p:grpSpPr>
          <p:pic>
            <p:nvPicPr>
              <p:cNvPr id="42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351240" y="2452680"/>
                <a:ext cx="2467080" cy="130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"/>
              <p:cNvSpPr/>
              <p:nvPr/>
            </p:nvSpPr>
            <p:spPr>
              <a:xfrm>
                <a:off x="3444840" y="2560680"/>
                <a:ext cx="2254320" cy="11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Adam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Smith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6018120" y="2452680"/>
              <a:ext cx="2467080" cy="1308240"/>
              <a:chOff x="6018120" y="2452680"/>
              <a:chExt cx="2467080" cy="1308240"/>
            </a:xfrm>
          </p:grpSpPr>
          <p:pic>
            <p:nvPicPr>
              <p:cNvPr id="42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018120" y="2452680"/>
                <a:ext cx="2467080" cy="130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"/>
              <p:cNvSpPr/>
              <p:nvPr/>
            </p:nvSpPr>
            <p:spPr>
              <a:xfrm>
                <a:off x="6111720" y="2560680"/>
                <a:ext cx="2254320" cy="11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3200" spc="-1" strike="noStrike">
                    <a:solidFill>
                      <a:srgbClr val="ffffff"/>
                    </a:solidFill>
                    <a:latin typeface="Arial"/>
                  </a:rPr>
                  <a:t>Industrinė 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32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revoliucij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5" name=""/>
          <p:cNvGrpSpPr/>
          <p:nvPr/>
        </p:nvGrpSpPr>
        <p:grpSpPr>
          <a:xfrm>
            <a:off x="684360" y="547560"/>
            <a:ext cx="7800840" cy="1765440"/>
            <a:chOff x="684360" y="547560"/>
            <a:chExt cx="7800840" cy="1765440"/>
          </a:xfrm>
        </p:grpSpPr>
        <p:pic>
          <p:nvPicPr>
            <p:cNvPr id="426" name="" descr=""/>
            <p:cNvPicPr/>
            <p:nvPr/>
          </p:nvPicPr>
          <p:blipFill>
            <a:blip r:embed="rId10"/>
            <a:stretch/>
          </p:blipFill>
          <p:spPr>
            <a:xfrm>
              <a:off x="684360" y="547560"/>
              <a:ext cx="78008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777960" y="655560"/>
              <a:ext cx="75880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4400" spc="-1" strike="noStrike">
                  <a:solidFill>
                    <a:srgbClr val="ffffff"/>
                  </a:solidFill>
                  <a:latin typeface="Arial"/>
                </a:rPr>
                <a:t>Istorinis pagrindas vadybos teorijoms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28" name="" descr=""/>
          <p:cNvPicPr/>
          <p:nvPr/>
        </p:nvPicPr>
        <p:blipFill>
          <a:blip r:embed="rId11"/>
          <a:stretch/>
        </p:blipFill>
        <p:spPr>
          <a:xfrm>
            <a:off x="609480" y="6248520"/>
            <a:ext cx="135000" cy="13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FAE6-33D0-4EDD-A954-31E4AEB8777E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Tahoma"/>
              </a:rPr>
              <a:t>Sun Tzu, m.e.pr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Kinų filosof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Karo menas” (The Art of the War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aldymas – karo strategij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Kai priešas puola, mes traukiamė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Kai priešas sustoja, mes neduodam ramybė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Kai priešas mūšio stengiasi išvengti, mes puola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Kai priešas traukiasi, mes persekiojame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BC99-FA38-4ADA-AFFE-BA2773B0988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Tahoma"/>
              </a:rPr>
              <a:t>Karinės armijos valdymo principa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Įsakymų grandis – vertikali valdžios ir atsakomybės lin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Valdžios delegavimas –sprendimų priėmimo ir įgyvendinimo grandinė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Valdymo personalas – karininkai, užtikrinantys valdymo veiklos pasidalijim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Sprendimų vieningumas – kiekvienas individas neturi daugiau negu vieną vadov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6237-E5ED-4E47-AF5C-0A9ED9EF72E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2-02T06:25:45Z</dcterms:modified>
  <cp:revision>21</cp:revision>
  <dc:subject/>
  <dc:title>Introduction to Management</dc:title>
</cp:coreProperties>
</file>