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14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59B4-7C65-4B01-9D0E-05AEF462D5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76E1-6486-4BFD-9F11-8904A80C81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16A5-DA68-4EE4-91C5-54191C346D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52DB-7A0F-4D9D-B4BB-6C3455DBBB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156-7D94-4933-8B1B-80FFF0CA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81E-CBE0-42CC-99EA-3F49AA08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1E0-F471-49EB-A305-2D660827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691-0CF2-4367-8A56-C004ED45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E8E-3779-4AF8-BEA5-AC5299DB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CE6-3286-44D1-BB67-5BC97A2B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5A1-7ECD-49D7-89FE-26F77711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247-DBE0-431D-9352-9C3EA54A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8A2-46E3-416F-9C5B-0B8ED691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4CA8-09FB-451C-82C5-1723D008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422-1019-41FC-9616-C740EDAE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D62-BF10-4513-93A0-7F5D0654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4D1A-4D8B-431D-BD3B-4ADF2E1647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ocks.permeo.com/index.asp" TargetMode="External"/><Relationship Id="rId2" Type="http://schemas.openxmlformats.org/officeDocument/2006/relationships/hyperlink" Target="http://www.socks.permeo.com/Search.asp" TargetMode="External"/><Relationship Id="rId3" Type="http://schemas.openxmlformats.org/officeDocument/2006/relationships/hyperlink" Target="http://www.socks.permeo.com/Search.asp" TargetMode="External"/><Relationship Id="rId4" Type="http://schemas.openxmlformats.org/officeDocument/2006/relationships/hyperlink" Target="http://www.socks.permeo.com/Search.asp" TargetMode="External"/><Relationship Id="rId5" Type="http://schemas.openxmlformats.org/officeDocument/2006/relationships/hyperlink" Target="http://www.socks.permeo.com/SiteIndex.asp" TargetMode="External"/><Relationship Id="rId6" Type="http://schemas.openxmlformats.org/officeDocument/2006/relationships/hyperlink" Target="http://www.socks.permeo.com/SiteIndex.asp" TargetMode="External"/><Relationship Id="rId7" Type="http://schemas.openxmlformats.org/officeDocument/2006/relationships/hyperlink" Target="http://www.socks.permeo.com/SiteIndex.asp" TargetMode="External"/><Relationship Id="rId8" Type="http://schemas.openxmlformats.org/officeDocument/2006/relationships/hyperlink" Target="http://www.socks.permeo.com/index.asp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www.socks.permeo.com/Search.asp" TargetMode="External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hyperlink" Target="http://www.socks.permeo.com/SiteIndex.asp" TargetMode="External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hyperlink" Target="http://www.socks.permeo.com/AboutSOCKS/SOCKSOverview.asp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1480" y="2590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9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le292993_uploadPricol" descr="ta gadas"/>
          <p:cNvPicPr/>
          <p:nvPr/>
        </p:nvPicPr>
        <p:blipFill>
          <a:blip r:embed="rId1"/>
          <a:stretch/>
        </p:blipFill>
        <p:spPr>
          <a:xfrm>
            <a:off x="1066680" y="914400"/>
            <a:ext cx="4000680" cy="37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2C7-25EA-4331-AB07-995C944FF4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- tai vienas iš aplikacinio proxy model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Šiame modelyje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ugniasienė valdo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TCP (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ir naujesnėse versijose -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UDP) 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susijungimus tarp patikimo ir nepatikimo tinklų atlikusi galinių taškų a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utenti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fikavimą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Šie proxy nenusileidžia iki a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ų lygi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inform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ijos kaip aplikacinio lygi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s, taigi nereikia atskiro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proce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o kiekvienai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a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eriausiai žinoma tokio tipo proxy, tai proxy, realizuojant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OCK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DF8-A301-4B08-A1A5-C1D73F856F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protokolas skirtas darbui kliento-serverio rež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rveris veikia ugniasienėje kaip proxy-serveris, sudarantis proxy-sujungimus kiaurai ugniasien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4versija palaiko sujungimus, paremtus TCP,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5 versija palaiko UDP ir autentifikaci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atveju klientai turi turėti atitinkamus kodus darbui su šiuo protoko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DB4-7D91-434B-B93F-98741CF09E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ydarytas iš dviejų komponenčių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i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s yra įdiegiamas aplikacijų lygyje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 – tarpiniame lygyje tarp aplikacinio ir transport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grindinė paskirtis – leist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iš vienos pusė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pasiekt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itoj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pusė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25560" y="-9744120"/>
            <a:ext cx="8516880" cy="1282680"/>
            <a:chOff x="-25560" y="-9744120"/>
            <a:chExt cx="8516880" cy="1282680"/>
          </a:xfrm>
        </p:grpSpPr>
        <p:sp>
          <p:nvSpPr>
            <p:cNvPr id="72" name=""/>
            <p:cNvSpPr/>
            <p:nvPr/>
          </p:nvSpPr>
          <p:spPr>
            <a:xfrm>
              <a:off x="-25560" y="-9744120"/>
              <a:ext cx="680868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4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783120" y="-9744120"/>
              <a:ext cx="1708200" cy="1282680"/>
              <a:chOff x="6783120" y="-9744120"/>
              <a:chExt cx="1708200" cy="1282680"/>
            </a:xfrm>
          </p:grpSpPr>
          <p:sp>
            <p:nvSpPr>
              <p:cNvPr id="74" name=""/>
              <p:cNvSpPr/>
              <p:nvPr/>
            </p:nvSpPr>
            <p:spPr>
              <a:xfrm>
                <a:off x="7011720" y="-9744120"/>
                <a:ext cx="147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n-GB" sz="1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  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 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783120" y="-9286920"/>
                <a:ext cx="1708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r>
                  <a:rPr b="0" lang="en-GB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n-GB" sz="1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  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 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7"/>
                  </a:rPr>
                  <a:t>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-25560" y="-8464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25560" y="1578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logo" descr="SOCKS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2920" y="-9462960"/>
            <a:ext cx="4606920" cy="753840"/>
          </a:xfrm>
          <a:prstGeom prst="rect">
            <a:avLst/>
          </a:prstGeom>
          <a:ln w="0">
            <a:noFill/>
          </a:ln>
        </p:spPr>
      </p:pic>
      <p:pic>
        <p:nvPicPr>
          <p:cNvPr id="79" name="Search_a" descr="Search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262640" y="-9698040"/>
            <a:ext cx="628920" cy="217440"/>
          </a:xfrm>
          <a:prstGeom prst="rect">
            <a:avLst/>
          </a:prstGeom>
          <a:ln w="0">
            <a:noFill/>
          </a:ln>
        </p:spPr>
      </p:pic>
      <p:pic>
        <p:nvPicPr>
          <p:cNvPr id="80" name="arrow_green_small" descr=""/>
          <p:cNvPicPr/>
          <p:nvPr/>
        </p:nvPicPr>
        <p:blipFill>
          <a:blip r:embed="rId12"/>
          <a:stretch/>
        </p:blipFill>
        <p:spPr>
          <a:xfrm>
            <a:off x="7989840" y="-9698040"/>
            <a:ext cx="399960" cy="149400"/>
          </a:xfrm>
          <a:prstGeom prst="rect">
            <a:avLst/>
          </a:prstGeom>
          <a:ln w="0">
            <a:noFill/>
          </a:ln>
        </p:spPr>
      </p:pic>
      <p:pic>
        <p:nvPicPr>
          <p:cNvPr id="81" name="SiteIndex_a" descr="Site Index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034040" y="-8875800"/>
            <a:ext cx="846360" cy="217440"/>
          </a:xfrm>
          <a:prstGeom prst="rect">
            <a:avLst/>
          </a:prstGeom>
          <a:ln w="0">
            <a:noFill/>
          </a:ln>
        </p:spPr>
      </p:pic>
      <p:pic>
        <p:nvPicPr>
          <p:cNvPr id="82" name="arrow_green_small" descr=""/>
          <p:cNvPicPr/>
          <p:nvPr/>
        </p:nvPicPr>
        <p:blipFill>
          <a:blip r:embed="rId15"/>
          <a:stretch/>
        </p:blipFill>
        <p:spPr>
          <a:xfrm>
            <a:off x="7989840" y="-8875800"/>
            <a:ext cx="399960" cy="149400"/>
          </a:xfrm>
          <a:prstGeom prst="rect">
            <a:avLst/>
          </a:prstGeom>
          <a:ln w="0">
            <a:noFill/>
          </a:ln>
        </p:spPr>
      </p:pic>
      <p:pic>
        <p:nvPicPr>
          <p:cNvPr id="83" name="dot3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-27000" y="-7596360"/>
            <a:ext cx="79560" cy="92160"/>
          </a:xfrm>
          <a:prstGeom prst="rect">
            <a:avLst/>
          </a:prstGeom>
          <a:ln w="0">
            <a:noFill/>
          </a:ln>
        </p:spPr>
      </p:pic>
      <p:pic>
        <p:nvPicPr>
          <p:cNvPr id="84" name="image003" descr=""/>
          <p:cNvPicPr/>
          <p:nvPr/>
        </p:nvPicPr>
        <p:blipFill>
          <a:blip r:embed="rId18"/>
          <a:stretch/>
        </p:blipFill>
        <p:spPr>
          <a:xfrm>
            <a:off x="5181480" y="2362320"/>
            <a:ext cx="3429000" cy="2022480"/>
          </a:xfrm>
          <a:prstGeom prst="rect">
            <a:avLst/>
          </a:prstGeom>
          <a:ln w="0">
            <a:noFill/>
          </a:ln>
        </p:spPr>
      </p:pic>
      <p:pic>
        <p:nvPicPr>
          <p:cNvPr id="85" name="5952" descr=""/>
          <p:cNvPicPr/>
          <p:nvPr/>
        </p:nvPicPr>
        <p:blipFill>
          <a:blip r:embed="rId19"/>
          <a:stretch/>
        </p:blipFill>
        <p:spPr>
          <a:xfrm>
            <a:off x="3602160" y="6480000"/>
            <a:ext cx="21960" cy="103320"/>
          </a:xfrm>
          <a:prstGeom prst="rect">
            <a:avLst/>
          </a:prstGeom>
          <a:ln w="0">
            <a:noFill/>
          </a:ln>
        </p:spPr>
      </p:pic>
      <p:pic>
        <p:nvPicPr>
          <p:cNvPr id="86" name="image004" descr=""/>
          <p:cNvPicPr/>
          <p:nvPr/>
        </p:nvPicPr>
        <p:blipFill>
          <a:blip r:embed="rId20"/>
          <a:stretch/>
        </p:blipFill>
        <p:spPr>
          <a:xfrm>
            <a:off x="1871640" y="7932600"/>
            <a:ext cx="4789440" cy="632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D4E-E1F3-4B63-81D1-233E380B72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lientinė pus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inėje pusėje standartiniai tinkliniai kreipiniai keičiami į atitinkamus kreipinius, naudojamu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S ver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nės tinklinės f-jos-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s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onn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sockname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etsockname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bind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cep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isten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elec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A56-166D-4883-A748-E2D5FBD182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S veikimo princi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inė programa siunčia SOCS serveriui užklausą susijungimui su tam tikru IP adres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serveris tikrina taisykles – ar ryšys leist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taip, SOCS bando užmegzti ryšį su nutolusiu server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ryšys užmezgamas, klientui pranešama, pradedamas pasikeitimas duomeni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9D3-E843-454C-821D-5CCE63C6FD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užkla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ą siunčia klientinė programa, siekdama užmegzti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andoje nurodoma: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ersijos NR, SOCS komandos kodas, paskirties punkto IP adresas bei porto N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baigus susijungimo bandymui (sėkmingai arba ne) serveris gražina klientui paketą, kuriame yra :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ersijos NR bei SOCKS rezultato ko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2DD-1B80-41D7-BB2D-9B4908F714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 V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KSv4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s vykdo tr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u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cij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usijungimo užklausa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xy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grandinės sudarym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pl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uomenų perdavim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KSv5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e pridėt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os palaikymas ir galimybė sukurti proxy-serverį ne tik TCP bet ir UDP atvejui, o taip pat domeno adresų palaikymas ir IPv6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iekviena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 UD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iam 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lui, kurį įkuri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OCKS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s, jis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erduoda vartotoj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form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iją iš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SOCKS server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ui vartotojo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uoja vartotoją ir kanalą 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ran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j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UD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lų vientisumą ( integrity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ugum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une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avimui skirtų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 atskiri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o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roc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inio kanalo įkūrim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kadangi yra sunku garantuoti kanalų vientisumą ir vartotojų autentifikaciją kai yra sukuriama daug kanal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39C-3AAB-4A11-8CAA-284DB3148E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proxy-serveris – tai kanaliniai vartai, kuriais galima pasinaudoti užmezgant ryšį s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kacini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rvis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komųjų programų darbui per ugniasienę užtikrinti Windows tipo sistemose naudojama bibliote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csCa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bliotekinės funkcijos tarnauja tam, kad galėtų perim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WinSo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lientines užklausas tinkliniams servisams ir perduoti jas SOCKS serve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207-3820-4E97-9354-2CE1FAAC24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SOCKS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SOCKS 5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reikalauja modifikacijų arba aplikacijų pusėje arba klient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TCP/IP s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ose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Dauguma įprastų naršyklių plačiausiai naudojamose platformose turi savyje įdėtą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OCKS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laikymą, ir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modif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uot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to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ol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ekai yra taip pat prieinami tiek įvairi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Unix,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įvairi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Windows,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be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Macintosh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sistem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ežiūrint to reikalingos žymios administracinės pastangos įdiegiant šio tip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) tarptinklinę sąsają didelio tinklo atve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524-F965-47EB-92D1-A15173F306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N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inė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s ir tarptinkliniai vartai (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circuit-level gateway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) dažnai skaidriai vykdo tinklinių adresų transliaciją -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etwork Address Translation (NAT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inklinė sąsaja, kuri sujungia vidinį tinklą su nepatikimu išoriniu tinklu yra viskas, ką šis nepatikimas tinklas m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ke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nia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filtr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ai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r būvį analizuojančios ugniasienės paprastai nevykdo IP adresų bei porto numeriųtransliacijos, nors aišku niekas nedraudžia įdiegti šią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alimybę atskir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82C-0E17-4C7A-876F-34CBC35581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niasien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Ugniasienes galima 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suskirstyti į tris skirtingus lygi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aket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inio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l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ygio ugniasienes, kurios neseka, kas su kuo kalbas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Būvį palaikančios ugniasienės, kurios seka praeinančius paket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Proxy- ugniasienės, kurios taip pat gali įvertinti srautą, susiedamos  jį su prieš tai priimtu sra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roxy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ugniasienės surištos su aukštesnio lygio protokolais kaip pavyzdžiui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e-mail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r HTML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, palaikomais žemo lygio protokolų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Taigi: ugniasienės skiriasi tuo, ar jos vertina istoriją, bei tuo, kokio lygio protokolu jos naudoj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381-99AD-4DA8-87F7-5CAF109E55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inių adresų transliac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–Tinklinių adresų transliacij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 dažnai naudojama proxy-serverio funkcij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 programa vykdydama užklausą lokalaus tinklo klientų vardu, naudoja savo IP adresą (arba IP adresų diapazoną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zistuoja keli NAT realizacijos būd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statinis bei dinami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257-51A8-4F9E-AF33-72B6AAAD20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plečia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erdvė panaudoja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priv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ju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uojant 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ai registruot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Priv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rdvė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0.0.0.0 - 10.255.255.255 (10.0.0.0/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72.16.0.0  - 172.31.255.255 (172.16.0.0/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92.168.0.0 - 192.168.255.255 (192.168.0.0/16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C6F-5803-4EA5-B207-BCBED2E8CC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irmą kartą aprašy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RFC 1631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oku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–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ech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 nusakanti, kaip perrašy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esančius galvutėse ir aplikacinių duomenų srautuose pagal numatytą politik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miamasi srauto šaltinio bei paskirties tašk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C5C-33F0-45E0-AEB1-ECD7D242F0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priskyr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tatic address assignment), kliento adresas lokaliame tinkle surišamas su fiksuotu IP adresu – kuris naudojamas išorėj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98E-3583-4BD6-8F1E-CC051E7974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vyzd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423120" cy="364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909-01A2-475D-8A26-E310502081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66680" y="4876920"/>
            <a:ext cx="990720" cy="760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056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3429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4.x.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1981080"/>
            <a:ext cx="90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819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A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išeinantis srau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F95-DED7-4BB9-90E8-ED68922A024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Soketo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transli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(šakutė) – tai kombinacija, sudaryta iš IP adreso ir porto numerio, kuri yra naudojama pažymint galinius TCP arba UDP sujungimo tašk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kiant išplėsti galimų išorinių jungčių skaičių ir kartu nedidinti NAT serveriui priskirtų adresų skaičiaus yra naudojama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oketų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transli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EC2B-B096-461D-96E2-97DF22A0BD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842440" y="19810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1066680" y="4876920"/>
          <a:ext cx="99072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9907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9803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505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4.1.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563868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Connection request to port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 from 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‘ to &lt;web server&gt; source 10.0.0.4, port 102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66880" y="4038480"/>
            <a:ext cx="1371600" cy="1447920"/>
          </a:xfrm>
          <a:prstGeom prst="line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2209680"/>
            <a:ext cx="1752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10.0.0.4, port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mapp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204.1.1.10, port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809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Connection request from 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’ forwarded to &lt;web server&gt;  source 204.1.1.10, port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2895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Request received and accep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15000" y="2057400"/>
            <a:ext cx="1828800" cy="1447920"/>
          </a:xfrm>
          <a:prstGeom prst="line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 užklaus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724280" y="4800600"/>
          <a:ext cx="4114800" cy="102564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067040"/>
                <a:gridCol w="99036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38B-1D8B-44B2-9F42-AA4CDF2B880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842440" y="19810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1066680" y="4876920"/>
          <a:ext cx="99072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9907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9803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23623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Response sent to  204.1.1.10, port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going Web Client Through N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724280" y="4800600"/>
          <a:ext cx="4114800" cy="102564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067040"/>
                <a:gridCol w="99036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 flipH="1">
            <a:off x="4952880" y="2743200"/>
            <a:ext cx="2362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42670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Translate   204.1.1.10, port 2000 to 10.0.0.4 port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133360" y="4800600"/>
            <a:ext cx="1904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123-65C9-46FD-AF60-4FF23834794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minio adreso priskyrimo princ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inamic address assignment) , išskiria IP adres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imui išoriniame tinkle, 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ientas daro užklausą , einančią per proxy-server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baigus ryšio seans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a praėjus tam tikram laikui adresas yra gražinamas į laisvų adresų sąrašą, ir gali būti suteiktas kitam kompiuteri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5720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Dinaminis adreso išskyri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643-92B4-4A9C-BFCF-6619474621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x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etinio filtro atveju, galimi </a:t>
            </a:r>
            <a:r>
              <a:rPr b="1" lang="lt-LT" sz="2400" spc="-1" strike="noStrike">
                <a:solidFill>
                  <a:srgbClr val="3333cc"/>
                </a:solidFill>
                <a:latin typeface="Times New Roman"/>
              </a:rPr>
              <a:t>tiesiog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sijungimai tarp kliento ir serve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xy </a:t>
            </a:r>
            <a:r>
              <a:rPr b="1" lang="lt-LT" sz="2400" spc="-1" strike="noStrike">
                <a:solidFill>
                  <a:srgbClr val="ff3399"/>
                </a:solidFill>
                <a:latin typeface="Times New Roman"/>
              </a:rPr>
              <a:t>išard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šiuos tiesioginius susijungimus. Serveriui proxy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etend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lient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lientui proxy pretenduoja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e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okių tiesioginių komunikacijų tarp serverio ir kl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 to proxy turi priėjimą prie visų aplikacijos duomenų: proxy gali patikrinti, ar srautas tarp kliento ir serverio yra lega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,  web proxy gali patikrinti ar leistina GET komanda prieš persiunčiant ją į server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aliai ne visi proxy iš tikrųjų giliai analizuoja aplikacinį protokolą – tai gana sudėtinga – apsiribojama tinklinio lygio tikrinim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AEC-DFD9-40CF-AF92-9EEF52B361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609480" y="838080"/>
            <a:ext cx="8001000" cy="5334120"/>
            <a:chOff x="609480" y="838080"/>
            <a:chExt cx="8001000" cy="5334120"/>
          </a:xfrm>
        </p:grpSpPr>
        <p:sp>
          <p:nvSpPr>
            <p:cNvPr id="200" name=""/>
            <p:cNvSpPr/>
            <p:nvPr/>
          </p:nvSpPr>
          <p:spPr>
            <a:xfrm>
              <a:off x="5886720" y="2837880"/>
              <a:ext cx="1532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9480" y="83808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480" y="239364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3727080"/>
              <a:ext cx="170208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80" y="483840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rbo stotis 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14000" y="838080"/>
              <a:ext cx="187236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AT server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48600" y="2171160"/>
              <a:ext cx="1361880" cy="177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ternet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11560" y="1282320"/>
              <a:ext cx="1702440" cy="6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1560" y="2837880"/>
              <a:ext cx="170244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11560" y="417168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311560" y="5060520"/>
              <a:ext cx="1702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86720" y="2393640"/>
              <a:ext cx="136188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886720" y="3282480"/>
              <a:ext cx="136188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886720" y="3726720"/>
              <a:ext cx="170208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52120" y="239364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52120" y="350496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52120" y="528300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57000" y="1726920"/>
              <a:ext cx="1531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6920" y="4615920"/>
              <a:ext cx="1532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81840" y="83808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6AC-5999-4A17-830C-2E56DAE4C3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inio tinklo adresų aibės padid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ų transliacijos privalumas yra tame, kad adresų transliacija leidžia žymiai išplėsti vidinio tinklo adresų aib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ant adresų transliacijai leidžiama imti adresus iš specialaus diapazono, nustatyto IANA organizacijo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Adresų vektorizacija leidžia perskirstyti apkrovą tarp kelių server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kliento atžvilgiu atrodo kaip vienas serveris, kuriam būdingas vienas IP adresas ir vienas domeno var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FFD-BBD8-40F4-8A21-D36FDE22B8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ir N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AT gali būti realizuojama ir atskiruose tam skirtuose įrengini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ai kurie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įrenginių gamintojai aprašo šiuos įrenginius kaip ugniasienes, bet tai nėra teisin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vykdo vidinių adresų uždengimą nuo išorės, tačia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i neatlieka srauto kontrolė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evykdo autentifikac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egali apsaugoti nuo paketų su pakeistais “spoofed” adres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F28-746F-4EAB-9BFE-7044548F097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eneva"/>
              </a:rPr>
              <a:t>H</a:t>
            </a:r>
            <a:r>
              <a:rPr b="1" lang="lt-LT" sz="4400" spc="-1" strike="noStrike">
                <a:solidFill>
                  <a:srgbClr val="000000"/>
                </a:solidFill>
                <a:latin typeface="geneva"/>
              </a:rPr>
              <a:t>ibridiniai įrengi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omercinėse ugniasienėse dažnai naudojamos kelios apsaugos technologi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vyzdžiui,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heck Point's Firewall-1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ur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alimybes,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etwork Associates' Gauntlet,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aiko taip vadinamą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adap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yvią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technolog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ją, kai ypatingas dėmesys yra skiriamas pirmiems praeinantiems srauto paketams, po to įsimenant būv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89D-5E89-4B3D-9468-4529FABBBA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eneva"/>
              </a:rPr>
              <a:t>H</a:t>
            </a:r>
            <a:r>
              <a:rPr b="1" lang="lt-LT" sz="4400" spc="-1" strike="noStrike">
                <a:solidFill>
                  <a:srgbClr val="000000"/>
                </a:solidFill>
                <a:latin typeface="geneva"/>
              </a:rPr>
              <a:t>ibridiniai įrengi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adangi ugniaisenės randasi ant ribos tarp patikimo ir nepatikimo tinklo, tai pagimdo tendenciją 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į jas įtraukti ir kitus servisu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vyzdžiui, pastebima tendencija </a:t>
            </a:r>
            <a:r>
              <a:rPr b="1" i="1" lang="lt-LT" sz="2800" spc="-1" strike="noStrike">
                <a:solidFill>
                  <a:srgbClr val="000000"/>
                </a:solidFill>
                <a:latin typeface="geneva"/>
              </a:rPr>
              <a:t>VPN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 užbaigti ties ugniasiene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, nes priešingu atveju reikalingas dešifravimas-šifravimas siekiant patikrinti praeinantį srau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Saugos tikrinimai, kuriais nustatoma, koks būtent srautas praeina atlieka panašius veiksmus, kurie 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vykdomi valdant srauto dydžiu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, todėl bandoma ir šiuos veiksmus priskirti ugniasien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662-C641-443B-9A7E-9D4C733FFE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geneva"/>
              </a:rPr>
              <a:t>As the Internet has come to be a critical role in most everyone's networking strategy, protection from undesirable Internet inhabitants is a necessity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genev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Proxy ugniasienės iš esmės tai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programinė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įrangos paketas, nors kartais tai ir nėra atžymima kaip programinės įran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Taigi ugniasienė </a:t>
            </a:r>
            <a:r>
              <a:rPr b="0" lang="lt-LT" sz="2000" spc="-1" strike="noStrike">
                <a:solidFill>
                  <a:srgbClr val="ff3399"/>
                </a:solidFill>
                <a:latin typeface="geneva"/>
              </a:rPr>
              <a:t>nėra saugesnė, nei operacinė sistema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ant kurios ji suka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Dauguma ugniasienių yra realizuotos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Unix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r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ba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Windows 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NT/2000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sistemų terpėje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nors pažeidžiamumai sutinkami visuose šių operacinių sistemų variantu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Kai kurie ugniasienių gamintojai pritaiko operacines sistemas, dažniausiai Unix ir instaliuoja savą ugniasienių programinę įrangą. Tai pateikiama kaip aparatūriškai realizuota ugniasienė (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firewall appliance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) ir skaitoma, kad slėpimas detalių apie op. sist. suteikia papildomą saugos lygį. Šių įrenginių branduolys dažnai pritaikomas tik ugniasienės funkcionavimui, jis nėra skirtas kitiems uždaviniams vykdy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713-688F-498D-9DDD-C093E246FDA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ių vertin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pie 90-tųjų vidury, pradėjus tyrinėt, testuot ir lygint ugniasienes, jų darbo vertinimai buvo siejami su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funkcionavimo greičiai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kadangi ugniasienės daugumoje buvo realizuojamos naudojant maršrutizator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Tačiau sieti ugnaisienės funkcionavimo efektyvumą su funkcionavimo greičiu nėra gerai, nes didelis greitis gali kaip tik indikuoti ugniasienės spragas saugos požiūr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Patikrinti saugos požiūriu yra pakankamai sunku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dažnai praktiškai neįmanoma įrodyti, kad visi pažeidžiamumai yra eliminuo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augos skenavimo įrankiai, kurie vertina visas žinomas  atakas gali būti panaudoti bandant praeiti pro ugniasienę, tačiau tai dar neįrodo, kad ugniasienė nėra nepažeidži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EAA-4F08-4EB5-9A25-BE60DE2AD2E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neva"/>
              </a:rPr>
              <a:t>Ne tik techn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ors ugniasienės architektūros supratimas ir supratimas apie galimus pažeidimus yra svarbus saugant organizacijos tinklą,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saugos tinkama politika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yra dar svarbesnis mom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augos politikos įvedimas reikalauja suprasti duomenų svarbą, biznio procesą, įvairias atsakomybės formas ir kitas netechnines de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IT ir saugos specialist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gali padėt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užduodant tinkamus klausimus, tačiau paprastai ne jie taria paskutinį žodį, nusakant organizacijos politiką.  Kai organizacijos vadovybė nusako fundamentalias saugos politikos gaires, techniniai specialist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gali pritaikyti praktine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ocedūras šių gairių realizacij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6B3-83F4-4B0C-8633-6231E658C29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 ir jos konfigū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Papildomai reikia atkreipti dėmesį į tai, kad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blogai sukonfigūruota ugniasienė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yra dar labiau pavojingiau, nei jos nebuvimas iš v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Trad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cinės ugniasienės būdavo konfigūruojamos naudojant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scriptus bei komandinės eilutė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sąsaj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Tai reikalavo tam tikro vartotojų apmokymo, b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Pastangų iš vartotojų pusės, kad visos “deny” bei “accept” eilutės su atitinkamais IP adresais bei portų numeriais išsilietų į tinklo saugos užtvar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Modernios ugniasienės turi tą privalumą, kad jų konfigūravimui galima pasinaudot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“žyniais” (wizards) bei grafiniu palaikymu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kas palengvina jų konfigūrav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EC9-A70B-4132-B3B6-C355A42654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palaik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varbus momentas yra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ių valdyma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Didelėse organizacijose užsklanda atakoms išsilieja į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didelį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ių tinklą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. Kai kuriose iš šių ugniasienių norima palaikyti tą pačią saugos politik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ai kurios organizacijos naudoja vidines ugniasienes apsaugai nuo potencialių vidinių atakų. Šių ugniasienių konfigūravimas gali ryškiai skirtis nuo išorinį išėjimą saugančių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onfigūracijos valdymo lankstumas bei nuoseklumas yra svarbus ir vidinių ugniasienių požiūriu.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1D5-E387-4FB5-90CB-81BFB62D089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Proxy ne tik sugeba atskirti tinkl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Jos panaudojimas yra </a:t>
            </a: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viliojantis</a:t>
            </a: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, nes ji 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žiūri į paketą iš aplikacinio protokolo aukštu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Proxy gali tikrinti specifiškesnę informaciją nei paketiniai filtrai, pav, gali pasakyti ar </a:t>
            </a:r>
            <a:r>
              <a:rPr b="1" lang="lt-LT" sz="2800" spc="-1" strike="noStrike">
                <a:solidFill>
                  <a:srgbClr val="3333cc"/>
                </a:solidFill>
                <a:latin typeface="Times New Roman"/>
              </a:rPr>
              <a:t>email turi tekstą ar word’o dokumentą, ar web puslapis naudoja Java ar ne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Sudaromos taisyklės žymiai specifiškesnės, kadangi jomis galima nusakyti, </a:t>
            </a:r>
            <a:r>
              <a:rPr b="1" lang="lt-LT" sz="2800" spc="-1" strike="noStrike">
                <a:solidFill>
                  <a:srgbClr val="3333cc"/>
                </a:solidFill>
                <a:latin typeface="Times New Roman"/>
              </a:rPr>
              <a:t>ką ugniasienė turi matyti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 pagal aplikacinio lygio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C75-8D6D-4259-875C-8652DFD26C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Log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Ugniasienių daromi “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log” įrašai gali padėti šiais atvejai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Leidžia užbėgti už akių atak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Leidžia patyrinėti, kodėl ataka buvo galima ir nustatyti reikalavimus ateiči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Aplikacijų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oxy ugniasienės gali duot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detaliausią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informaciją apie srautą, gali pateikti detaliausius log įraš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Log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i dažnai tarnauja paleidžiant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aliarmo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signalus, kad pav, kažkam pavyko DoS tipo ataką surengti jūsų 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e-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omer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cijai skirtame servery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Log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i pateikia reikšmingus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įrodymu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o sėkmingos ar nesėkmingos ugniasienės veiklos, jie gali būti panaudojami atsekant atakuotojus, juos apkaltinant, kai jie yra pagauti ir įtikinant juos, kad jūsų tinklas deda pastangas atakų išvengim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917-75A3-4E6D-BF45-7D9E0248E4D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nėra 100</a:t>
            </a: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emonė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Negalima tikėtis, kad ugniasienės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darys tai, kas neįmanoma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Jei jūsų tinkle yra paliktos “užpakalinės durys” (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back door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), kaip kad pav., mašinos su galimybe jungtis prie Interneto per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modemą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ar namų mašinos su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kabeliniu ryšiu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tai jokia ugniasienė neapsaugos šių keli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Sėkmingas ugniasienės darbas yra surištas su tuo, kad ji bus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vieninteliame taške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kuriame susisiekia patikimas ir nepatikimas tink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ės negelbsti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uo vidinių priešų. Ugniasienėmis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negalima pakeist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ieinamumo prie serverių, failų sistemų, duomenų bazių kontrolės. Ugniasienės dažniausi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nesaugo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ieš virusus, nors moderniose ugniasienėse ši savybė yra įded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Gerai sukonfigūruotos ir prižiūrimos ugniasienės neleis atakuotojams sujaukti jūsų tinkl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5D9-CCCD-421A-BC42-70B551361DE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xy aplikacijų lygio protokolas turi daug privalu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ų ugniasienių trūkumas yra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grei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Kadangi srautas turi būti tiriamas aplikacijų lygyje, šio tipo ugniasienės yra lėtesnės nei paketiniai filtr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Užtikrinant saugą pralošiamas grei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ą problemą bando spręsti adaptyvios proxy ugniasien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6C8-DEF6-4793-9588-FFED718F2D3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io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gniasienės su būvio fiksavimu yra paketinio filtravimo praplėti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daptyvių proxy (dinaminių proxy) architektūra remiasi standartinių proxy architektū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binuojami privalumai tiek proxy tiek paketinio filtravim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ap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oxy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gniasienės dirba analizuodamos susijungimo pradžią aplikacijų lygyje, kaip tai daro standartiniai prox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ugniasienė turi pakankamai informacijos išsiaiškinimui srauto (pagal taisykles)sekantys paketai praleidžiami juos filtruojant tinkliniame lygyj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85A-17DE-4C44-9266-FFD17317D10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io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Saugos požiūriu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čios saugiausio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ugniasienės yra standartinės aplikacijų lygio ugniasien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a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ėra praktiškiausi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pasirinkimas : greitis, palaikymo problemos, nauja aplikacija – naujas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daptyvios proxy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jungia ir paketinio filtravimo ir proxy privalu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apt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yvių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xy 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pektyva išmokyti ugniasienes “</a:t>
            </a:r>
            <a:r>
              <a:rPr b="1" lang="lt-LT" sz="2400" spc="-1" strike="noStrike">
                <a:solidFill>
                  <a:srgbClr val="000000"/>
                </a:solidFill>
                <a:latin typeface="Verdana"/>
              </a:rPr>
              <a:t>adaptuotis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” tiriant srautą pagal vartotojų nusakytas taisykles, nemažinant saugumo ir greičio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7C0-5D9D-4A1D-9A43-00041ABD994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ū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avyzdžiui, kai saugos reikalavimai aukšti, pradinis saugos tyrimas turi būti vykdomas aplikacijų lygyje, išnaudojant tai, kad tradiciniai aplikacijų proxy gali duoti max saug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 sesijos detalės tampa aiškios proxy, sekantys paketai yra praleidžiami greičiau praleidžiant juos per tinklinio lygio tikrini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twork Associates 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tvirtina, kad tokie rūpestingi tikrinimai srauto pradinių paketų realizuojami naujoje ugniasienių technologijoje </a:t>
            </a:r>
            <a:r>
              <a:rPr b="1" lang="lt-LT" sz="2000" spc="-1" strike="noStrike">
                <a:solidFill>
                  <a:srgbClr val="000000"/>
                </a:solidFill>
                <a:latin typeface="Verdana"/>
              </a:rPr>
              <a:t>gali iki 10 kartų pagreitinti funkcionavimo greitį be žalos saug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491-667D-42C5-8E46-BFF1620DB7A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 serverį, vartotoj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gauna priėjimą prie 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k praėjęs per procesą, ku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ia sesijos būv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ą ir atlie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čiau šis saugos laipsnis kainuoja funkcionavimo požiūriu.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xy-serveriai dirba 7 OSI modelio lygyje. Operavimas šiame lygyje yra imlus sąnaudų atžvilgiu, taigi proxy-serveria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ja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aug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kl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ai kodėl net galingos šiuolaikinės UNIX mašinos, tokios kaip SPARC 10, kurios palaiko proxy-serverį, gali palaikyti tik ribotą sesijų kiekį vienu me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84E-6511-47DE-B1FE-7E208A48E3E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PIX ugniasienėse gaunamas žymus funkcionavimo pranašumas dėka naujos savybės, pavadintos “kirtimu kiaurai proxy”(cut –through proxy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ybė reiškia tai, kad pradžioje vartotojas tiriamas aplikacijų lygyje, taip kaip įprasta proxy serveriuose. Bet po to kai vartotojas autentifikuojamas ( o tam naudojama TACACS arba RADIUS sistemos) ir elgimosi politika yra patikrinama, PIX ugniasienė atlieka pakeitimą ir visas srautas teka tiesiai tarp dviejų partnerių kol išlaikomas sesijos būv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0ED-CEAD-4935-937D-906CBBC52F6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uoja “būvio” informacija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ja apie būvį įrašoma į atitinkamą lentelę (stateful session flow table). Lentelėje įrašomi tokie duomen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ltinio ir paskirties adresai, portų NR, TCP eilės NR, TCP vėliavėlės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ku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tą, susi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jungti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udojama hash fun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 išorės į privatų tinklą Cisco PIX ugniasienė leidžia kreiptis tik iš tam tikrų, specifinių serverių, ir tik į tam tikrus vidinius server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PIX ugniasienės gali palaikyti iki 16 tūkst. TCP jungčių vienu m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DAA-C0C8-429A-BA2F-A47064D87EF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šv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p ir kitos technologijos ugniasienių technolog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ystosi ir keičias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irtumai tarp skirtingų filtravimo būd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s labiau nykst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nes pardavėjai bando taikyti geriausias šių būdų savybes viename produk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sirenkant bei įdiegiant ugniasienes pasirinktą sprendimą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ikia pagrįsti organizacijos poreiki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saugos politika, technine analize, finansiniais resurs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andien galimi įvairūs ugniasienių sprendimai, realizuo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ek programiškai, tiek aparatūr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Jie skiriasi galimybėmis. Išanalizavimui reikia laiko. Paaukotas laikas vėliau gali išsilieti į “sėkmę ar nesėkmę” saugant tink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0D6-49DB-44BA-8CCB-478C3D5D5B3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talizacijos lyg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Kadangi šie proxy operuoja aplikacijų lygyje, tai paketų analizė </a:t>
            </a:r>
            <a:r>
              <a:rPr b="0" i="1" lang="lt-LT" sz="2600" spc="-1" strike="noStrike">
                <a:solidFill>
                  <a:srgbClr val="000000"/>
                </a:solidFill>
                <a:latin typeface="geneva"/>
              </a:rPr>
              <a:t>gali būt pasiekiama tokio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gylio</a:t>
            </a:r>
            <a:r>
              <a:rPr b="0" i="1" lang="lt-LT" sz="26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kokio tik norim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Visa tai suvedama į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atitinkamas taisykles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v, gali būt sudaromi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sarašai blokuojamų </a:t>
            </a:r>
            <a:r>
              <a:rPr b="1" i="1" lang="en-GB" sz="2600" spc="-1" strike="noStrike">
                <a:solidFill>
                  <a:srgbClr val="000000"/>
                </a:solidFill>
                <a:latin typeface="geneva"/>
              </a:rPr>
              <a:t> URL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iš tam tikros tinklo dalies,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FTP klientams apribojama PUT komanda bet leidžiama komanda GET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pildoma aplikacijų lygio kontrolės priemonė yra galimybė vykdyti vartotojų </a:t>
            </a:r>
            <a:r>
              <a:rPr b="1" lang="lt-LT" sz="2600" spc="-1" strike="noStrike">
                <a:solidFill>
                  <a:srgbClr val="000000"/>
                </a:solidFill>
                <a:latin typeface="geneva"/>
              </a:rPr>
              <a:t>autentifikavimą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prieš juos sujungiant su servis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pildomas privalumas yra ir </a:t>
            </a:r>
            <a:r>
              <a:rPr b="1" lang="lt-LT" sz="2600" spc="-1" strike="noStrike">
                <a:solidFill>
                  <a:srgbClr val="000000"/>
                </a:solidFill>
                <a:latin typeface="geneva"/>
              </a:rPr>
              <a:t>detalių log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įrašų kaupi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8AA-8167-4A7D-8C6A-95A2876F85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671480" y="2149560"/>
            <a:ext cx="5802480" cy="2500200"/>
            <a:chOff x="1671480" y="2149560"/>
            <a:chExt cx="5802480" cy="2500200"/>
          </a:xfrm>
        </p:grpSpPr>
        <p:sp>
          <p:nvSpPr>
            <p:cNvPr id="259" name=""/>
            <p:cNvSpPr/>
            <p:nvPr/>
          </p:nvSpPr>
          <p:spPr>
            <a:xfrm>
              <a:off x="1671480" y="2149560"/>
              <a:ext cx="355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71480" y="2149560"/>
              <a:ext cx="580248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5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1" name="file292911_uploadcomp09" descr="microsoft paplasina savu darbibu"/>
          <p:cNvPicPr/>
          <p:nvPr/>
        </p:nvPicPr>
        <p:blipFill>
          <a:blip r:embed="rId1"/>
          <a:stretch/>
        </p:blipFill>
        <p:spPr>
          <a:xfrm>
            <a:off x="1676520" y="1495440"/>
            <a:ext cx="5638680" cy="375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FB2-4686-486B-96E2-F057F62385B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Kadangi veiksmai vykdomi aplikacijų lygyje, </a:t>
            </a:r>
            <a:r>
              <a:rPr b="0" lang="lt-LT" sz="3200" spc="-1" strike="noStrike">
                <a:solidFill>
                  <a:srgbClr val="6600cc"/>
                </a:solidFill>
                <a:latin typeface="geneva"/>
              </a:rPr>
              <a:t>proxy servisas turi būt teikiamas kiekvienai aplikacij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Eilė tradicinių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Internet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apli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jų, įskaitant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FTP, e-mail,  n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aujienas(n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ews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) yra sudėti į naršykles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tai visos šios aplikacijos gali būti tvarkomos suk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onfig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ū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uojant naršyklę taip, kad ji “šnekėtųsi” su prox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9EC-15CC-4A96-BDA8-830C908624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eksto filtr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RL blokavimas. Galima blokuoti (arba registruoti) priėjimą prie atitinkamų URL. Trūkumas - puslapių adresai Internete dažnai keičias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tegorijų blokavimas. Metodas leidžia užduoti blokuojamo turinio kategoriją – pavyzdžiui erotika arba neapyka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dėjimų blokavimas. Tai Java, ActiveX ir kiti objektai, kurie gali paleisti tam tikras programas lokaliame kompiuter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163-BD98-4B7F-8DED-EA0F3D77EF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cija ir perspėjimų išd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-serverių vykdoma saugos funkcija yra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galimybė registruoti savo darbą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-serveriai yra skirti darbui su atitinkamom tarnybom ir protokolais, ir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užrašo žymiai dides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iekį informacijos, kadangi supranta tarnybos ar tai protokolo darb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proxy-serverio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dokumentacijoje yra nurodoma kokią registraciją galima įtrauk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dministratorius gali paeksperimentuoti, kol ras tokį variantą, kuris bus jam informaty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A67-0C9A-4092-BFC3-779B9F41D7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ačiau įvairios naujos vartotojiškos aplikacijos ir tinklinės aplikacijos turi būti konfigūruojamos kreipimuisi į proxy, jei tas proxy sugeba aptarnauti tą aplikaciją ir jei jis nėra “skaidraus”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ors gali teikti aukščiausio lygio saugą, užtikrinti norimo detalumo srauto analizę, tačia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uos gali būti sunku konfigūruo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ų greitaeigingumas gali būti problematišk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9CE-8A10-4C21-867C-792BA543BB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21:01:01Z</dcterms:created>
  <dc:creator>Kristina</dc:creator>
  <dc:description/>
  <dc:language>en-US</dc:language>
  <cp:lastModifiedBy>Kristina</cp:lastModifiedBy>
  <dcterms:modified xsi:type="dcterms:W3CDTF">2004-11-10T09:06:57Z</dcterms:modified>
  <cp:revision>27</cp:revision>
  <dc:subject/>
  <dc:title>9 paskaita</dc:title>
</cp:coreProperties>
</file>