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801-E948-4DAD-8786-C9496B23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44D-D290-4EDD-90F2-5BCF3552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643-32FA-4143-A732-BD5C0588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045-5152-4CE0-AC51-384C07C3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D6D-26D4-48F7-8542-9B4B2F65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010-6402-4F5B-B413-94FF3236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051-4C96-48B1-B31D-1989EB4A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ADA-6934-4070-89EA-6A26C8B3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D15-4FDA-4102-A890-9D9C6867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C02-ACA0-4815-9C42-A29D0D24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88A-2D65-4FA5-A845-128EFFCE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4E4-1418-4CAF-B96F-F2A7ABB1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D335-D37B-452E-B766-F834F79DD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rby.daemonnews.org/episode.php3" TargetMode="External"/><Relationship Id="rId2" Type="http://schemas.openxmlformats.org/officeDocument/2006/relationships/hyperlink" Target="http://darby.daemonnews.org/episode.ph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3760" y="502884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2 skyr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762120"/>
            <a:ext cx="4875840" cy="1904400"/>
            <a:chOff x="990720" y="762120"/>
            <a:chExt cx="4875840" cy="1904400"/>
          </a:xfrm>
        </p:grpSpPr>
        <p:sp>
          <p:nvSpPr>
            <p:cNvPr id="44" name=""/>
            <p:cNvSpPr/>
            <p:nvPr/>
          </p:nvSpPr>
          <p:spPr>
            <a:xfrm>
              <a:off x="990720" y="762120"/>
              <a:ext cx="4875840" cy="190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90720" y="762120"/>
              <a:ext cx="4875120" cy="1904040"/>
              <a:chOff x="990720" y="762120"/>
              <a:chExt cx="4875120" cy="190404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990720" y="762120"/>
                <a:ext cx="4874400" cy="1903680"/>
                <a:chOff x="990720" y="762120"/>
                <a:chExt cx="4874400" cy="19036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990720" y="762120"/>
                  <a:ext cx="4874400" cy="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990720" y="762120"/>
                  <a:ext cx="4874400" cy="190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u="sng">
                      <a:solidFill>
                        <a:srgbClr val="ccccff"/>
                      </a:solidFill>
                      <a:uFillTx/>
                      <a:latin typeface="Verdana"/>
                      <a:hlinkClick r:id="rId1"/>
                    </a:rPr>
                    <a:t>  </a:t>
                  </a:r>
                  <a:r>
                    <a:rPr b="1" lang="en-US" sz="7300" spc="-1" strike="noStrike">
                      <a:solidFill>
                        <a:srgbClr val="ffffff"/>
                      </a:solidFill>
                      <a:latin typeface="Verdana"/>
                    </a:rPr>
                    <a:t> 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Verdana"/>
                    </a:rPr>
                    <a:t>                                       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990720" y="762120"/>
                <a:ext cx="4875120" cy="190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sourcewars" descr="Go to this week's installmen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887400"/>
            <a:ext cx="4952880" cy="40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C82-1854-417E-945E-456B7C495E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rute-force lo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iamasi tais pačiais metodais kaip ir atspėjant slaptažodžius tik dirbama greičiau. Tikslas – greit rasti veikiantį prisijungimo vardą – slaptažodį kol ataka neužfiksu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aip priešpriešą šioms atakoms galima naudoti prisijungimo užrakinimą(po kelių nesėkmingų prisijungimo bandymų) – galima sulaukti DoS tipo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77D-6846-443E-BD99-1C5B41E84D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š slaptažodž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negali atsp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ug informacijos apie jus turintis žmogus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sudaryti apie pusę milijono spėjinių per sekund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 naudojant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y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kitus triukus, kuriuos mums atrodo kad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k m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ame sugalvoj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vyzdžiui: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daugelį filtrų, taiko perstatymus mėgindama atspėti slaptažodį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C34-C671-45AE-8E35-DEB6613144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laptažodžio nulaužimas (crac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efektyvesnė priemonė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ant slaptažodžius, nepadeda logino užrakinimas, nes vykdoma off-line principu. Programos dirba su tam tikrais dump failais, kurių išgavimas iš sistemos vykdomas naudojant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uferi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erpildy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takas prieš sisteminio lygio serverio proce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to tipo ataka reikalauja, kad atakuotojas turėtų tam tikr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iėji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ises sistemoje – tai gynyba ir susiveda į privilegijų bei teisių, kurias turi vartotojai valdy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čiau tokie įrankiai, kai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p0phtcrack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C3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Joh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The Ripp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darė slaptažodžių nulaužimo procesą labai trivialiu, todėl vartotojai turėtų naudoti tokius sunkiai nulaužiamus slaptažodžius, kuriuose būtų simbolia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"@&amp;#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7B3-8AA4-4811-9616-C9A2169267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  <a:ea typeface="Arial"/>
              </a:rPr>
              <a:t>password sniffin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tojas gali gaudyti slaptažodžius iš tink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 daroma su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ndows password hashe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lnet ses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HTT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formacija – kai ji keliauja nešifru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TP, e-mail PO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MAP prot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i taip pat nėra apsaugoti nuo šio tipo ata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saugai siūloma naudoti SSH vietoj Telnet, saugų FTP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O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mas nereikalauja aukštų privileginių teisių, normalus lokalaus administratoriaus loginas laptope gali būt pakank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49C-3A00-46DE-BD38-BC481C0AD1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žin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binacijas ir kitus duomenis iš daugelio(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tex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atviro kodo protokolų, tokių kaip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TP, Telnet, SMTP, HTTP, POP, poppass, NNTP, IMAP, SNMP, LDAP, Rlogin, RIP, OSPF, PPTP MS-CHAP, NFS, YP/NIS, SOCKS, X11, CVS, IRC, AIM, ICQ, Napster, PostgreSQL, Meeting Maker, Citrix ICA, Symantec pcAnywhere, NAI Sniffer, Microsoft SMB, Oracle SQL*Net, Sybase, and Microsoft SQ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A10-55B9-4CA6-87D7-0CFAEF42E3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psisaugoti nuo tokio tipo atakų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alauj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ė sąsa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btų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iscuo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modoj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eriui reikaling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’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isės slaptažodžių gaudy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isaugant reikės taip apsaugoti sistemą, kad hake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imti root’o teisi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e sumažina riziką, kadangi hakeris galės vogti –sniffinti tik vieną hostą iš kiekvieno sukompromituoto host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586-DE0D-4246-A22C-8D790562DF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laugi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siūl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mi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e gali būti pavogiami iš sistem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ik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yra tokio laipsnio, kokio laipsnio prieinamumu ta sistema pasižym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ti slaptažodžia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bū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odomi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viru tekst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nt specialius šiam tikslui skirtus įrankius ( jų paskirtis gali būti -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ui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e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siminti slaptažodžio po to kai nebenaudojo jo kelis mėnesiu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3A7-4E49-4E3C-8058-AA94D0D887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ų įsim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Jei juos užsirašote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 ir k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os užsirašo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siraš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 patį slaptažodį, o tik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zę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 padeda atsiminti slaptažodį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f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vo schemą slaptažodžiams įsimin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ABF-0772-41F2-8A20-3B8A243A4C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priemon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je reikia sukurti priimtiną 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ką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tes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 su slaptažodžių nulaužimo 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 įdiegti įrankius, kurie tikrina slaptažodžius, kai j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– Npassw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s kažk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keisti slaptažod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 kaupti se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A1C-0E55-4763-B76F-5F6FA46ACA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sistemų naudoja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hadow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, tai hakeriams teikia šiokių tokių sunkumų prieinant prie jų, nes slaptažodžiai yra šifruoti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NIS+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jei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nesaugi 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gai sukonfigūruota NIS+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tai pažeidžiamumas išlie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7E2-4C9E-4988-9FDC-47B76CAE0D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 ir id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etodai, kurie leidžia įsitikinti, kad vartotojas iš tikrųjų yra tuo, kuo prisistato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sutapatinimas, tapatybės nu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virti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tikrinimu pagrįsta id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, kad vartotojas galėtų pasiekti resursą, turi būti nustatyt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tai tikrai tas indiv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 jis prisistato, ar jis turi reikiamas liudijimus, ar jam bu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tos būtinos teisės/privileg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uos veiksmus, kurių jis užsipraš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0F5-C9F0-4694-9DF5-944952BF0B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995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Pluggable Authentication Modules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autentifikacinis  metodas, kuris duoda administratoriui galimybę valdyti vartotojų prisijungimus ir tai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jie save autentifikuo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stemos administratorius gali įjungti naujus autentifikavimo metodus instaliuodamas naujus PAM modulius ir keisti autentifikavimo politikas redaguodamas konfiguracinius fai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m sistema vartotoj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ų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entifikavimui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 leidžia naudoti 7 skirtingus būdu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/key, OPIE, opie_access, a cleartext password, Kerberos IV, Kerberos 5, and the traditional Unix password authentication system.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freebsd.org/doc/en_US.ISO8859-1/articles/pam/index.ht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onlamp.com/pub/a/bsd/2003/02/20/FreeBSD_Basic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D58-32BD-40C1-8ADD-527DB12626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-faktorė autentifik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e sistemose naudojama kelių autentifikavimo priemonių kombinacij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nė bankininkystė bei 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sl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 ar smart kortelė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šk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do savo token/smart kortel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jis vienas žino savo kortel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meto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 ką jūs turite ir tuo ką jūs žino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47B-8CB6-4230-876C-0F5351C6E7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entrinis serveris autentifikuoja vartotoją 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serveris bei “smart” kortelė–žino slaptą raktą, serveris gener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itikt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kaičių, jį šifruoja slapto rakto pagalba, “smart” kortelė žinodama slaptą raktą dešifruoja šį skaičių ir siun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g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sitiktinį skaičių, jei jis sutampa su sugeneruotu – vartotojas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ais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fikacija, kai iš vartotojo pusės taip pat generuojamas atsitiktinis skaičius, jis koduojamas ir siunčiamas serveriui kartu su dešifruotu skaičiumi, o serveris irgi turi gražinti dešifruotą skaičių – 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aip autentifikuojamas server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5BC-8CCA-497F-AC7A-64F6E061C1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 generuojam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te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s, arba vartotojui pateiki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ų slaptažodžių, kuriuos jis turi iš eilės 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trategija naudoti slaptažodį tik vieną kartą, tai jei jį sužinos,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oks slaptažodžių panaudojimas yra tikslingas Interneto kontek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A8C-F8D4-4B12-A1B9-5E2402BACF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aro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a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 slaptažodį įjungiama užšifruota laiko žymė (encrypted timestamp) – taip elgiamasi KERBEROS metode. Kadangi negalima pakeisti laiko žymės nežinant slaptažodžio, sunku juo pasinaudoti.  Šiam metodui deja reikalingi du dalyk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eciali klientinė programa, sugebanti į slaptažodį įjungta laiko žy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inga gera sinchronizacija tarp kliento ir serverio, priešingu atveju ateinantis slaptažodis bus arba jau negalimas arba dar negali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814-4CB0-4F12-A518-680BF0E68F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būdas padaryt tradicinius slaptažodžius vienkartiniais naudojant sistemą klausimas-atsakymas(challenge-response system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i autentifikuotam vartotojui būna iš anksto žinom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ai iš anksto duoda slaptažodžių sarašą, o jūs po prisijungimo paprašo įvesti n-tąjį skaiči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62E-9380-483C-9A27-AC2AEA6D1C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daž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ų seka, jie dažnai yra įdiegi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je. Naudojant vienkartinius slaptažodžius, kuriuos pateikia techninė įranga, gali kilti problemų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uotos laik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telės generuoja naują slaptažodį kiekvienu specifiniu laiko momentu, tą patį daro ir serveris. Reikalinga gera sinchronizacija su serverio laik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B24-4740-4E50-8DBC-B41D1EF7FA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metriniai įrank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turi būti identifikuojamas ne pagal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ką jis/ji žino”, bet pagal tai “ kas būdinga jam/j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ą įgalina padaryti biometrinė (biometric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ybė automatiškai atpažinti asmenį naudojant pirštų antspaudus, pagal veidą, akis, balsą, rankos geometriją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nį parašą ar spausdinimo manierą.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7FF-5755-4412-B00F-00C0D5ADBA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la, bet biometrinės sistemos vis dar netinka panaudojimui Interne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 daugiau šansų teikia technologija, pagrįsta “balso antspaudu” – kompiuteriai turi mikrofon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ai tarp klavišų paspaudimų gerai charakterizuoja individualią spausdinimo manier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C7E-F95B-40AB-A67E-FDD6F48B89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ai turi būti naudojami kiekvienam organizacijos kompiuteriui tikslu apsaugoti priėjimą prie BIOS konfigūracinių utilitų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vienam kompiute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uliariai juos kei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ų BIOS slaptažodžius reikia laikyti saugiame saraš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ems kompiuteriams turi būti nustatyta, kad jie pasikrautų tik iš kieto disk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patikrinti ar kartais negalima įeiti su backdoor slaptažodž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nės dėžes reikia užrakinti, užrakinti kambarius, kai nieko nėr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271-1265-4CD2-9BAD-C2449280BA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as remi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as būdinga individu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žino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tur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693-31E4-482D-9C83-BC9DE24604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prendžia kokius koki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r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ibutus gali naudot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os esyb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vyzdžiui vartotojai, aplikacijos, sistemos) kurios prieina prie informacijos šaltinio turi turėti atitink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s į šį resurs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reiškia leidim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8944-B6B8-4AC7-8C2D-3D304DC963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suteikia galimybę kontroliuoti vartotojų veiksm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turi būti paremta mažiausių privilegijų princip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igų atskyri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ks žmogus negali atlikti vienas viso proce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ėję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kaitomu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ministratoriaus log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99A-0678-4643-BCFB-42DBBB9778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ina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galimybė matyti resursą ir rinkti informaciją iš / apie šį resurs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yra galimybė naudo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kaci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eisti t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ūr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urti nauj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et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išmes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pakeisti resurso autoriza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1A2-BC02-4344-BB9A-8B71472D96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kompiuterinių sistemų yra sukonfigūruotos taip, kad jos naud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us kaip pir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intelę gynyb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psaugos lin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tojo autentifikacijos( procesas individo identiškumui patikrinti) schemoje yra naudojami vien ti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o prisijungimo vardas ir slaptažodi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oma prielaid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itinkamas vartotojas žin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, paremta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, ką jūs žino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C19-98EB-4E63-91FB-AC61742ECC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uv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eidžia laisvai prieiti prie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onfidencia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uomen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dažnai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engv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simenamą slaptažodį, - vardą, gim metus Gaila, tačiau tokie slaptažodžiai labai 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lauž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atspėjami) panaudojant specialias progr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vartotojas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dėti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į, jis dažnai j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siraš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ba sukuria komandinį failą, kad nereikėtų jo įvedinė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liekami siste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dieg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etu naudoti arba demonstracinėms versijoms taikytini slaptažodž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0C4-446A-439B-AE19-D040E6B605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ai  yra pažeidžiam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jie dažnai yra perduodami tinklu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tvir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ks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TELNET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esant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nkam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rsų kiekiui (žinių, įrankių, kompiuterinių pajėgumų) jie gali būti atspėti ir nulauž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grobti slaptažodžius keliaujančius tinklu pasinau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2C9-9E4E-4B24-AA3D-A6DA6E0323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žniausiai sutinkamos atakos, nukreiptos prieš slaptažodžius, t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o atspėjim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ute for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niff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E34-548E-470C-8973-FFC8EB26AD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kompromi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žiai vienas iš dažnai pasitaikančių sistemos pažeidžiamum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yra nerūpestingi su savo PIN, slaptažodžių politika yra sunkiai įdiegiama, atakuotojai turi daugybę įrankių, leidžiančių pažeisti slaptažodž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akuotojas, įgavęs slaptažodį įgyja ir vartotojo te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rganizacija turi šviesti, mokyti savo darbuotojus laikytis saugos politikos, o taip pat imtis tam tikrų priemonių apsisaugant prieš slaptažodių ata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5B6-E506-4A14-969D-5B21E0F7D2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Slaptažodž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laptažodžiai įvedami ranka arba naudojant programines priemones. Yra daug tokių programų, kurios yra įvairaus sudėtingumo, bandomi įvairūs variantai, remiamasi žodyn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gali būti atliekama prisijungus – on-line režime  arba dirbama su turimais duomenimis off-line – neprisijungus prie sist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F50-AED5-41BE-8F1F-83CB67AB51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8:06:56Z</dcterms:created>
  <dc:creator>Kristina</dc:creator>
  <dc:description/>
  <dc:language>en-US</dc:language>
  <cp:lastModifiedBy>Kristina</cp:lastModifiedBy>
  <dcterms:modified xsi:type="dcterms:W3CDTF">2004-09-15T08:15:08Z</dcterms:modified>
  <cp:revision>7</cp:revision>
  <dc:subject/>
  <dc:title>Slaptažodžiai</dc:title>
</cp:coreProperties>
</file>