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0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2198-908F-467B-B3CE-E90E54614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901A-FE3C-4A3C-86E8-2DCAE03BB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C46F-A8CB-4F32-95F3-3F05DD0C8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4E0C-8773-4AF3-8B68-B3793F305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015E-ED21-4E92-81A0-839E6572B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5185-52BE-419B-BEC7-725575CA1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03DD-4CCE-4665-A159-FE85A692E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7836-DDD0-4176-A9AE-7CC5AD59E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1DD5-30DA-4396-ADB0-9994A4A32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D2A3-C6D3-48D4-90E8-0B56CD284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4B2-9747-4B2F-9E1C-520B51C8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F04-2660-47CA-96E0-83DF30BE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108-EFBF-49F4-A9EC-36A8FA39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861-5F1D-454C-9990-4697C3DA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462-913A-4FF5-85C2-15C39467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D02-97D2-4F31-B610-BA11C17B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610-4840-47F5-9D0B-AD1116DF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76C-FA1E-4547-A566-71E7A966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75B-09AD-493B-86E3-22F14B1E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043-F3CC-4437-9B3A-33AD0F1F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C9F-2F78-492E-A17D-C9D68EDA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B5B-9B69-4F78-857E-587422FD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D6CE-AD8B-4324-9DE7-92F706038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67280" y="43430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1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1570572_loveyou_datori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41148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2EF-FF41-4731-904C-E8B8C9CFC0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pasirašytas dokumentas, pagal reikalą pa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skaitmeninis parašas, naudojant viešą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data ir laik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3C2-8A00-404C-B2FA-71C9CED057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raktu sena vers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žino atsitiktinį raktą k naudodamasis siuntėjo viešu ra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tai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katenacijai pranešimo ir rak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a rezultatą su atsiųsta kontroline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ataka – pranešimą galima perimti, sužinoti k, pakeisti pranešimą ir pasiųsti gavėjui, jis to nej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7DB-25CA-4010-9DFA-F0CEEFF56D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Monotype Corsiva"/>
              </a:rPr>
              <a:t>Gal bandyti tai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s atsitiktinį raktą naudodamas sa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tų 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taiky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ir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s gautą rezultatą su atsiųsta kontroline suma su praneš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ataka – perimamas pranešimas, pakeičiamas raktas, pranešimas ir siunčiama gavėj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724-FC0E-406A-9E01-27B94AEFEB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Arial Black"/>
              </a:rPr>
              <a:t> su rak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, s-priv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o k naudodamas siuntėjo viešą raktą ir gavėjo privat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bei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a rezultatą su atsiųsta kontroline su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ak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negali sužinoti k, nei jo pakei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nka, kai yra tik vienas gavė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2A1-8800-447E-A4B4-9C189EEAAF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su raktais 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E(MD5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, s-priv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ži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damas siuntėjo viešą rakt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k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nešim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lygina rezultatą su gauta kontroline suma praneš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-in-the middl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uotojas negali pakeisti pranešimo, nes kitas pranešimas duos kitą MD5(m) reikšmę, kurios nebus galima užšifr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64F-BC85-49E9-B736-E2B5BB3F07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dien auga skaičius aplikacijų, naudojančių saugius protokolus. Tai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er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ls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tancinis mok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C17-18D7-4052-9F83-89D83A128CC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2280" y="533160"/>
            <a:ext cx="7245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c0000"/>
                </a:solidFill>
                <a:latin typeface="Arial"/>
              </a:rPr>
              <a:t>Web </a:t>
            </a:r>
            <a:r>
              <a:rPr b="1" lang="lt-LT" sz="4000" spc="-1" strike="noStrike">
                <a:solidFill>
                  <a:srgbClr val="cc0000"/>
                </a:solidFill>
                <a:latin typeface="Arial"/>
              </a:rPr>
              <a:t>reikalavimai saug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2120" y="14479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Didėjantis komercinis bei profesinis panaudojimas kelia griežtesnius saugos reikalavimus web paslaug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apriboti priėjimą prie web puslapi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Reikalavimas 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autenti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fikuoti serverį iš kliento pusės bei klientą iš serverio pus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galėjimo patvirtinti šaltinį, vientisumą web puslapių, jų nepaneigiamumo (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non-repudiation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) tiks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turėti konfidencialius web persiunt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sa tai sukelia daug  saugos problemų, kurios sprendžiamos skirtingame lygy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AB1-E6CC-4EE7-A2B7-4BDE3748C2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TTP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ykdom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a saugie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siuntim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paprastai suka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4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or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ia serverio patikrinimą pagal sertifikat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naudoja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zuotą patikimą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šaltin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494-E250-4192-8611-A0F67F07FF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n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įtraukia šifravimą kaip aplikacinio lygio protokolo sudedamąją dal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ta šifravim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 dali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radus stipresniems šifravimo įrankiams reikia keisti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142-5C2C-40DA-9CD3-8073FF28A6B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2120" y="456840"/>
            <a:ext cx="7385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4000" spc="-1" strike="noStrike">
                <a:solidFill>
                  <a:srgbClr val="cf0e30"/>
                </a:solidFill>
                <a:latin typeface="Arial"/>
              </a:rPr>
              <a:t>augūs transporto kanala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1960" y="1980720"/>
            <a:ext cx="7034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Jie realizuojami naudojant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cure Socket Layer (SSL)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, pasiūlytą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Netscape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fikaciją tarp 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lient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 ir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rver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 naudojant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ešo rakt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šifravimą ir skaitmeninius pa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konfidencialum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Yra nepriklausomi nuo jokio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pl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in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proto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ol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5EA-D895-4A30-869E-3429C8B5A6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ui keliamas uždavinys – įsitikinti, kad esybė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i gali būti tiek klientai, tiek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o procesas yra nusakomas autentifikavimo protokol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8C7-C251-4801-9380-B2BF2254B1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84240" y="624852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5320" y="6248520"/>
            <a:ext cx="267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457200"/>
            <a:ext cx="3089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3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990720"/>
            <a:ext cx="8001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tokolas naudojas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nkų paspaud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ocedūra, kurios metu tiek klientas, tiek serveris tarpusavy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asiekia susitarimo dėl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lientui susijungus su serveriu, serveris pasiunč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ą,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tifika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lientui. Klientas patikrina sertifikatą naudodamasis patikimų sertifikatų saraš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klien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ner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metrinį raktą, kurį siunčia serveriui, užšifruotą serverio viešu raktu. Šis raktas panaudoja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ster rak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kančių duomenų konfidencial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būtinai, tačiau ir klientas gali būti server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tam ir klientas turi turėti raktų porą ir sertifika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769-0B10-4B63-9D87-DA2D67A55D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6500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7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uoda jokios autentifikacijos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web d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tiesiog saugus transpoto kana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Sockets Layer (S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–tai naujai įvedamas  lygis, kuris užtikrina saugų kanalą per TCP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L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transporto lygio saugos standartas, pagrįstas SSL.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port Layer Security IETF standard based on S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376-8909-4202-AB57-7BCC51A625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4120" y="1676520"/>
            <a:ext cx="2971800" cy="2743200"/>
            <a:chOff x="5334120" y="1676520"/>
            <a:chExt cx="2971800" cy="2743200"/>
          </a:xfrm>
        </p:grpSpPr>
        <p:sp>
          <p:nvSpPr>
            <p:cNvPr id="162" name=""/>
            <p:cNvSpPr/>
            <p:nvPr/>
          </p:nvSpPr>
          <p:spPr>
            <a:xfrm>
              <a:off x="533412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12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412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38080" y="1676520"/>
            <a:ext cx="2971800" cy="2743200"/>
            <a:chOff x="838080" y="1676520"/>
            <a:chExt cx="2971800" cy="2743200"/>
          </a:xfrm>
        </p:grpSpPr>
        <p:sp>
          <p:nvSpPr>
            <p:cNvPr id="167" name=""/>
            <p:cNvSpPr/>
            <p:nvPr/>
          </p:nvSpPr>
          <p:spPr>
            <a:xfrm>
              <a:off x="83808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2057400"/>
            <a:ext cx="152424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2666880"/>
            <a:ext cx="1524240" cy="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3352680"/>
            <a:ext cx="1524240" cy="0"/>
          </a:xfrm>
          <a:prstGeom prst="line">
            <a:avLst/>
          </a:prstGeom>
          <a:ln w="57240">
            <a:solidFill>
              <a:srgbClr val="cc66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4038480"/>
            <a:ext cx="1524240" cy="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4429080"/>
            <a:ext cx="4511880" cy="1057320"/>
          </a:xfrm>
          <a:custGeom>
            <a:avLst/>
            <a:gdLst/>
            <a:ahLst/>
            <a:rect l="l" t="t" r="r" b="b"/>
            <a:pathLst>
              <a:path w="2842" h="666">
                <a:moveTo>
                  <a:pt x="7" y="23"/>
                </a:moveTo>
                <a:lnTo>
                  <a:pt x="0" y="666"/>
                </a:lnTo>
                <a:lnTo>
                  <a:pt x="2842" y="666"/>
                </a:lnTo>
                <a:lnTo>
                  <a:pt x="2842" y="0"/>
                </a:ln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644-FD5E-47F0-A20F-941E7290C4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/TL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rival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epriklausomas nuo aplikacijų ly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traukia derybas, kurių metu yra susitariama dėl bendrų  šifravimo metodų, kurie bus naudojami perdavim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lengvai įjungti nauju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3A4-C01E-4E50-AED6-0A4DB90B9C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Sockets Layer (SSL) protoc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iai sukurtas Netscapui , SSL buvo visuotinai priimtas  World Wide Web autentifikacijai ir šifravimui komunikacijų, vykstančių tarp klientų ir serve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3733920"/>
            <a:ext cx="4952880" cy="24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C54-4F8F-4ECC-ACEE-D4170A8F6D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 funk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rverio 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vartotojui patvirtinti serverio identiškum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kliento autentifikaci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serveriui įsitikinti vartotojo identišku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as SSL ryšy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inform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 tarp kliento ir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uojama siunčiančios programinės įrangos ir dešifruojama priimančios programinės įrangos, tuo užtikrinant aukštą konfidencialumo lyg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F23-F782-41FD-9165-35BCFF1593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dar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sub-protokol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 įtraukia SSL įrašo (record) protokolą pasikeitimui eile pranešimų tarp SSL-palaikančio serverio ir SSL palaikančio kliento, kai jie pirmą kartą įkuria SSL ryš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 nusako formatą, kuris naudojamas duomenų perdavimu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A75-90DE-4101-8CDD-39363CF177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sijos vis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ideda apsikeitimu praneši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kirtas sekančių veiksmų palengvinimu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ient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klientui ir serveriu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rinkti šifr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us ar šifrus, kuriuos abu palaik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valoma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u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 viešų raktų šifravimo techniką generavimu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i naudojamų pasla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ared secr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kurti šifruotą SSL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AB58-0FAF-470A-BAF1-600CDB50E9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as 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r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naudojama ir viešo-rakto ir simetrinis šifravi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i ir serveriai gali palaik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u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nk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o protokolas apsprendžia, kaip serveris ir klien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šifravimo rinkinius jie naudos vienas ki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davimui,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steig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BEA-7B90-4979-A837-58A7F97E6F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udojami šifravimo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metrinis šifravimo algorit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tmeninio paraš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oritmas, dalis skaitmeninio autentifikav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da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ų pasikeitimo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Digest algorit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2 and RC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ravimo šifr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SA Data Secur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o rak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 skirtas šifravimui ir autentifikaci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key exchang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keit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-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h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JACK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metrinis algorit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783-7B88-46C7-9CE0-D9721957A8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o protokol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13560" y="1260360"/>
            <a:ext cx="2378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HK, SH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raktai, kurie žinomi abiem pusė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89880" y="2860560"/>
            <a:ext cx="245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vus šį pranešimą kliento identiškumas nėra ži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7800" y="3276720"/>
            <a:ext cx="144792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24180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klientas žino serverio identiškumą, nes jis iššifrav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191120"/>
            <a:ext cx="914400" cy="7596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89880" y="4765680"/>
            <a:ext cx="245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serveris žino kliento identiškumą, nes jis iššifrav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14640" y="4876560"/>
            <a:ext cx="114300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03680" y="5908680"/>
            <a:ext cx="34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ikeičiama naujais sesijos rakt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038480" y="5257440"/>
            <a:ext cx="533520" cy="7621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79640" y="2971800"/>
            <a:ext cx="64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Cli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79840" y="297180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Ser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200400"/>
            <a:ext cx="1800" cy="266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4520" y="3220920"/>
            <a:ext cx="1800" cy="2662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62240" y="3365640"/>
            <a:ext cx="2370240" cy="536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71680" y="3936960"/>
            <a:ext cx="2376720" cy="44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886600">
            <a:off x="3503880" y="502920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SK, 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2240" y="4411800"/>
            <a:ext cx="2376720" cy="522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13400" y="4902120"/>
            <a:ext cx="141120" cy="57240"/>
          </a:xfrm>
          <a:custGeom>
            <a:avLst/>
            <a:gdLst/>
            <a:ahLst/>
            <a:rect l="l" t="t" r="r" b="b"/>
            <a:pathLst>
              <a:path w="108" h="52">
                <a:moveTo>
                  <a:pt x="0" y="52"/>
                </a:moveTo>
                <a:lnTo>
                  <a:pt x="108" y="52"/>
                </a:lnTo>
                <a:lnTo>
                  <a:pt x="14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1680" y="4964040"/>
            <a:ext cx="237024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56120" y="5383080"/>
            <a:ext cx="141120" cy="61920"/>
          </a:xfrm>
          <a:custGeom>
            <a:avLst/>
            <a:gdLst/>
            <a:ahLst/>
            <a:rect l="l" t="t" r="r" b="b"/>
            <a:pathLst>
              <a:path w="108" h="56">
                <a:moveTo>
                  <a:pt x="94" y="0"/>
                </a:moveTo>
                <a:lnTo>
                  <a:pt x="0" y="51"/>
                </a:lnTo>
                <a:lnTo>
                  <a:pt x="108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56120" y="4349880"/>
            <a:ext cx="133200" cy="61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94" y="0"/>
                </a:moveTo>
                <a:lnTo>
                  <a:pt x="0" y="52"/>
                </a:lnTo>
                <a:lnTo>
                  <a:pt x="103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3875040"/>
            <a:ext cx="139680" cy="57240"/>
          </a:xfrm>
          <a:custGeom>
            <a:avLst/>
            <a:gdLst/>
            <a:ahLst/>
            <a:rect l="l" t="t" r="r" b="b"/>
            <a:pathLst>
              <a:path w="107" h="52">
                <a:moveTo>
                  <a:pt x="0" y="52"/>
                </a:moveTo>
                <a:lnTo>
                  <a:pt x="107" y="52"/>
                </a:lnTo>
                <a:lnTo>
                  <a:pt x="18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993400">
            <a:off x="3200400" y="396216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x+1, SHK), E(y,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739800">
            <a:off x="3733560" y="3428640"/>
            <a:ext cx="210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lientID, E(x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9800">
            <a:off x="3885840" y="457164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y+1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3A0-127A-4B00-9147-3CCF94088C7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ų pasikeitimo algoritma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A ir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ako 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s bei klientas nustat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ius rakt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abu naudos laike SSL ses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2.0 ir SSL 3.0 protokolai palaiko persidengiančius šifrų rinkinius. Administratoriai gali priimti ar atšaukti bet kurį iš palaikomų šifrų rinkinių klientuose ar serveryj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dentifiku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priausi gal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ų rink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turi bendrus ir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yr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j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3DF-F021-453F-84A5-28FFDCD215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L rankų paspaudimo žingsnia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unčia serveriui informaciją apie s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SSL versija, naudojami šifrai, atsitiktinai sugeneruotus duomeni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klientu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o SSL versija, šifrai, sertifikatas, atsitiktinai sugeneruotus duomenis ir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ndo autentifikuoti serverį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as pagal serverio sertifikatą bando autentifikuoti serverį, jei nepavyksta – sesija nesukuri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premaster secret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šifruoja tai su serverio viešu raktu ir pasiunčia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emaster secret” sukuriamas naudojantis visais sugeneruotais duomeni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E6F-87C2-4ECB-AB9E-DDC6A697A8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5.Jei serveris užprašė kliento autentifikavimo (tai nebūtinas žingsnis), ta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siunčia pasirašytus unikalius šiam rankų paspaudimui duomenis, žinomus abiem pusėm ir savo sertifikatą serveriui kartu su šifruotais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6.Server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jei reikia – autentifikuoja klientą, su savo slaptu raktu dešif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likdamas eilę žingsnių (juos atlieka ir klientas) sugene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master secre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AE1-AA03-4702-929B-06A716CB30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bu – tiek klientas, tiek 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 “master secret” sesijos raktų generavimui.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imetrin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uoja serverį, kad tolimesni kliento pranešimai bus šifruojami su sesijos raktu. Taip pat pasiunčiamas atskiras šifruotas pranešimas indikuojantis,  kad klientas baigė rankų paspau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ver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o tuo pač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rankų paspaudimas yra baigtas, prasided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j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k klientas, tiek serveris naudoja sesijos raktus siunčiamos informacijos  šifravimui-iššifravim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006-A896-4F38-9B42-97E11ECA03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o be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tam tikrų 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avimu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ą iš raktų: privatų-slaptą ir dešifravimu kit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as šifruoja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 serverio vieš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serveris nežino slapto rakto, jis negali iššifruo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ir sugeneruoti simetrinių raktų, reikalingų sesij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us duomenis su kliento privačiu raktu, tai yra jis sukuria skaitmeninį parašą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šas raktas kliento sertifikate gali patvirtinti paraš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0E0-6143-4EDF-9BCD-EB92A7AFEB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8DD-32F2-46B3-829E-D9D02C006E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scape serve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68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A27-1459-47FA-AF93-F0BBD2D677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-the-Middl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atikrinti serverio DN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na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realiu DN to serverio su kuriuo komunikuojama. Tai leidžia išveng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 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man in the middle"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kenkėjišk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, kuri per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unikacijas tarp kliento ir serverio, ji perima teisėtus raktus vykd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ų paspaudimą, įstato jų vieton 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r sukelia įvaizdį klientui, kad tai serveris, o serveriui, kad tai klie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0B7-C521-4EA4-9AE1-FEDFE0D9EF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šo rakto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gali Bobas patikimai perduoti viešą raktą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acin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las gali būti tok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šitokį protokolą bet kas gali būti Bob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4FF-9CDE-43B2-8047-EE965FD44C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tų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770-7403-4C34-BDC8-1502AC02BF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laikoma, kad abi pusės žino šifravimo rak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i klientinė pusė nežino raktų – reikia tam tikro būdo, kuris garantuotų pasikeitimo raktais saug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374-63CC-4660-B8BC-7145A7C7BB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9E8-DAC9-4890-9B1D-15925E8F290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ikeitimas slapta inform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2C2-A7AA-4038-87A5-D73939549B2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9F4-70AD-4750-9F64-9DA0361896E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ble[ {some message}secret-key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DB5-06A6-471D-B580-5DD8DC6E69C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authentication cod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,MAC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E80-8C51-4C3E-9032-1FBF2705403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-Secure Shell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H –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tanda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i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tolusiam prisijungimui per nesaugius tinkl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rmina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siją su stipr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viešo-rakto šifravimą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ja visus perduoda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slaptažodžius, failus, koman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214-0DD4-4AFD-BCAE-7C82604A4C3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dvi Secure Shell versijos SSH1 ir SSH2, kuri yra patobulinta saugos požiūriu. Jos nėra tarpusavyje suderinamos. SSH1 naudoti nerekomend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buvo sukurtas dviejų pagrindinių problemų išsprendimu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nutolusio terminalinio prisijungi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failų perd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taip pat 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et kokią TCP ses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uo šifruotu SSH kanalu.  Tuneliavimas leidžia apsaugoti kitų aplikacijų komunikavimą, nekeičiant pačių aplik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26C-34E3-43C3-ACFD-17858C9ED78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šifravimas, autentifik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stipriausius šifravimo algoritmus: 3DES, CAST-128, Twofish, A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DES algoritmas palaikomas, tačiau skaitomas nesaugi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yra kliento-serverio protokolas ir abu jie yra autentifikuoja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daro negalimu slaptažodžių perėmimą, todėl  galima saugi kliento autentifikacija, paremta slaptažodžiais, o pagal reikalą SSH2 gali įtraukti ir viešo-rakto autentifikaciją.(PKI ir sertifikat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AA7-3853-4A62-95F9-9A9589A9C87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verio auten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-in-the-middle” ataka. Apsaugai nuo tokio tipo atakų, serveris taip pat turi būti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turi viešą bei privatų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 paremta DSA arba RSA algorit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tentifikuojamas skaitmeninis paraš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ei nepalaikomi sertifikatai, tai klientas ieško viešo rakto patikimų serverių duomenų baz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B11-CB9C-409B-A4DE-41D2AE1D539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sprendžiamos saugumo probl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keičia nesaugų “TELNE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 paketų klastojimas (adreso pakeiti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NS paketų klastoji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uomenų klastojimas (įterpiant valdymo informaciją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X autentifikavim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laidinantys jungimaisi prie X11 serv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330-F817-42A7-B41C-F91345E27E5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imas šaltin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Kerbe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35040"/>
            <a:ext cx="8534520" cy="509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1800" y="17575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7560" y="1757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1800" y="2112840"/>
            <a:ext cx="180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1480" y="17352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45360" y="2090880"/>
            <a:ext cx="1800" cy="429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53040" y="2112840"/>
            <a:ext cx="144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1480" y="4203720"/>
            <a:ext cx="38354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94800" y="500364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8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800" y="3225960"/>
            <a:ext cx="38372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03560" y="402588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7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8800" y="2313000"/>
            <a:ext cx="3864240" cy="8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800" y="311472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42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53040" y="5114880"/>
            <a:ext cx="3836880" cy="86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53040" y="589428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56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817200">
            <a:off x="4497840" y="4209480"/>
            <a:ext cx="29160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A,T),K), 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900000">
            <a:off x="1270440" y="3727800"/>
            <a:ext cx="16693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0580000">
            <a:off x="5467680" y="5232240"/>
            <a:ext cx="98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T+1,K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960000">
            <a:off x="1401480" y="3347280"/>
            <a:ext cx="1736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B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640000">
            <a:off x="2057040" y="2439720"/>
            <a:ext cx="48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752480"/>
            <a:ext cx="335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dalinasi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A,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tačia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, 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7524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š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rakto komunikavimui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438280"/>
            <a:ext cx="3808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atsako užkoduodamas sesijos raktą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ir 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timestamp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T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 ir galiojimo laikas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gali iššifruoti antr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neš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5800" y="3352680"/>
            <a:ext cx="685800" cy="1371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371600" y="4038120"/>
            <a:ext cx="685800" cy="213372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048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400" spc="-1" strike="noStrike">
                <a:solidFill>
                  <a:srgbClr val="808080"/>
                </a:solidFill>
                <a:latin typeface="Times New Roman"/>
              </a:rPr>
              <a:t>patvirtina, kad jis žino raktą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505320"/>
            <a:ext cx="76320" cy="53316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886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ersiunčia iš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086240" y="4267080"/>
            <a:ext cx="1522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7913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atvirtina kad jis gali iššifruoti pranešimą iš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95520" y="5486400"/>
            <a:ext cx="22860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649-5481-4C32-B138-851767EE62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ai rinkinys standar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užtikrinanč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unikavimą IP tinkluose. Šis protokolas palengvina tiesiogius IP susijungimus tarp jautrių hostų per nesaugius tinklus(VPN pagrind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augo vartotojus, kurie nori saugių ryšių ir saugos sumetimais yra varžomi įprastinio nesaugaus ryšio Intern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ti paketai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okie kaip ir įpra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P paketai, jie lengvai maršrutizuojami, nereikalauja pakeitimų tarptinklini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 galiniai komunikavimo taškai žino apie šifr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 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vybė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unikacijų sauga remiasi šifravimais, o ne IP adresais, kurie gali būti pakeičia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Atskirtas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fikavimas ir konfidencialumo tikrinimas, leidžia platesnį pritai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Raktų valdymo protokolas atskirtas nuo IP security protok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Taikomas tiek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 IPv4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, tiek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v4 neturi įjungto informacijos saugos mechanizmo – saugos funkcijas nusako IPSec standart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Sec protokolą sud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KE (Internet Key Exchange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H (Authentication Header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SP (Encapsulation Security Payload) protoko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5CD-BB9E-4AF6-9F07-33635417204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Naudojamas ryšio sukūrimo pirmame etape, kai šalys susitaria dėl šifravimo metodų, raktų bei kitų duomenų, kuriuos naudos sukuriant apsaugotą ryšio seansą –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ukuriant saugos asociaciją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– tai kombinacija ISAKM bei Qakley protoko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SAKM – nusako formatus paketams, kurie naudojami sukuriant ir valdant apsaugotus ryši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Qakley – pasikeitimo raktais protokol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protokolas nepriklauso nuo šifravimo algoritmų, naudojamų autentifikacijai bei duomenų šifravimu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IKE nusako apibendrintą saugaus informacijos pasikeitimo procedūr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A55-8C48-4EEC-8E9B-B2530E86250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500" spc="-1" strike="noStrike">
                <a:solidFill>
                  <a:srgbClr val="000000"/>
                </a:solidFill>
                <a:latin typeface="Times New Roman"/>
              </a:rPr>
              <a:t>Visi apsaugoti ryšiai yra vienos krypties</a:t>
            </a: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Apsaugoti ryšiai pasižymi šiom savybėm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Šifravimo algoritmai, kurie reikalingi seanso metu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ai, kuriais pasikeičiama seanso pradžioj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ų keitimo dažn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aus ryšio “gyvavimo laikas”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yšio iniciatoriaus adres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os parametro indeksas (Security Parameter Index -SPI ) – tai saugaus ryšio unikalus identifikatoriu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778-7293-44ED-9508-6184F88C854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E gali sukurti apsaugotą ryšį – saugos asociaciją dviem režim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grindiniu bei agresy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rindinio režimo atveju IKE sukuria apsaugotą ryšio kanalą , kuris naudojamas deryb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icijuojantis mazgas siunčia sarašą siūlomų ryšio parametrų, tokių kaip šifravimo bei hash f-jos skaičiavimo algoritmai, autentifikavimo metodai, reikalavimai įjungti AH bei ESP protokolus ir t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šalys tikrina abipusę autentifikaciją naudodamos viešų raktų technologiją bei sertifik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CD2-78F1-4FEC-9934-991B9F8E546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gresyv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ežimo atveju reikia mažesnio skaičiaus pasikeitimų informacija, tačiau kiekviename pasikeitime naudojama daugiau duomenų. Sauga realizuojama ne taip kruopšč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pradinio (pagrindinio ar agresyvaus ) režimo protokolas pereina prie greito režimo (quick mode), kurio metu nustatomi įtrauktų tarnybų parametrai bei generuojami sesijos raktai. Šio režimo metu paketai jau keliauja šifruoti. Sukuriami du saugos ryš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E7A-C170-4DF6-AE47-36CD8328448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augos asociacijos</a:t>
            </a: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Jos sukuriamos veikiant raktų pasikeitimo protokol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binacija saugos parametro indekso(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Security Parameter Index (SPI) 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) ir paskirties adreso vienareikšmiškai nusako atitinkamą saugos asociacij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ugos asoci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ugos asociacijos parametrai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fikacini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 ir moda, naudojama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Šifravimo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o mod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in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cializacijos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ve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tor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u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transfor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cijos, naudojamo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(raktai) ir raktų gyvavimo laikas, taikant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r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s asociacijos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acinis algoritmas, kuris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(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jei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mų duomenų jautrumo ly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gos asociacijos yra vienos kryp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asocia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 saugos asociacija gali teikti arba šifravimą, arba vientisumo kontrolę, arba autentifikavimą arbaviską kartu – tai nusakoma atitinkamom opcijom, kuriant asociacijas. SA vienareikšmiškai apibūdinama SPI bei paskirties 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sistema siunčia paketą, kuriam reikia IPSec apsaugos, ji peržiūri SA duomenų bazę ir pritaiko atitinkamą saugos servisą bei įjungia SPI į IPSec galvut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us tokį paketą, patikrinama DB ir pagal SPI procesas atkartoj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E41-0B37-409E-8D78-697154096BE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audojamas kaip sesijos raktas šifruojant pag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ikeitimas raktu yra surištas su patikimu šaltin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F48-B981-4F14-A3A4-BED58CB4C3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hentication Header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– galvutės autentifikavimo protokolas. Jo pagrindinis tikslas – užtikrinti duomen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leidžia aptikti informacijos pakitimus paketo galvutėje ir autentifikuoti paketo siuntėją bei užtikrina persiuntimų vientis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galvutė įdedama tarp IP (IPv4) bei TCP /UDP galvučių. Galvutė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I indeksas – unikaliai identifikacija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ilės numer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tentifikavimo duomenys – skaitmeninis paraš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BB6-57A0-4326-B34B-3AA52F845E8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Authentication Header (A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62120" y="1447920"/>
            <a:ext cx="4038480" cy="1980720"/>
            <a:chOff x="762120" y="1447920"/>
            <a:chExt cx="4038480" cy="1980720"/>
          </a:xfrm>
        </p:grpSpPr>
        <p:sp>
          <p:nvSpPr>
            <p:cNvPr id="252" name=""/>
            <p:cNvSpPr/>
            <p:nvPr/>
          </p:nvSpPr>
          <p:spPr>
            <a:xfrm>
              <a:off x="768240" y="1454400"/>
              <a:ext cx="4025880" cy="197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19062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120" y="23648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1880" y="1522440"/>
              <a:ext cx="60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61040" y="152244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1960" y="198108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36640" y="2745720"/>
              <a:ext cx="1957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029200" y="1279440"/>
            <a:ext cx="401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SPI + destination address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pibrėžia saugos asociaciją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(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utentifikacinių duomenų struktūr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960" y="3641760"/>
            <a:ext cx="8093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ikomas raktu pagrįs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MD5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m tikriems IP galvutės lauk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audojamas slaptas raktas, kuriuo dalijasi galiniai komunikavimo ta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556272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egalimumas paneigti yra garantuojamas, jei AH yra naudojamas kartu su asimetriniais algoritmais (skaitmeniniais paraša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SP protokolas- tai saugaus turinio uždarymo protoko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tagra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entis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vyk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os duomen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as dirba dviejuose režimuose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ansportiniame bei tuneli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inio režimo atveju šis protokolas apsaugo duomenis ir aukštesnio lygio protokolų (tokių kaip TCP) galvutes. Nerealizuojama IP galvutės apsau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C44-F677-4212-9403-291A75209CC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nis darbo rež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nauja ryšiui tarp dviejų vartų, kai tuo tarpu transporto režimas naudojamas ryšiui hostas-hostas arba hostas-vart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režimo atveju visa IP datagrama talpinama į vidų ESP paketo, o jo galvutėje rašomi tik vartų adres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eji galutinių taškų adresai yra užšifr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nt didesnę kanalo saugą, abu protokolai taikomi kartu – tai garantuoja tiek autentifikaciją, tiek konfidencialumą, tiek perdavim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B17-0841-4122-9EA7-65B898654C4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2208240"/>
            <a:ext cx="7924680" cy="839880"/>
            <a:chOff x="762120" y="2208240"/>
            <a:chExt cx="7924680" cy="839880"/>
          </a:xfrm>
        </p:grpSpPr>
        <p:sp>
          <p:nvSpPr>
            <p:cNvPr id="270" name=""/>
            <p:cNvSpPr/>
            <p:nvPr/>
          </p:nvSpPr>
          <p:spPr>
            <a:xfrm>
              <a:off x="768240" y="2597040"/>
              <a:ext cx="79120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8560" y="2665440"/>
              <a:ext cx="109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574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71600" y="2665440"/>
              <a:ext cx="1762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ther IP Hea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51960" y="2665440"/>
              <a:ext cx="131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S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09000" y="2665440"/>
              <a:ext cx="151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ypte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868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2362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625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483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1000" y="2362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3840" y="2208240"/>
              <a:ext cx="66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27400" y="220824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70680" y="1538280"/>
            <a:ext cx="646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IP datagram with encrypted por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1040" y="3595680"/>
            <a:ext cx="231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ESP Hea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62120" y="4349880"/>
            <a:ext cx="4724280" cy="1282680"/>
            <a:chOff x="762120" y="4349880"/>
            <a:chExt cx="4724280" cy="1282680"/>
          </a:xfrm>
        </p:grpSpPr>
        <p:sp>
          <p:nvSpPr>
            <p:cNvPr id="290" name=""/>
            <p:cNvSpPr/>
            <p:nvPr/>
          </p:nvSpPr>
          <p:spPr>
            <a:xfrm>
              <a:off x="768240" y="4349880"/>
              <a:ext cx="471168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120" y="4876920"/>
              <a:ext cx="472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08760" y="44179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9320" y="5103720"/>
              <a:ext cx="3704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paque transform data, variable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8880" y="1355760"/>
            <a:ext cx="552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Must-implement for ESP is DES-C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62120" y="2286000"/>
            <a:ext cx="7407720" cy="2743200"/>
            <a:chOff x="762120" y="2286000"/>
            <a:chExt cx="7407720" cy="2743200"/>
          </a:xfrm>
        </p:grpSpPr>
        <p:sp>
          <p:nvSpPr>
            <p:cNvPr id="297" name=""/>
            <p:cNvSpPr/>
            <p:nvPr/>
          </p:nvSpPr>
          <p:spPr>
            <a:xfrm>
              <a:off x="762120" y="2286000"/>
              <a:ext cx="6159240" cy="273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281952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365760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449568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4560" y="23605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4360" y="3046320"/>
              <a:ext cx="22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itialization Vector (I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56320" y="388476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12960" y="4570560"/>
              <a:ext cx="93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47040" y="4570560"/>
              <a:ext cx="122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18280" y="4570560"/>
              <a:ext cx="142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148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8620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86600" y="2819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86600" y="50292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91520" y="2819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1520" y="42670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70400" y="373212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5920" y="533520"/>
            <a:ext cx="7371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H and ESP Layering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1120" y="1927080"/>
            <a:ext cx="1089000" cy="378000"/>
            <a:chOff x="681120" y="1927080"/>
            <a:chExt cx="1089000" cy="378000"/>
          </a:xfrm>
        </p:grpSpPr>
        <p:sp>
          <p:nvSpPr>
            <p:cNvPr id="316" name=""/>
            <p:cNvSpPr/>
            <p:nvPr/>
          </p:nvSpPr>
          <p:spPr>
            <a:xfrm>
              <a:off x="681120" y="192708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3760" y="19537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778040" y="1925640"/>
            <a:ext cx="93816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21040" y="195912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700360" y="1927080"/>
            <a:ext cx="1865160" cy="378000"/>
            <a:chOff x="2700360" y="1927080"/>
            <a:chExt cx="1865160" cy="378000"/>
          </a:xfrm>
        </p:grpSpPr>
        <p:sp>
          <p:nvSpPr>
            <p:cNvPr id="321" name=""/>
            <p:cNvSpPr/>
            <p:nvPr/>
          </p:nvSpPr>
          <p:spPr>
            <a:xfrm>
              <a:off x="2700360" y="1927080"/>
              <a:ext cx="18651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32920" y="19537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81120" y="2557440"/>
            <a:ext cx="3920760" cy="387360"/>
            <a:chOff x="681120" y="2557440"/>
            <a:chExt cx="3920760" cy="387360"/>
          </a:xfrm>
        </p:grpSpPr>
        <p:grpSp>
          <p:nvGrpSpPr>
            <p:cNvPr id="324" name=""/>
            <p:cNvGrpSpPr/>
            <p:nvPr/>
          </p:nvGrpSpPr>
          <p:grpSpPr>
            <a:xfrm>
              <a:off x="681120" y="2560680"/>
              <a:ext cx="1089000" cy="379440"/>
              <a:chOff x="681120" y="2560680"/>
              <a:chExt cx="1089000" cy="379440"/>
            </a:xfrm>
          </p:grpSpPr>
          <p:sp>
            <p:nvSpPr>
              <p:cNvPr id="325" name=""/>
              <p:cNvSpPr/>
              <p:nvPr/>
            </p:nvSpPr>
            <p:spPr>
              <a:xfrm>
                <a:off x="681120" y="256068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4120" y="258768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736000" y="2559240"/>
              <a:ext cx="1865880" cy="380880"/>
              <a:chOff x="2736000" y="2559240"/>
              <a:chExt cx="1865880" cy="380880"/>
            </a:xfrm>
          </p:grpSpPr>
          <p:sp>
            <p:nvSpPr>
              <p:cNvPr id="328" name=""/>
              <p:cNvSpPr/>
              <p:nvPr/>
            </p:nvSpPr>
            <p:spPr>
              <a:xfrm>
                <a:off x="2736000" y="2559240"/>
                <a:ext cx="186588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69640" y="25862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787760" y="2557440"/>
              <a:ext cx="934920" cy="387360"/>
              <a:chOff x="1787760" y="2557440"/>
              <a:chExt cx="934920" cy="387360"/>
            </a:xfrm>
          </p:grpSpPr>
          <p:sp>
            <p:nvSpPr>
              <p:cNvPr id="331" name=""/>
              <p:cNvSpPr/>
              <p:nvPr/>
            </p:nvSpPr>
            <p:spPr>
              <a:xfrm>
                <a:off x="1787760" y="25574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20680" y="259416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681120" y="3176640"/>
            <a:ext cx="4841280" cy="387360"/>
            <a:chOff x="681120" y="3176640"/>
            <a:chExt cx="4841280" cy="387360"/>
          </a:xfrm>
        </p:grpSpPr>
        <p:grpSp>
          <p:nvGrpSpPr>
            <p:cNvPr id="334" name=""/>
            <p:cNvGrpSpPr/>
            <p:nvPr/>
          </p:nvGrpSpPr>
          <p:grpSpPr>
            <a:xfrm>
              <a:off x="1785600" y="3176640"/>
              <a:ext cx="936720" cy="387360"/>
              <a:chOff x="1785600" y="3176640"/>
              <a:chExt cx="936720" cy="387360"/>
            </a:xfrm>
          </p:grpSpPr>
          <p:sp>
            <p:nvSpPr>
              <p:cNvPr id="335" name=""/>
              <p:cNvSpPr/>
              <p:nvPr/>
            </p:nvSpPr>
            <p:spPr>
              <a:xfrm>
                <a:off x="1785600" y="3176640"/>
                <a:ext cx="936720" cy="387360"/>
              </a:xfrm>
              <a:prstGeom prst="rect">
                <a:avLst/>
              </a:prstGeom>
              <a:solidFill>
                <a:srgbClr val="ff500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02680" y="3211920"/>
                <a:ext cx="4276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81120" y="3176640"/>
              <a:ext cx="1088640" cy="387360"/>
              <a:chOff x="681120" y="3176640"/>
              <a:chExt cx="1088640" cy="387360"/>
            </a:xfrm>
          </p:grpSpPr>
          <p:sp>
            <p:nvSpPr>
              <p:cNvPr id="338" name=""/>
              <p:cNvSpPr/>
              <p:nvPr/>
            </p:nvSpPr>
            <p:spPr>
              <a:xfrm>
                <a:off x="681120" y="3176640"/>
                <a:ext cx="1088640" cy="38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4120" y="32054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656520" y="3178440"/>
              <a:ext cx="1865880" cy="385560"/>
              <a:chOff x="3656520" y="3178440"/>
              <a:chExt cx="1865880" cy="385560"/>
            </a:xfrm>
          </p:grpSpPr>
          <p:sp>
            <p:nvSpPr>
              <p:cNvPr id="341" name=""/>
              <p:cNvSpPr/>
              <p:nvPr/>
            </p:nvSpPr>
            <p:spPr>
              <a:xfrm>
                <a:off x="3656520" y="3178440"/>
                <a:ext cx="1865880" cy="385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890160" y="320688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708640" y="3176640"/>
              <a:ext cx="934920" cy="387360"/>
              <a:chOff x="2708640" y="3176640"/>
              <a:chExt cx="934920" cy="387360"/>
            </a:xfrm>
          </p:grpSpPr>
          <p:sp>
            <p:nvSpPr>
              <p:cNvPr id="344" name=""/>
              <p:cNvSpPr/>
              <p:nvPr/>
            </p:nvSpPr>
            <p:spPr>
              <a:xfrm>
                <a:off x="2708640" y="31766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1560" y="321192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681120" y="4586400"/>
            <a:ext cx="5022360" cy="379440"/>
            <a:chOff x="681120" y="4586400"/>
            <a:chExt cx="5022360" cy="379440"/>
          </a:xfrm>
        </p:grpSpPr>
        <p:grpSp>
          <p:nvGrpSpPr>
            <p:cNvPr id="347" name=""/>
            <p:cNvGrpSpPr/>
            <p:nvPr/>
          </p:nvGrpSpPr>
          <p:grpSpPr>
            <a:xfrm>
              <a:off x="2741760" y="4586400"/>
              <a:ext cx="1089360" cy="379440"/>
              <a:chOff x="2741760" y="4586400"/>
              <a:chExt cx="1089360" cy="379440"/>
            </a:xfrm>
          </p:grpSpPr>
          <p:sp>
            <p:nvSpPr>
              <p:cNvPr id="348" name=""/>
              <p:cNvSpPr/>
              <p:nvPr/>
            </p:nvSpPr>
            <p:spPr>
              <a:xfrm>
                <a:off x="2741760" y="4586400"/>
                <a:ext cx="108936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936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837600" y="4586400"/>
              <a:ext cx="1865880" cy="379440"/>
              <a:chOff x="3837600" y="4586400"/>
              <a:chExt cx="1865880" cy="379440"/>
            </a:xfrm>
          </p:grpSpPr>
          <p:sp>
            <p:nvSpPr>
              <p:cNvPr id="351" name=""/>
              <p:cNvSpPr/>
              <p:nvPr/>
            </p:nvSpPr>
            <p:spPr>
              <a:xfrm>
                <a:off x="3837600" y="4586400"/>
                <a:ext cx="186588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071240" y="46130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776600" y="4587480"/>
              <a:ext cx="936720" cy="37800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19240" y="4619160"/>
              <a:ext cx="53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81120" y="4586400"/>
              <a:ext cx="1089000" cy="379440"/>
              <a:chOff x="681120" y="4586400"/>
              <a:chExt cx="1089000" cy="379440"/>
            </a:xfrm>
          </p:grpSpPr>
          <p:sp>
            <p:nvSpPr>
              <p:cNvPr id="356" name=""/>
              <p:cNvSpPr/>
              <p:nvPr/>
            </p:nvSpPr>
            <p:spPr>
              <a:xfrm>
                <a:off x="681120" y="458640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344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2743200" y="6032520"/>
            <a:ext cx="1089000" cy="380880"/>
            <a:chOff x="2743200" y="6032520"/>
            <a:chExt cx="1089000" cy="380880"/>
          </a:xfrm>
        </p:grpSpPr>
        <p:sp>
          <p:nvSpPr>
            <p:cNvPr id="359" name=""/>
            <p:cNvSpPr/>
            <p:nvPr/>
          </p:nvSpPr>
          <p:spPr>
            <a:xfrm>
              <a:off x="2743200" y="603252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84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18160" y="6033960"/>
            <a:ext cx="1866960" cy="379440"/>
            <a:chOff x="4718160" y="6033960"/>
            <a:chExt cx="1866960" cy="379440"/>
          </a:xfrm>
        </p:grpSpPr>
        <p:sp>
          <p:nvSpPr>
            <p:cNvPr id="362" name=""/>
            <p:cNvSpPr/>
            <p:nvPr/>
          </p:nvSpPr>
          <p:spPr>
            <a:xfrm>
              <a:off x="4718160" y="6033960"/>
              <a:ext cx="186696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50720" y="60595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776240" y="6032520"/>
            <a:ext cx="938520" cy="380880"/>
          </a:xfrm>
          <a:prstGeom prst="rect">
            <a:avLst/>
          </a:prstGeom>
          <a:solidFill>
            <a:srgbClr val="d931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19240" y="6066000"/>
            <a:ext cx="53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81120" y="6033960"/>
            <a:ext cx="1089000" cy="379440"/>
            <a:chOff x="681120" y="6033960"/>
            <a:chExt cx="1089000" cy="379440"/>
          </a:xfrm>
        </p:grpSpPr>
        <p:sp>
          <p:nvSpPr>
            <p:cNvPr id="367" name=""/>
            <p:cNvSpPr/>
            <p:nvPr/>
          </p:nvSpPr>
          <p:spPr>
            <a:xfrm>
              <a:off x="681120" y="603396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376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822840" y="6033960"/>
            <a:ext cx="93492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62240" y="60660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743200" y="5418000"/>
            <a:ext cx="1089000" cy="379440"/>
            <a:chOff x="2743200" y="5418000"/>
            <a:chExt cx="1089000" cy="379440"/>
          </a:xfrm>
        </p:grpSpPr>
        <p:sp>
          <p:nvSpPr>
            <p:cNvPr id="372" name=""/>
            <p:cNvSpPr/>
            <p:nvPr/>
          </p:nvSpPr>
          <p:spPr>
            <a:xfrm>
              <a:off x="2743200" y="541800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96200" y="544464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776840" y="5418000"/>
            <a:ext cx="1866960" cy="378000"/>
            <a:chOff x="4776840" y="5418000"/>
            <a:chExt cx="1866960" cy="378000"/>
          </a:xfrm>
        </p:grpSpPr>
        <p:sp>
          <p:nvSpPr>
            <p:cNvPr id="375" name=""/>
            <p:cNvSpPr/>
            <p:nvPr/>
          </p:nvSpPr>
          <p:spPr>
            <a:xfrm>
              <a:off x="4776840" y="5418000"/>
              <a:ext cx="18669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09760" y="544284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44800" y="5418000"/>
            <a:ext cx="936720" cy="379440"/>
            <a:chOff x="3844800" y="5418000"/>
            <a:chExt cx="936720" cy="379440"/>
          </a:xfrm>
        </p:grpSpPr>
        <p:sp>
          <p:nvSpPr>
            <p:cNvPr id="378" name=""/>
            <p:cNvSpPr/>
            <p:nvPr/>
          </p:nvSpPr>
          <p:spPr>
            <a:xfrm>
              <a:off x="3844800" y="5418000"/>
              <a:ext cx="936720" cy="37944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86360" y="5450760"/>
              <a:ext cx="53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36560" y="5418000"/>
            <a:ext cx="1089000" cy="378000"/>
            <a:chOff x="736560" y="5418000"/>
            <a:chExt cx="1089000" cy="378000"/>
          </a:xfrm>
        </p:grpSpPr>
        <p:sp>
          <p:nvSpPr>
            <p:cNvPr id="381" name=""/>
            <p:cNvSpPr/>
            <p:nvPr/>
          </p:nvSpPr>
          <p:spPr>
            <a:xfrm>
              <a:off x="736560" y="541800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89200" y="545580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805040" y="5418000"/>
            <a:ext cx="936360" cy="378000"/>
            <a:chOff x="1805040" y="5418000"/>
            <a:chExt cx="936360" cy="378000"/>
          </a:xfrm>
        </p:grpSpPr>
        <p:sp>
          <p:nvSpPr>
            <p:cNvPr id="384" name=""/>
            <p:cNvSpPr/>
            <p:nvPr/>
          </p:nvSpPr>
          <p:spPr>
            <a:xfrm>
              <a:off x="1805040" y="5418000"/>
              <a:ext cx="936360" cy="37800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46240" y="5449320"/>
              <a:ext cx="428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058800" y="262404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ansport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27800" y="4221000"/>
            <a:ext cx="206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unne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81120" y="4022640"/>
            <a:ext cx="5022360" cy="387360"/>
            <a:chOff x="681120" y="4022640"/>
            <a:chExt cx="5022360" cy="387360"/>
          </a:xfrm>
        </p:grpSpPr>
        <p:sp>
          <p:nvSpPr>
            <p:cNvPr id="389" name=""/>
            <p:cNvSpPr/>
            <p:nvPr/>
          </p:nvSpPr>
          <p:spPr>
            <a:xfrm>
              <a:off x="2742120" y="402768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9404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37600" y="4027680"/>
              <a:ext cx="18658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71240" y="4054320"/>
              <a:ext cx="14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20" y="4027680"/>
              <a:ext cx="108936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448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86320" y="4022640"/>
              <a:ext cx="936720" cy="38736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03400" y="4057560"/>
              <a:ext cx="427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7175520" y="566568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A14-97A4-45AF-B448-DA5F35F0738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neliavimo moda naudojama kai palaikomas ryšys – maršrutizatorius – maršrutizatorius – šifruojamas visas IP paketas, net ir IP galvut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o moda – palaiko ryšį hostas-hostas. Tinkliniams įrenginiams leidžia matyti tiek šaltinio, tiek paskirties taško IP adresus – IP galvutė nešifruota – šifruojama nuo traansporto galvutės. Gali būti naudojama tuo atveju, kai abu hostai palaiko IPSe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28D-5BF7-44C0-A46C-A28D3E7AF31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file1598206_datori2" descr=""/>
          <p:cNvPicPr/>
          <p:nvPr/>
        </p:nvPicPr>
        <p:blipFill>
          <a:blip r:embed="rId1"/>
          <a:stretch/>
        </p:blipFill>
        <p:spPr>
          <a:xfrm>
            <a:off x="990720" y="1184400"/>
            <a:ext cx="7086600" cy="50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DBD-1FDE-46A8-8339-24DD52F5322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00200" y="1828800"/>
            <a:ext cx="481824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080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616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2240" y="2576520"/>
            <a:ext cx="180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96160" y="2576520"/>
            <a:ext cx="144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2480" y="2936880"/>
            <a:ext cx="3943440" cy="9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6160" y="3805200"/>
            <a:ext cx="239760" cy="11916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9" y="0"/>
                </a:moveTo>
                <a:lnTo>
                  <a:pt x="151" y="75"/>
                </a:lnTo>
                <a:lnTo>
                  <a:pt x="0" y="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022480" y="3954600"/>
            <a:ext cx="3943440" cy="9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22480" y="4822920"/>
            <a:ext cx="239760" cy="11880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51" y="75"/>
                </a:moveTo>
                <a:lnTo>
                  <a:pt x="0" y="75"/>
                </a:lnTo>
                <a:lnTo>
                  <a:pt x="1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840000">
            <a:off x="4531680" y="326556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840000">
            <a:off x="2932560" y="2952720"/>
            <a:ext cx="216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(x, Public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820000">
            <a:off x="3779640" y="40762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, pagrįsta viešais rakta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03D-12BF-425B-801F-F874CD411A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ranešimo vientisumą užtikrinantys protokol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kaitmeniniai parašai sudaromi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šifravimo metodą – tai asimetrinis algoritmas, naudojantis du raktus:slaptą bei vieš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varbia problema yra pranešimo vientisumo užtikrinimas – pranešimas pakeliui nėra modifik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rašoma, naudoja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tų raktą ir tikrinama taikant viešą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04E-5939-465C-BD43-7597CB5EDCF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jama pasirašomo dokumento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šifruojama kontrolinė suma, data, laikas ir kita informacija 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e dokumento pridedamas paraš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ma užšifruoti pasirašytą dokumentą dar ir su gavėjo viešu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E6D-39B8-490F-8181-E2E9681E72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2:44:38Z</dcterms:created>
  <dc:creator>Kristina</dc:creator>
  <dc:description/>
  <dc:language>en-US</dc:language>
  <cp:lastModifiedBy>Kristina</cp:lastModifiedBy>
  <dcterms:modified xsi:type="dcterms:W3CDTF">2004-11-24T07:47:26Z</dcterms:modified>
  <cp:revision>19</cp:revision>
  <dc:subject/>
  <dc:title>11 paskaita</dc:title>
</cp:coreProperties>
</file>