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16CB-536C-4AFF-9BD6-6EF0B8A4B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6C98-7879-49A3-9924-B6CEB6EE6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1CC1-2A4C-4FD7-98A8-13ED15EE2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6B67-BBB9-427F-82A0-C89C77FEF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80A0-0AC6-42D9-A037-CBF371B99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7831-4DBB-4272-84BF-798CD8F3D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DA63-5F08-455E-AB66-AA3581B90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59D7-B9FC-4EFD-A12D-67E4B456E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B9D7-74AC-4B61-B852-50E33E835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2EEA-B944-499B-9CF4-FC3828A85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76F7-8D74-4476-B247-67084A621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6CC8-09A4-469E-9ADE-22F307B23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8FAB-A035-4E0F-A0A8-E34F1F87CAFD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Operatorių perkrov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Laikini grąžinami kintamiej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Skirtumas tarp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left.i + right.i);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tmp(left.i + right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mp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apibrėž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u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 ) [ ] –&gt; –&gt;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rivalo būti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= –= /= *= ^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= |= %= &gt;&gt;= &lt;&lt;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kiti bi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ip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riend 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cijo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2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 kas kita, kaip globali f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krauti operatorius galima tik vartotojo apibrėžtiems tip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skaič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globali funkcija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vienas parametra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du parametr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klasės metodas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be parametr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vienas paramet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intak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Arial Unicode MS"/>
              </a:rPr>
              <a:t>//: C12:OperatorOverloadingSyntax.cp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i) : i(ii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i + rv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&amp;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=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=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 += rv.i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 ii(1), jj(2), kk(3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kk += ii + jj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globali funk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; return incremented valu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Integer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; return the value before incre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Integer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before(a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met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nsigne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Byte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Byte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 before(b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=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Handle self-assign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= &amp;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 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a=b=c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(a=b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O kaip būtų su (++a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Binarinis opera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&gt;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 &gt;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03:13:52Z</dcterms:modified>
  <cp:revision>43</cp:revision>
  <dc:subject/>
  <dc:title>PowerPoint Presentation</dc:title>
</cp:coreProperties>
</file>