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1A944-80B4-4CBF-8FA6-1CAD6DE72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63D1-4BBF-4124-88D3-01EE440DE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8F13-380E-449C-800D-48FF77780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4C785-983E-4111-AB96-2FA165667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E021-A220-4091-9444-3D33F2B6D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1D0B-504A-4D72-A932-958AA7482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F0D6-3DE4-4559-BAEE-2654A9A25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C4D1-F832-4984-89BB-A829BBAC8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EE0E-996E-4474-9826-73645FC6A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512C-BB8A-4218-BA57-64144F5A5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E1AFC-FD0F-45D8-BCBC-2936581A5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D3ABA-FF15-4691-94B8-F08001AD6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10B8-62B4-43B4-8B46-07904FD36960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Dinaminis objektų kūr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ų perda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341360"/>
          <a:ext cx="25365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25365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84360" y="1989000"/>
          <a:ext cx="2319120" cy="108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989000"/>
                    <a:ext cx="231912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84360" y="3284640"/>
          <a:ext cx="5337000" cy="28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284640"/>
                    <a:ext cx="533700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443640" y="5013360"/>
          <a:ext cx="2403360" cy="15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43640" y="5013360"/>
                    <a:ext cx="240336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ų perdavimas į konstruktorių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orint išvengti konstruktoriuje kopijavimo pabičiui, reikia apibrėžti konstruktorių su byref paramet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55640" y="0"/>
          <a:ext cx="5484960" cy="701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0"/>
                    <a:ext cx="5484960" cy="701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1341360"/>
          <a:ext cx="5413320" cy="16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413320" cy="16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84360" y="5157720"/>
          <a:ext cx="4152600" cy="93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5157720"/>
                    <a:ext cx="415260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1 skyri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ų objektų masyv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4360" y="1989000"/>
          <a:ext cx="8459640" cy="25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84596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o masyvo plėt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4360" y="1341360"/>
          <a:ext cx="803880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803880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Nuorodos ir kopijavimo konstruktoriu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uorod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1341360"/>
          <a:ext cx="5873760" cy="371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873760" cy="37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uorodos funkcijų parametruos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4360" y="1341360"/>
          <a:ext cx="559908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59908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nstantinės nuorod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1341360"/>
          <a:ext cx="252540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252540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uorodos į rodyklę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ai norime keisti ne objektą, o pačios rodyklės reikšmę funkcijoj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42920" y="2349360"/>
          <a:ext cx="1760760" cy="2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349360"/>
                    <a:ext cx="176076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71640" y="2708280"/>
          <a:ext cx="169056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708280"/>
                    <a:ext cx="1690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71640" y="3789360"/>
          <a:ext cx="4205160" cy="250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3789360"/>
                    <a:ext cx="420516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Kopijavimo konstruktoriu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3-04T14:09:33Z</dcterms:modified>
  <cp:revision>37</cp:revision>
  <dc:subject/>
  <dc:title>PowerPoint Presentation</dc:title>
</cp:coreProperties>
</file>