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E045-B454-4EC8-BB02-F4DC474D56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daug griežtesnis tipų tikrinimas nei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C++ enum nėra sutapatinamas su int, todė negalima rašyti shap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syvo pirmo elemento adresas yra tas pats kaip masyvo ad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Negalima perduoti masyvo pagal reikšmę – visada perduodamas pirmo elemento ad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Galima lygiai taip pat naudoti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+ ir – operatoriai leidžia prie rodyklės pridėti tik sveiką skaičių (ir neleidžia kitos rodyklė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896E-38D4-4606-B883-01E749C16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4E7C-D65B-46B6-A3A8-38B117CA6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AF05-8FDF-4AEC-BD4A-7F54BDF2C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D1A8-9C81-49E2-AB94-92B1EDD8A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CFD5-CF77-4E21-A03D-198F0B212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6435-D95F-4A7B-83E4-FF613419A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958D-BE03-4E49-BC78-55B5B8F08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D6EB-DE5B-4370-8A58-F06285BE6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572F-3B4E-4A1D-B319-581625A79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02BD-91C3-4A1C-9192-68EF23DBE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BA3D-001C-4E1B-BF41-149146AAB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0417-E492-4B5E-B3CE-33E9D1D8D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F5EC-6471-4791-B4D7-5C3DCB9A3D73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masyv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1932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60980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lasės ir objekt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(turinys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lasės Point apibrėžimo pavyzdys (struct ir cla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atomumas su private,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onstruktorius, destrukto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skaidymas į hpp ir cpp failus, #ifdef apskliaudi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iki 6 skyriaus (imtin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enum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414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36716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nion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30600" cy="205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0200" y="3381480"/>
            <a:ext cx="444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479840" cy="20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47401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 ir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925720" cy="242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700440"/>
            <a:ext cx="409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297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284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23488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80324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72920" cy="28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84360" y="2781360"/>
          <a:ext cx="134280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81360"/>
                    <a:ext cx="13428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udėtingos išraišk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1 yra rodyklė į funkciją, kuri turi vieną int parametrą ir grąžina rodyklę į 10 void* masyv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2568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447660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4592520" cy="51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2749320" cy="27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2 yra rodyklė į funkciją, kuri turi 3 parametrus ir grąžina rodyklę į funkciją, kuri turi int parametrą ir grąžina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450864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3 yra rodyklė į funkciją, kuri neturi parametrų ir grąžina rodyklę į 10 elementų masyvą rodyklių į funkcijas be parametrų ir grąžinančių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4 yra funkcija, kuri grąžina rodyklę į 10 elementų masyvą rodyklių į funkcijų, grąžinančių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1T11:40:50Z</dcterms:modified>
  <cp:revision>33</cp:revision>
  <dc:subject/>
  <dc:title>PowerPoint Presentation</dc:title>
</cp:coreProperties>
</file>