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95F6E-96C4-4B28-9640-7B108D3B0F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C1378-7FEE-4E34-BCBA-6537A94EF8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7D5CD-450C-466F-B90D-09D5B95985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B45E6-9ABC-42C5-BA41-14CC95342A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8CA55-C489-4F7E-A9BC-ECFFED61DF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49CF1-1BF2-4A29-A509-12A4C51B6E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0CB68-2709-45F8-B757-F266205D15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CF5DC-A3E0-4E76-A8FB-48E78A6955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7A882-F394-439E-95C0-3FF53E8F4F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17149-4DCD-4E1F-9122-7EFD6D6FC6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08B6D-678C-4436-AB7E-BEA43CFEC1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FDDC6-96EE-4014-972F-9EB5BC50D6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457840" y="62481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7d7c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99CD-1365-41B5-BA73-3FBE5CDD633A}" type="slidenum">
              <a:rPr b="0" lang="en-US" sz="1400" spc="-1" strike="noStrike">
                <a:solidFill>
                  <a:srgbClr val="d7d7ce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38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C++ pagrindai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Rodyklė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042920" y="1484280"/>
          <a:ext cx="6168960" cy="4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484280"/>
                    <a:ext cx="61689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042920" y="2097000"/>
          <a:ext cx="2398680" cy="37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2097000"/>
                    <a:ext cx="239868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082520" y="2708280"/>
          <a:ext cx="3300480" cy="44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2520" y="2708280"/>
                    <a:ext cx="330048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074600" y="3357720"/>
          <a:ext cx="1913040" cy="102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74600" y="3357720"/>
                    <a:ext cx="191304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907920" y="4629240"/>
          <a:ext cx="2886120" cy="799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07920" y="4629240"/>
                    <a:ext cx="28861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127160" y="5649840"/>
          <a:ext cx="2486160" cy="300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27160" y="5649840"/>
                    <a:ext cx="2486160" cy="3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rametras reikšmė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71640" y="1413000"/>
          <a:ext cx="4641840" cy="42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13000"/>
                    <a:ext cx="464184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6877080" y="4869000"/>
          <a:ext cx="141444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4869000"/>
                    <a:ext cx="1414440" cy="1171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rametras adres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00000" y="1293840"/>
          <a:ext cx="4856400" cy="485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293840"/>
                    <a:ext cx="4856400" cy="48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6227640" y="4508640"/>
          <a:ext cx="222912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7640" y="4508640"/>
                    <a:ext cx="2229120" cy="1600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rametras C++ nuorod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95240" y="1293840"/>
          <a:ext cx="6070680" cy="505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240" y="1293840"/>
                    <a:ext cx="607068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6691320" y="4437000"/>
          <a:ext cx="2260440" cy="16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91320" y="4437000"/>
                    <a:ext cx="2260440" cy="1689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Modifikatori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17480" y="1309680"/>
          <a:ext cx="6696000" cy="54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1309680"/>
                    <a:ext cx="6696000" cy="54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oid*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68160" y="1301760"/>
          <a:ext cx="4260960" cy="29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301760"/>
                    <a:ext cx="4260960" cy="29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96880" y="4653000"/>
          <a:ext cx="5726160" cy="195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6880" y="4653000"/>
                    <a:ext cx="5726160" cy="19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Kintamųjų galiojimo ribo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84360" y="1341360"/>
          <a:ext cx="4622760" cy="551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462276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typedef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84360" y="1341360"/>
          <a:ext cx="4584600" cy="27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4584600" cy="2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611280" y="2060640"/>
          <a:ext cx="1743120" cy="37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2060640"/>
                    <a:ext cx="174312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611280" y="2997360"/>
          <a:ext cx="3171600" cy="59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2997360"/>
                    <a:ext cx="3171600" cy="59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Struktūro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84360" y="1341360"/>
          <a:ext cx="6661080" cy="49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6661080" cy="49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Į save referuojanti struktūr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84360" y="1341360"/>
          <a:ext cx="645948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645948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Rodyklė į struktūrą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11280" y="1308240"/>
          <a:ext cx="6985080" cy="54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08240"/>
                    <a:ext cx="6985080" cy="54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C++ iostream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4360" y="1447920"/>
          <a:ext cx="663552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47920"/>
                    <a:ext cx="663552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Įved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619280" y="1628640"/>
          <a:ext cx="5845320" cy="380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628640"/>
                    <a:ext cx="5845320" cy="38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string klasė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55640" y="1628640"/>
          <a:ext cx="7402680" cy="40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628640"/>
                    <a:ext cx="7402680" cy="40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Failų skaitymas ir rašy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4360" y="1700280"/>
          <a:ext cx="7646760" cy="35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764676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Failo skaitymas eilutėmi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55640" y="1844640"/>
          <a:ext cx="652788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844640"/>
                    <a:ext cx="652788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ektoriu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63400" y="1317600"/>
          <a:ext cx="7431120" cy="48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400" y="1317600"/>
                    <a:ext cx="7431120" cy="48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Kintamųjų adres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4360" y="1285920"/>
          <a:ext cx="6657840" cy="55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85920"/>
                    <a:ext cx="6657840" cy="55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6161040" y="3716280"/>
          <a:ext cx="2982960" cy="222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61040" y="3716280"/>
                    <a:ext cx="2982960" cy="222588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20:44:31Z</dcterms:created>
  <dc:creator>Andrius Adamonis</dc:creator>
  <dc:description/>
  <dc:language>en-US</dc:language>
  <cp:lastModifiedBy>Andrius Adamonis</cp:lastModifiedBy>
  <dcterms:modified xsi:type="dcterms:W3CDTF">2005-02-11T15:06:45Z</dcterms:modified>
  <cp:revision>31</cp:revision>
  <dc:subject/>
  <dc:title>PowerPoint Presentation</dc:title>
</cp:coreProperties>
</file>