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8D9B-6519-41E6-A451-20163156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E970-A102-47C4-A1F5-21237601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93CB-8A05-4D74-90B1-A4853B15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FC2C-7ED8-4E9B-9C3D-591818F4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BB16-3FD0-4961-9296-4CCB5D3E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1274-DA1D-498E-9730-ACA33101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72E4-1E9E-48A1-8ED5-511F63C4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56A6-F7EC-42A9-BCFC-0A56E1DE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84DF-E6CD-48D9-9254-0D60830F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3C95-7061-4F5A-AC36-D8F47AC7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AEE-C96A-48AB-94FB-5D5174E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7F4A-11F6-40FE-AFBB-4352D44C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1971-BEF2-4C94-83B3-0B307D5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2241-A8DF-49A0-88F6-C2C725AB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4770-E543-4ED2-AA13-A0B017C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C16F-6EDD-4CBA-B3F2-9AEB4F6A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3167-FF04-4311-932E-723E756E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B6A2-9730-48BD-8D79-06F6F423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0BE9-5CEF-4665-A0F1-938E9BB0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FCF4-EF92-4262-822C-94695E4A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A2AD-6D6A-45FC-8184-6696695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7EFF-B679-4A1B-AF5E-BFFAE25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C466-388A-43E9-8384-A0F77F94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92B9-055C-483E-A8A5-0CBAD60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DCFC-915C-4AF1-A5D4-4DCED17E6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EA0D-C6AA-4BD2-9D98-DAAADEB384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ffffff"/>
                </a:solidFill>
                <a:latin typeface="Times New Roman"/>
              </a:rPr>
              <a:t>Verslas. Verslumas. Verslininkystė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disponuojantis kapitalu ir siekiantis jį padidinti, ieškantis naujų pelningų veiklos sričių, pasitelkiantis dalykines žinias ir žmogiškąsias savyb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asmuo, kuris susiejęs lėšas, darbą, mežiagas ir pan., padidina jų visuminę ver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sicholog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žmogus, kurį veikti skatina tam tikri motyvai: troškimas ką nors gyvenime pasiekti, įgyti savarankiškumą ir 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tų verslininkų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pavojingas varžovas arba, priešingai, partneris, tiekėjas, pirkėjas ir 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ro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žmogus, didinantis ne vien savo, bet ir nacionalinį turtą, atskleidžiantis geresnį išteklių naudojimo, nuostolių mažinimo būdus, kuriantis naujas darbo vi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ko nors nauja, turinčio vertę kūrimas, jėgų ir laiko reikalaujantis, asmeninę, finansinę, moralinę ir socialinę atsakomybę numatantis procesas, kuris galų gale teikia pinigų ir pasitenkinimą pasiektais rezultat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6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– tai ne vien veiklos forma, gyvenimo būdas, mokslas ir menas kartu paėmus; tai dar poezija ir kūrybinis polėkis, sportas, ekonominės rizikos sritis; jis aprėpia savus rašytinius ir nerašytinius dėsnius, principus, tarpusavio bendravimo etiką, slaptus sveikatos poveikio mechanizm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Nauji, dinamiški, nedideli, bet lankstūs verslai atlieka daug svarbių funkcijų visuomenėje ir nacionalinėje ekonomik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amina prekes, teikia paslaugas, kuria pridėtinę vertę ir didina nacionalines paja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pildo ribotas geografines, gamybines, paslaugų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moka mokesč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kuria naujas darbo vietas, kurios valstybei nieko nekainuo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ininkai apmoko ir įdarbina daug nekvalifikuotų darbinink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perskirsto išteklius, skatina konkuruo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eriau tenkina net itin specifinius bei pavienius vartotojų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veikia kaip ekonominio šoko slopintuvai, nustatantys ekonominio pakilimo ir depresijų rib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dekoncentruoja ekonomines jėgas ir sprendimų pasirink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tikrina individualias galimybes ir socialinį mobilu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ai tenkina asmeninius poreikius bei siekius tų asmenų, kurie juos turi ir val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, ypač nauji, yra tarsi laboratorijos, kuriose galima pigiai išbandyti idėjas, produktus, paslaugas, naujas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ūtent verslai buvo, yra ir bus tarptautinių korporacijų lopš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Išor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92360" y="3860640"/>
            <a:ext cx="2303640" cy="50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5640" y="2421000"/>
            <a:ext cx="230364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458136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katina konkuruo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27640" y="242100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Teikia paslau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56360" y="4653000"/>
            <a:ext cx="22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kuria tu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43280" y="6021360"/>
            <a:ext cx="360036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teikia naujų darbo viet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2626920" y="2923920"/>
            <a:ext cx="8650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987640" y="436572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796000" y="292392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6000" y="436572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4365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Vid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3645000"/>
            <a:ext cx="2736720" cy="504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205000"/>
            <a:ext cx="2519280" cy="719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inansinės apska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2000" y="2276640"/>
            <a:ext cx="24476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ersonalo valdy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5229360"/>
            <a:ext cx="273528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Rinkodaros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0360" y="5229360"/>
            <a:ext cx="266400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Tiekimo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19280" y="2924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7640" y="2565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58972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292428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003280" y="2997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203640" y="4149360"/>
            <a:ext cx="57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5076360" y="4149360"/>
            <a:ext cx="86364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3280" y="2997360"/>
            <a:ext cx="360036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2924280"/>
            <a:ext cx="4105080" cy="30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lą sudar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ujos idėjos paieška ir jos įvertini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erslo plano sudary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teklių paiešk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įsteigtos įmonės valdym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Išskiriamos šios verslininkystės rūš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amyb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omerc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nansin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as. Verslumas.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Tiksla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siaiškinti pagrindines verslo sąvok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uformuluoti verslo sampratos apibrėžimą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analizuoti verslo funkcij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rūši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įtaką šalies ekonominei sistema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Gamybinė 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apima prekių gamybą ir vartoj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Komercinės verslininkystė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agrindas yra komerciniai sandoriai, t.y. prekių ir paslaugų perpardav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Finansinėje verslininkystėje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irkimo ir pardavimo objektas yra pinigai, valiuta, vertybiniai popieri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ir XXI a. sandūroje pasaulis yra globalizacijos, naujos informacijos valdymo ir pramonės revoliucijos eros pradžio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ežastys, kurios skatina kurtis mažas ir vidutines įmones ir didina jų reikšmę pasauliui, yra sekanč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žagabaritinės technikos suklestėj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šių kanalų, informatikos suklestėjimas paprastina priėjimą prie duomenų bazių, lengvina kontaktą su klientais ir tiekėjais užmezg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mografiniai pokyči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imos verslo privalum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laugų plėt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totojų poreikių skalės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chologinis darbuotojų poreikių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olatinis rinkos poreikių kit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ug verslo įmonių kuriasi buvusio Rytų bloko šalyse, tarp jų ir Lietuvoje, kadang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žai mažų ir vidutinių įmonių atsirado privatizuojant buvusių valstybinių įmonių padaliniu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aikinus iš centro planuojamas ekonomines sistemas buvo suteikta laisvė privačiai iniciatyvai, kurios viena svarbiausių išraiškų – verslininkystės atgimim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jai bsikuriančios įmonės dažniausiai gali būti tik mažos, nes jas kuriantys verslininkai nėra sukaupę didelio pradinio kapit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ame pasaulyje verslo įmonės yra valstybės remiamos, o Lietuvoje turėtų būti remiamos, nes j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tykinai mažomis išlaidomis sukuria darbo vietų, ypač paslaugų srityje, kuri nuolat plečias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deda spręsti užimtumo problemas nepramoniniuose ar šiaip atokiuose nuo pagrindinių šalies centrų regionuose, kur stambios įmonės paprastai nelinkusios plėtoti veikl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arbios kaip subrangovės, vykdančios stambių įmonių užsakymus abipusiškai naudingomis sąlygom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dina gyventojų investicinį aktyvumą, naudodamos savininkų, jų giminaičių ir draugų asmenines santaupas verslui plės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ų daugėjant, mažėja kapitalo ir gamybos priemonių susitelkimas įvairiose verslo šakose, todėl sudaroma sveikesnė konkurenci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tina diegti inovacijas, nes sugeba lanksčiau prisitaikyti prie kintančių rinkos poreikių nei didelės įmonės ir kartu verčia pastarąsias neatsilik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enkina psichologinius žmonių atsakomybės, nuosavybės, sprendimo laisvės, individo saviraiškos ir kitus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žose šalyse naudoja įvairių vietų negausius vietinius gamtos ištekl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atsižvelgiant į produkto naujumą arba technologijas, kiekviena naujovė patenka į rinką šiais kanal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alstybės sektori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idinę verslininkyst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pskritai verslininkys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alstyb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gali remti mokslinius atradimus, tik ne visi jie įgyvendina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idaus verslininkyst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tokia verslininkystė, kuri susiklostė verslo struktūrose ir užtikrina ryšį tarp mokslinių tyrimų ir gamy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dar vienas kelias, įgalinantis mokslines idėjas paversti gaminiais, t.y. įgyvendinant naują idėją, įsteigiama ir pradeda veikti nauja įmon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 esmės veikia vietinę ekonomiką, nes ji stiprina materialinę ir techninę bazę, todėl daugėja naujų darbo viet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VV, nors ir stokoja finansinių išteklių, mokslinio potencialo, techninių galimybių, įgyvendina nepaprastai daug naujų idėj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a. inovacijų raida išryškino SVV reikšm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mulkiojo ir vidutiniojo verslo subjektų gausa, aktyvi investicijų ir eksporto veikla, didelis užimtumas bei produktyvios naujos darbo vietos duoda realią naudą nacionalinės ekonomikos plėtr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agrindinis tuometinių verslininkų tiksla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buvo kuo labiau apgauti pirkėją gaunant ku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augiau naudos s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rslininkystės samprata kūrėsi stebin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asdienę žmonių ūkinę veikl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intanti socialinė aplinka sudarė sąlyg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urtis verslininkų bendrij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ieji bandymai teoriškai įprasminti reiškinį 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” įvyko tik XVII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dfdef6"/>
                </a:solidFill>
                <a:latin typeface="Times New Roman"/>
              </a:rPr>
              <a:t>Dėkoju už dėmesį </a:t>
            </a:r>
            <a:r>
              <a:rPr b="1" i="1" lang="en-US" sz="5400" spc="-1" strike="noStrike">
                <a:solidFill>
                  <a:srgbClr val="dfdef6"/>
                </a:solidFill>
                <a:latin typeface="Times New Roman"/>
                <a:ea typeface="Arial"/>
              </a:rPr>
              <a:t>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iduramžiais sąvoka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“verslininkas”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artojama dvejopa prasme: verslininkai buvo parodų ir muzikos renginių organizatoriai bei didelių galimybių arba statybinių projektų vadov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VII a. jau atsižvelgiama į rizikos veiksn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sudaręs su valstybe sutartį, kurios įgyvendinimo vertė iš anksto apt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ž. Lokas Prancūzijoje įkūrė Karališkąjį banką ir Misisipės bendrov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cij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dokumentas (vertybinis popierius), liudijantis nuosavybės ir balsavimo teisę akcinėje bendrovė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tyvai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konkrečiam  asmeniui priklausantis fizinis turtas (pinigai, akcijos, obligacijos) bei turtinės teisės, turinčios ekonominę vertę (patentai, autorių teisė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asis verslininkystės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teoreti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XVIII a. pr. Anglijos ekonomistas R.Kantilj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asak R.Kantiljono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žmogus, kuris tam tikra kaina perka gamybos priemones, kad pagamintų atitinkamai produkcijos, siekdamas gauti pajamų, tačiau nežino, kokiomis kainomis par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raktuojamas kaip žmogus, veikiantis rizikos sąlygo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.Sėjaus nuomone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tai žmogus, organizuojantis žmones gamybiniame viene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XVIII a. atskiriamos sąvokos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kapitalo savininkas”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verslininkas”,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.y. atskiriamos kapitalo teikimo ir verslininkystės funk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Kapital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finansiniai ir materialiniai ištekliai prekėms gaminti ir paslaugoms teikti; į mokslą investuotos savininko lėš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Vartojamos sąvokos: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smulkusis verslas”, “vidutinis versla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SVV apibrėžti labiausiai tinka tokie ES priimti kriterij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inės įplaukos už realizuotą produkcij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so su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dra įmonei priklausančio turto suma, įskaičius grynuosius pinigus, žaliavų ir prekių atsargas, žemę, įrenginius ir kitus ištekli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buotojų skaič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BM bendrovės atstovas Tomas Dž. Votsonas jaunesnysis poetiškai teigia, kad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didžiausias žaidimas pasaulyje, jeigu žinote, kaip jį žaisti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stų požiūriu verslas y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inė veikla, kuria siekiama peln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žsiėmimas, darbas, smulkioji gamyba, amat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giau trunkanti profesinė ir neprofesinė veikla, susijusi su pareigomis ir teisėmis siekiant uždarb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ybos, pirkimo, pardavimo ar tiekimo veikla, atliekama už pinigus ir t.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um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gamybos veiksnys, kurio turinys – žmogaus gebėjimas susieti kapitalą, darbą ir gamtinius išteklius, organizuoti verslą, įgyvendinti inovacijas, rizikuoti savo turtu ir gerove siekiant pel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nuosavybė, savarankiškumas, atsakomybė prieš visuomenę, dirbančiuosius, už save ir artimųjų gyvenim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9:29Z</dcterms:created>
  <dc:creator>a</dc:creator>
  <dc:description/>
  <dc:language>en-US</dc:language>
  <cp:lastModifiedBy>SK_06</cp:lastModifiedBy>
  <dcterms:modified xsi:type="dcterms:W3CDTF">2007-10-16T11:46:44Z</dcterms:modified>
  <cp:revision>32</cp:revision>
  <dc:subject/>
  <dc:title>Verslas. Verslumas. Verslininkystė</dc:title>
</cp:coreProperties>
</file>